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B2823-D14F-418D-BB9F-8C63FB7B8AC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60A31-66FC-45F9-8A7D-9AC74F652EAF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96419-157A-402C-810D-05DDB8077127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B196A-EE74-4B3A-93ED-55EB328A20E2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1BB66-9D59-4EA1-A894-7C0532D68844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953E9-62E1-43BA-BF8E-8644BCB45FD2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115A9-095B-4B4F-BC83-7D4243CFDF26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E39FE-89D9-4C53-8A99-D7117A5BEB07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9AB42-7622-4C50-B74A-CCB868B57E21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C3AFE-63CC-4A6A-9C24-2FFD33DFDE4F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E63D5-19B8-4C48-9D66-E37527D1A378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4D488-B4F2-47E4-843A-56F7712DA532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A42AC-CEF4-4743-81D4-A1A801828F62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5AE65-F190-436A-8F0D-DAD30D234570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286D1-EC99-42B4-AA60-36B7C6605765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19CDB-B73A-4F84-AD7A-7A18D87F14E8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7BD95-595E-4C4F-8CD7-1789055A17F5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6242B-D563-4F86-B929-E6B4CE1112E3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58EB4-77E0-4413-B14F-A547F03F5A42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B673E-C7E3-45D0-864B-D1A93799CC2A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DCD8F-65CB-4E25-96D1-8A431097DFB6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FFA2C-5F3A-4765-AD0E-E3872EB3AF77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E66FD-9E23-490C-BB32-6C32C1F9A87D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31B22-8246-403A-9A44-1D4B121F2735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6A5B7-281E-4960-B712-E9DB3E162F57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031FA-10E0-4FD8-A663-22BD67D03FA0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19F4A-A532-4F33-8312-83884F9299D8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EC11C-8D71-4E33-A1A6-964194357A22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D296-6E18-4733-B009-E6F373901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B442-6602-419D-90D0-CCCE68891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37A4E0-80AF-4EB3-A994-A673AC19D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76D62B-4A61-4B80-9627-7B096DE64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D7E5FF-5790-44DD-8D02-6D87EC377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E3848A-8F60-4495-878B-2925D7A9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11AC58-5BE4-4E8E-AD05-42CABE9B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B6D997-4F2A-48AE-9C97-05743AC21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B4C579-DD4D-4B30-BA4D-A82CD53EF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B184D1-3782-4E34-A362-305876C00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74976A-2104-4523-B77B-831B17477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4A8EEC-C188-43E9-8466-6391F5E47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EC6B-61A2-47DB-A46E-1D673F096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3CFF1E-F9B8-44DE-B0EA-FBBA1C39A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362C5C-BBD4-49C8-8116-E01886C5E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3CC269-BFDB-4D73-AD95-7B7C711A8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EE3EA3-D47A-495A-A37E-6BAE77B59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3BDFC5-2E8C-4FA6-AF2D-1E7677708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92C450-186D-4B8B-97C0-79384F9B4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3694A6-B002-48D2-B206-A8E05EF4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5E0976-475F-431E-8C1B-B9BC9D70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271769-8B72-441A-B0E0-56BB3C658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7E7AC3-88A9-4A6F-BF7D-3DE1827EE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C2C6-5114-4C12-9F45-ACECA96B4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810D93-E7C6-46B4-85AA-5E3E28342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6E1E76-A861-4D42-9481-F6A950AAE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56E235-A6B5-4234-81ED-FB37689C8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31F226-815F-4181-ADB8-88F389C54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46BAA3-CE70-47E3-9A80-B75717698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22E1E3-A553-47B1-8C44-26131E6FD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8013A9-5FFB-4B5F-92D4-32AAA73CC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EF79D6-0469-4952-85E3-B041568C6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740370-759F-457C-BC2C-E14BEDE99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CEF590-72DC-4FFB-875B-37CF21C6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8A6E1-8546-401D-BEFA-0AFCC3506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EE491E-692C-4AAC-814B-22A7670C5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E86C89-FA46-49AB-B3A9-2F92992E0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C5C532-98C6-40B1-A638-D821C2B02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FD3771-C4EC-4A30-B8AB-BAAB2BA5C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8621ED-02A1-4DA6-ADDF-A24115B41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9AA2B6-9C7D-4F32-8CC8-69438BC5C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693896-3F2D-4E9D-9DC9-68142B818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C19F77-005F-43F0-8E1B-031EB75DE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2A7EDD-66DA-4667-A1B9-A270B3C30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4B2018-CBD7-493E-AAC5-38B87BDD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C08EE-81F9-4CF8-AE7E-1039903CA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D8687B-D989-42A4-8CC5-099C4A7ED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CE0B4C-DC07-4CA0-9F36-8B3C47B4F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5DAB24-9F08-4FF4-9B24-3DC08191B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820B71-D68F-485C-8912-B8F998359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A9E09E-1A9C-48D4-9D80-465A5DFF6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01268-5C7F-4B4C-8A24-AA217BAE5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31EF4-83C1-4258-9953-67234293F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F0282-1CE2-480F-88B6-676BEA6AC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1F8BD-5C3F-4CB8-85AD-D2EF2CE2D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B1466-C88F-41F7-8069-471069A2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D42E-8B66-461B-8946-B2470A464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786E6-B6B1-4DFC-AB0C-62266067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6B62B-F392-452F-A1C1-B0BFB461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E952C-7EEC-4561-B220-A6181D1DE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85CCB-2835-4C87-8555-B264A1DC8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57490-A641-4566-825C-1644EBDA2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0FCB5-2C9D-400E-B540-58BC7E95A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FA9FD-68B4-41D1-B577-4F8047888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AB737-24E5-4D71-A253-7ABE40EB3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32A98-2806-4D6C-9153-2805D6AF9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ACCC4-B056-42D0-A45B-C8EBB0688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D620-E8A5-4EFE-A987-D37A32751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B9114-3097-4DB2-A66C-DA9C67FCA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D603E-C581-4C53-BE45-E27FBC9C8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7C305-A945-4217-89A3-14CE3C74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A6C5C-2C71-4B35-9053-3413065D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B1BB0-8437-4DC3-8146-BDCFB0AD9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9A12D-D296-4EB3-A8EE-96AED5A7E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CA3FC-5CA4-4BF9-B143-8611D781E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B0DCA-65E7-4833-B218-DB9E5FFE7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70E06-7009-4861-B482-9F84F1250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051CB-F01A-4B4B-99D1-44F56CE8D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959D-1BDA-493D-862D-452D884A1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98DDF-B2F6-4780-B226-FDCA58B8C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6864D-9F4E-4CA8-B423-7D7E25D82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5307C-6906-4F7F-AE46-7AE277B5D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F8828-5E2F-468A-ACAB-7E1FDA71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C5FC0-E691-4BEB-927F-407B27CC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F11D3-981F-4719-864F-70D8C6F8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9D8D0-19CD-46BB-87A9-926FBAC73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449E1-4B4C-43F0-B5D3-A5D3B104C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125B6-D54D-42BA-8569-3977C8292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C47AC0-89CC-4ECF-9621-FDC99BE3A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1BE7-8594-4856-8ED9-9EB14D6AF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3C0014-0D87-4608-B6A4-B255E790A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0A43D-6253-49C8-8341-AA6CA72DC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1421F5-959C-49A1-823B-D9BF5C4E2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31F6D9-F6F4-4E10-83EB-9276F0541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65A046-C3ED-46F1-8EF7-B8E13DBD7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86860-665B-4224-A857-344B5C47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C04E1-7C45-40F8-AEA3-62ECA703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FA2EF-3515-4EE6-9477-1E215413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D17E3-C19C-4E47-93BE-9FB12696F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5E551-A535-406B-BDFB-A1AF182B1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2133-E991-432B-A894-FA6046D15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41FC0-D26C-4A3B-AFCC-3FDE3FA36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144468-FA89-4D30-8A7A-6C0639AAB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46778D-2238-4240-8B6B-7A32AF3EF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B165BA-54F4-4E1D-A158-7CB0FED64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7564E3-513E-4983-A672-5811363EE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403263-5D57-4CD1-8A52-A07DAC4EC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05541-9817-4C7B-BD9A-3CBC8C707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D0A20-7535-4C59-8F5D-B99352408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C9C9F2-A142-44EF-99D4-A3EABCE73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B4F35B-E038-4032-B0A4-E5CC2828D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BFB3-877A-4923-BC5D-16FBC31A6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FD4FF4-D8C3-42CD-BA56-F4D2899CF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E63B4E-75DC-45CC-A3A9-4F7B9ED6A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272BE-8F3E-4CB6-876D-BD60E0AE0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75E92E-0A18-4947-B591-004DF837E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C17B93-E4B0-4C96-A1D3-84A6EBD0A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90341B-3F89-4C42-9D61-D8F1BE657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737C4C-C522-4D0B-900E-D843B3F8B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D98C55-CEF9-433E-B8CC-C0B739DC2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8D909F-4E37-4598-B981-721A4666C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D79EAA-033C-44E9-92FE-01438452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45EE-85EA-4BC7-9BFE-4336335F7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F8FC9F-C4C1-40DC-A583-E42F41E3A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228C52-3830-4597-A0A0-B5B1AF14D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3C5CCD-8DC4-4D3C-9C8C-9B98D11EB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8F5D41-9FE7-4D5D-93D1-36FF3A6AE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F96245-8000-4BF1-89F3-77429A19E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12BFF3-2B21-4D79-A934-7D7C9DC29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0E017F-6CFC-4611-8461-14BC1AADF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4734DC-2AF9-4775-A7E6-4825E9098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703DFF-9D7A-4CF4-9D25-C4930FC83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7A9DF5-99AC-4CC9-A6EA-DBD0B0AFB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3F84-1C90-44D2-A940-14DCF7EE1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C047F0-E1E6-4407-A0DE-2AF0ED24F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807C50-FA8A-4CE9-8E69-D664B77F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95F4A7-F2E2-469A-BBE4-3B4AFE38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AC35F1-F3F5-4E41-9354-5C6F8C33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924925-39C0-4189-B171-7AADDD188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300104-CD96-45F3-9645-9E0F3304B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B033C7-7BBD-471D-B2FE-6EB9F2367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B86386-5EB6-4E4D-87E4-6568671B1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89D574-8107-4977-A9E7-38CE1E806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E0400B-C48B-4FEE-B226-74B5087AE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73.xml"/><Relationship Id="rId35" Type="http://schemas.openxmlformats.org/officeDocument/2006/relationships/slideLayout" Target="../slideLayouts/slideLayout74.xml"/><Relationship Id="rId36" Type="http://schemas.openxmlformats.org/officeDocument/2006/relationships/slideLayout" Target="../slideLayouts/slideLayout75.xml"/><Relationship Id="rId37" Type="http://schemas.openxmlformats.org/officeDocument/2006/relationships/slideLayout" Target="../slideLayouts/slideLayout76.xml"/><Relationship Id="rId38" Type="http://schemas.openxmlformats.org/officeDocument/2006/relationships/slideLayout" Target="../slideLayouts/slideLayout77.xml"/><Relationship Id="rId39" Type="http://schemas.openxmlformats.org/officeDocument/2006/relationships/slideLayout" Target="../slideLayouts/slideLayout78.xml"/><Relationship Id="rId40" Type="http://schemas.openxmlformats.org/officeDocument/2006/relationships/slideLayout" Target="../slideLayouts/slideLayout79.xml"/><Relationship Id="rId41" Type="http://schemas.openxmlformats.org/officeDocument/2006/relationships/slideLayout" Target="../slideLayouts/slideLayout80.xml"/><Relationship Id="rId42" Type="http://schemas.openxmlformats.org/officeDocument/2006/relationships/slideLayout" Target="../slideLayouts/slideLayout81.xml"/><Relationship Id="rId43" Type="http://schemas.openxmlformats.org/officeDocument/2006/relationships/slideLayout" Target="../slideLayouts/slideLayout82.xml"/><Relationship Id="rId44" Type="http://schemas.openxmlformats.org/officeDocument/2006/relationships/slideLayout" Target="../slideLayouts/slideLayout83.xml"/><Relationship Id="rId4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BE499-E5B9-434E-9A90-9A935A0B40E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54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54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55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55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5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5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5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5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grpSp>
        <p:nvGrpSpPr>
          <p:cNvPr id="55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55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56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56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6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6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6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6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56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30459-2C4D-4FCB-BF34-2F772028F372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1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612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613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14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615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616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17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sp>
          <p:nvSpPr>
            <p:cNvPr id="618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19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0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dt" idx="31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 type="ftr" idx="3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 type="sldNum" idx="3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ACBBA-6921-4BA9-82AB-B76F73FF1C6A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 type="dt" idx="3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ACF7F-ED51-4DDA-AC24-4CE364C5E15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8FB7B-7A43-4A64-ACE7-BDF4FC8ECAD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2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7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8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9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28EF8-4FFF-4B91-81EC-0CABD4CE5EE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5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6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7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38A6C-8B98-47F0-A94E-8B07FE5DD4C1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19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9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20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0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21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1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1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2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222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23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2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225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26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7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8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9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2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7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3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14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1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CCCDC-3E0A-4022-943C-7D02FC25E214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320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pic>
          <p:nvPicPr>
            <p:cNvPr id="321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16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18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2C04B-543A-44CF-A29E-DCCF9F4CC7D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364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5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6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367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368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369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370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371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2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3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79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0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1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2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3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4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5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6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87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388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9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0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1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2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3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4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5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6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7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8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9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0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1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2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3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4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5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6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07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8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9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0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1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2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3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4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5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6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7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1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2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63369-87B3-42CC-B968-727D03B8E7B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4"/>
    <p:sldLayoutId id="2147483728" r:id="rId35"/>
    <p:sldLayoutId id="2147483729" r:id="rId36"/>
    <p:sldLayoutId id="2147483730" r:id="rId37"/>
    <p:sldLayoutId id="2147483731" r:id="rId38"/>
    <p:sldLayoutId id="2147483732" r:id="rId39"/>
    <p:sldLayoutId id="2147483733" r:id="rId40"/>
    <p:sldLayoutId id="2147483734" r:id="rId41"/>
    <p:sldLayoutId id="2147483735" r:id="rId42"/>
    <p:sldLayoutId id="2147483736" r:id="rId43"/>
    <p:sldLayoutId id="2147483737" r:id="rId44"/>
    <p:sldLayoutId id="2147483738" r:id="rId4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0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2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DAF95-5FEC-4569-9FD0-6F1EDF283F9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3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4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5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dt" idx="25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ftr" idx="26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sldNum" idx="27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92674-DF6A-4B39-BF3E-A814105F4BE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6966000" cy="38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«Роль семьи и школы в          развитии морального              самосознания  обучающихся».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1979280" y="4941720"/>
            <a:ext cx="410508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январь 2014 год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СИТУАЦИЯ 3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Мама ученика 7 класса пришла за консультацией к классному руководителю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У моего сына в этом году вдруг стала заметно проявляться агрессивность по отношению к младшему брату, но и не только к нему, а и к своим друзьям. Ему хочется, как мне кажется, быть лидером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аблюдаем с отцом, что агрессивность в отдельных случаях проявляется и в отношениях с нами. Мы считаем, что семья у нас благополучная, все вопросы решаем между собой и с детьми спокойно, доброжелательно. В чем причина такого поведения сына, не знаем. Помогит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4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Ситуация 4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читель: Я вызвала Вас обсудить поведение Вашего сына. На школьной дискотеке он был замечен в нетрезвом вид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ать: Не может быть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едложите разные варианты продолжения беседы и её результаты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33"/>
                </a:solidFill>
                <a:latin typeface="Garamond"/>
              </a:rPr>
              <a:t>Ситуация 5</a:t>
            </a: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читель: Наталья Викторовна давайте поговорим о внешнем виде Вашей дочер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ать: Вы считаете, что внешний вид Татьяны не приемлем для школы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читель: Конечно.  Её внешний вид не соотносится с образом школьницы:пирсинг, которым она украсила лицо, блузки, которые не могут прикрыть определённые части тел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ать: А я считаю, что это очень стильно. Сейчас вся молодёжь придерживается такого имиджа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одолжите разговор с матерью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Правила эффективного взаимодействия 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                        классного руководителя с родителями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837720" y="1915920"/>
            <a:ext cx="80074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дителям нужна поддержка, помощь и добрый совет. Если вы ими располагаете, создайте необходимые условия для общени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 беседуйте с родителями второпях, на бегу; если вы не располагаете временем, лучше договориться о встрече в другой раз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говаривайте с родителями спокойным тоном, не старайтесь назидать и поучать – это вызывает раздражение и негативную реакцию со стороны родителе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мейте терпеливо слушать родителей, давайте возможность высказаться  по всем наболевшим вопроса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 спешите с выводами! Обдумайте хорошо то, что вы услышали от родителе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о, о чём родители вам поведали, не должно стать достоянием других родителей, учащихся и педагого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есть профессиональная необходимость поделиться той информацией, которую сообщили родители, ещё с кем-то – родителей необходимо поставить об этом в известность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08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Правила эффективного взаимодействия 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                        классного руководителя с родителями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.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900000" y="1341000"/>
            <a:ext cx="778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отовясь к встрече с семьёй учащегося, необходимо помнить, что любой родитель хочет услышать не только плохое, но и хорошее. Не следует начинать разговор со следующих фраз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У вашего ребёнка совсем плохи дела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Ваш ребёнок совсем перестал учиться, ничего не делает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Вы задумайтесь, скоро экзамены, а ваш, ведь, не сдаст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ред началом разговора поблагодарите родителя за то,    что пришёл.                                 Выразите надежду, что совместными усилиями удастся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правиться с    возникшими трудностями. А потом уже излагайте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итуацию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разговоре уместны следующие высказывания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Я понимаю, что трудно…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Я сама мама и знаю…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Это же Ваш ребёнок, никто не знает его лучше, чем В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икто не сможет помочь Вашему ребёнку, лучше, чем В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едложите родителям варианты решения проблемы и обсудите их все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ести беседу необходимо в направлении поиска путей решения проблемы, преодоления трудностей, т.е. не обсуждать, кто  виноват, а решать, что делать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ждая встреча с семьёй учащегося должна заканчиватьс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конструктивными рекомендациями для родителей и самого учащегося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7477200" cy="75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абота в группах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182600" y="2111400"/>
            <a:ext cx="777240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дложите эффективные методы групповой работы с родителями и докажите их эффективность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Методы групповой работы с родителями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971280" y="1484280"/>
            <a:ext cx="667836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Родительское собрание вместе с ученикам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езентация семей, их традиций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Ролевая игр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есс – конференция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Собрание -  спектакль, в котором участвуют дет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Родительский лекторий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Вечер вопросов и ответов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Диспут, дискуссия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Экскурси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аздники и т.д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абота в группах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кими качествами должен обладать учитель, чтобы его уважали дети и родители, прислушивались к его совета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кими качествами должен обладать родитель, чтобы воспитывать моральные качества у своего ребёнк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кие черты учителей и родителей мешают воспитанию дете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ставить советы для родителей по успешному взаимодействию со школой в вопросах воспитания и развития у детей моральных качест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ставить советы для учителей по успешному взаимодействию с родителями в вопросах воспитания  и развития моральных качеств у дете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Times New Roman"/>
              </a:rPr>
              <a:t>Какими качествами должен обладать учитель, чтобы его уважали дети и родители, прислушивались к его советам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(мнение детей)</a:t>
            </a:r>
            <a:br>
              <a:rPr sz="2100"/>
            </a:b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263520" y="1125000"/>
            <a:ext cx="738648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праведлив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трогость (в меру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оброт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ружелюби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Коммуникабельн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Щедр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бъективн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тзывчив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Уважение к мнению учеников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Целенаправленн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нимание того, что ученик – Человек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Любить общение с детьм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Знать свой предме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Учитель – пример и идеал!!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Times New Roman"/>
              </a:rPr>
              <a:t>Какими качествами должен обладать родитель, чтобы воспитывать моральные качества у своего ребёнка (мнение детей)</a:t>
            </a:r>
            <a:br>
              <a:rPr sz="2100"/>
            </a:b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63520" y="907560"/>
            <a:ext cx="738648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оброт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трогость (в меру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ерпен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ониман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праведлив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Ответствен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ерпим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ешитель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оспитан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удр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Коммуникабель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равновешен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рудолюб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меть прислушиваться к детям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одитель должен быть другом своему ребёнку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263520" y="476280"/>
            <a:ext cx="738648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емья и школа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 это берег и  море.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 берегу, ребенок делает свои первые шаги, получает первые уроки жизни, а потом перед ним открывается необозримое море знаний, и курс в этом море прокладывает школа. Это не значит, что он должен совсем оторваться от берег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 </a:t>
            </a:r>
            <a:r>
              <a:rPr b="0" i="1" lang="ru-RU" sz="3200" spc="-1" strike="noStrike">
                <a:solidFill>
                  <a:srgbClr val="ff0000"/>
                </a:solidFill>
                <a:latin typeface="Comic Sans MS"/>
              </a:rPr>
              <a:t>Л. А. Кассил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258920" y="765000"/>
            <a:ext cx="7477200" cy="78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Что мешает учителю в воспитательном и учебном процессах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                                (мнение детей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1116000" y="2060280"/>
            <a:ext cx="653400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справедлив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уравновешенность, вспыльчив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терпимость к мнению дете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лоб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руб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едвзятое мнение об ученика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тарый взгляд на ми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еренос своих личных проблем на учеников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кандаль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 знание учебного предмет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6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Что мешает родителям правильно строить воспитательный процесс.</a:t>
            </a:r>
            <a:br>
              <a:rPr sz="2000"/>
            </a:b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(мнение детей)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547280" y="1916280"/>
            <a:ext cx="610236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понимание детей и времен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резмерная любовь к детя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умение слушать дете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ысокомери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воспитан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сдержан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руб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рвозность, истерич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терпимость к чужим ошибка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резмерная строг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Ребёнка учит то, что его окружает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263520" y="907560"/>
            <a:ext cx="738648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а часто критикуют – он учится ненавидеть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у часто демонстрируют враждебность – он учится быть агрессивн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а часто высмеивают – он становится замкнут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к ребёнку часто бывают снисходительны – он учится быть терпелив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а часто подбадривают – он учится уверенности в себ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а часто хвалят – он учится быть благодарн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с ребёнком обычно честны – он учится быть справедлив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ок живёт в атмосфере дружбы и чувствует себя нужным – он вырастет добрым и уверенным в себе!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c0039"/>
                </a:solidFill>
                <a:latin typeface="Arial"/>
              </a:rPr>
              <a:t>Стратегия успешного взаимодействия с семьей</a:t>
            </a: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 должны помнить, что все семьи имеют сильные сторо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 должны воспринимать ошибки и недостатки семьи  не как ошибки семьи, а как ошибки социальной системы в создании возможностей обучения и развитии компетентности  семь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 должны развивать работу с семьями на основе всего положительного, что у них есть, а не преодолевать ее  недостат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вмешательстве в жизнь семьи мы не должны думать, что делаем это «для людей», а должны стремиться к тому, чтобы семья как можно меньше зависела от профессионалов (педагогов, психологов, социальных работников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инципы взаимодействия семьи и школы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971640" y="148392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гласия – взаимная договорённость о поддержании благоприятных для развития ребёнка услови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пряжения – последовательное соотнесение единых требований к ребёнку в школьной и семейной сфере его жизнедеятельност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переживания – взаимное выражение расположенности друг к другу, проявление доброжелательности и знаков вниман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причастности – взаимная практическая забота об улучшении условий жизнедеятельности ребёнк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деянности – реальные совместные практические действия, содействующие счастливому развитию ребёнк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00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33"/>
                </a:solidFill>
                <a:latin typeface="Garamond"/>
              </a:rPr>
              <a:t>Удовлетворённость родителей жизнедеятельностью  ОУ</a:t>
            </a:r>
            <a:br>
              <a:rPr sz="2000"/>
            </a:br>
            <a:r>
              <a:rPr b="0" lang="ru-RU" sz="2000" spc="-1" strike="noStrike">
                <a:solidFill>
                  <a:srgbClr val="006633"/>
                </a:solidFill>
                <a:latin typeface="Garamond"/>
              </a:rPr>
              <a:t>(насколько ОУ воспитывает в детях следующие качества)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альная школа                               средняя шко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ккуратность                                            3,8                                                    3,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исциплинированность                                4,0                                                   3,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ветственность                                            4,3                                                   4,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оля                                                                3,8                                                    3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Хорошие манеры поведения                        3,8                                                    3,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Жизнерадостность                                        4,0                                                    3,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разованность                                             4,3                                                   4,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м                                                                   3,9                                                   4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ысокие жизненные запросы                      3,7                                                   3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амостоятельность                                       4,0                                                   4,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естность                                                       4,3                                                   4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оброта                                                          4,0                                                   4,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уткость                                                         3,6                                                  3,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праведливость                                             3,9                                                  4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ерпение                                                         3,9                                                  3,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редний балл                                                 4,0                                                  3,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007-08 уч. год                                              3,9                                                   3,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Вывод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: Родители удовлетворены работой школы по формированию у детей поведенческих, морально-психологических качеств (уровень удовлетворённости – более 3 баллов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Цветограмма педсовет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62" name=""/>
          <p:cNvGraphicFramePr/>
          <p:nvPr/>
        </p:nvGraphicFramePr>
        <p:xfrm>
          <a:off x="685800" y="1828800"/>
          <a:ext cx="7696080" cy="1168560"/>
        </p:xfrm>
        <a:graphic>
          <a:graphicData uri="http://schemas.openxmlformats.org/drawingml/2006/table">
            <a:tbl>
              <a:tblPr/>
              <a:tblGrid>
                <a:gridCol w="1924200"/>
                <a:gridCol w="1923840"/>
                <a:gridCol w="1924200"/>
                <a:gridCol w="1923840"/>
              </a:tblGrid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актуальность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новизна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полезность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интерес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3" name="Rectangle 25"/>
          <p:cNvSpPr/>
          <p:nvPr/>
        </p:nvSpPr>
        <p:spPr>
          <a:xfrm>
            <a:off x="611280" y="3355920"/>
            <a:ext cx="792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аждая группа должна оценить все параметры и закрасить графу цветным карандашом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расный – высокая оценк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Синий – средняя оценк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Зелёный – низкая оценк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333399"/>
                </a:solidFill>
                <a:uFillTx/>
                <a:latin typeface="Tahoma"/>
              </a:rPr>
              <a:t>Решение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. Принять выработанные принципы эффективного взаимодействия семьи и школы в деятельности по развитию личности ребенка за основу в своей деятельности каждому учителю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.Продолжать проводить внеклассные и общешкольные мероприятия с участием родителей: родительские собрания, деловые игры, конкурсно-игровые программы и т. п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.Создать копилку передовых педагогических находок в работе с родителям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Цель педсовета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: поиск оптимальных форм совместной работы школы и семьи в деятельности по развитию ребёнка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99"/>
                </a:solidFill>
                <a:uFillTx/>
                <a:latin typeface="Tahoma"/>
              </a:rPr>
              <a:t>Задач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пределить основные проблемы во взаимодействии семьи и школы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общить и систематизировать теоретические сведения о формах и принципах взаимодействия семьи и школы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зработать принципы эффективного взаимодействия семьи и школ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440" y="-462960"/>
            <a:ext cx="6870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263520" y="549000"/>
            <a:ext cx="738648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уть взаимодействия семьи и школы заключается в заинтересованности обеих сторон в изучении личности ребенка, раскрытии и развитии скрытого в нем потенциала. В основе такого взаимодействия лежат принципы взаимного доверия и уважения, взаимной поддержки и помощи, терпения и терпимости по отношению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руг к другу</a:t>
            </a:r>
            <a:r>
              <a:rPr b="0" lang="ru-RU" sz="3200" spc="-1" strike="noStrike">
                <a:solidFill>
                  <a:srgbClr val="703d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Что Вы ждёте от родителей своего класса? (опрос классных руководителей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заимопомощи, взаимопонимания в вопросах воспитания и обучения дете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вместной работы над вопросами успеваемости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оявления интереса к успехам и неудачам ребёнк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тветственности за воспитание своих дете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мощи в организации внеклассных мероприяти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Как Вы думаете, что родители ждут от Вас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праведливого отношения к детя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оброт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уткого, понимающего отношения к детя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тветственного, добросовестного отношения к своим обязанностя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ддержки дете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хорошего качества знани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тобы больше времени проводили с детьм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тобы заставили и научили детей учиться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ыть « второй мамой» со всеми прилагающими обязанностями (чтобы учителя полностью изолировали родителей от воспитания детей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Теоретическая часть педсовет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263520" y="1125000"/>
            <a:ext cx="738648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оль семьи в формировании нравственност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оль классного руководителя во взаимодействии семьи и школ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ИТУАЦИЯ 1 (работа в группах, обсуждение ситуаций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1258920" y="1412640"/>
            <a:ext cx="7386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(участники: учительница, мать, сын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Мама пришла в школу по вызову учител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Здравствуйте, М. И., получила Вашу записку. Что случилось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 </a:t>
            </a: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(ученику).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Ну, рассказывай маме, что случилось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еник </a:t>
            </a: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молчит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Что молчишь? Рассказывай маме, как ты ведешь себя на уроках? За что тебя выгнали с ИЗО? Какую оценку ты получил сегодня по русскому языку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еник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Да я не ..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. Ну как тебе не стыдно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еник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Да это не я ..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Сколько можно с гобой разговаривать на эту тему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. И ведь никаких слов не понимает. Все учителя на него жалуютс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Что ты голову опустил? За свои поступки отвечать надо. Отвечай, сколько ты еще нервы мои трепать будешь? Что молчишь? Как ты намерен себя дальше вести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Пришел в школу, будь добр, учись!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 </a:t>
            </a: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(учителю).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Как с ним еще бороться, ума не приложу!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Наверное, витамин “Р” давно не прописывал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Ну все. Мое терпение закончилось, пусть с тобой теперь отец разговаривает. Он из тебя дурь-то выбьет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6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33"/>
                </a:solidFill>
                <a:latin typeface="Garamond"/>
              </a:rPr>
              <a:t>СИТУАЦИЯ 2</a:t>
            </a:r>
            <a:br>
              <a:rPr sz="1900"/>
            </a:b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539640" y="765000"/>
            <a:ext cx="777744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чительница вызвала в школу маму Саши. Разговор состоялся в учительской во время переме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Вы совершенно перестали следить за сыном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То есть, как перестала следить? Дневник, тетради проверяю, по-моему, он приходит всегда в школу чисты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(раздраженно)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к что же выходит: я вам лгу, и от нечего делать вызвала вас в школу?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А собственно, что натворил сын? Он вообще мне все рассказыва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Он дерзит учителям, срывает уроки. Вот вчера безобразничал на уроке черчения, на литературе стрелял из рогатки 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Вы знаете, К. М., дома он мне не дерзи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у, знаете, мне лучше знать, как ваш сын ведет себя в школе. А если вы мне не верите, тогда мы с вами будем разговаривать в другом месте в присутствии администр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А вы меня не пугайте этим. Саша ведет себя плохо на тех уроках, где неинтересно. Все ребята рассказывают, что на уроках черчения они ходят на головах, по литературе у них уже второй месяц пег постоянного учителя. А по географии у Саши у нового учителя одни двойки стоят. Сын говорит, что все их поставили не за знания, а за поведение – разве это справедливо? В прошлом году он у Л. И. по географии отличником был, в районной олимпиаде участвовал. А новый учитель к нему подхода не нашел, вот Саша и возненавидел географию! Так что наведите сначала у себя порядо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А вы нам не делайте замечаний, лучше сына воспитывайте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А вы не грозите мне администрацией, я тоже могу пожаловаться на ва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В таком случае мне с вами больше не о чем разговаривать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(отворачивается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ходи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Ну и мамочка! Докажите ей что-нибудь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0T14:35:32Z</dcterms:created>
  <dc:creator>1</dc:creator>
  <dc:description/>
  <dc:language>en-US</dc:language>
  <cp:lastModifiedBy>SUOMI</cp:lastModifiedBy>
  <dcterms:modified xsi:type="dcterms:W3CDTF">2014-11-14T11:42:57Z</dcterms:modified>
  <cp:revision>14</cp:revision>
  <dc:subject/>
  <dc:title>«Роль семьи и школы в          развитии морального              самосознания  обучающихся». </dc:title>
</cp:coreProperties>
</file>