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A3F9-BAEE-4BC3-AD24-BEFB34DCAF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5A14-E9BB-4583-8784-5FDA2AA24BE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F82F-C6AC-4F66-82AE-40BE55002B0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AD2D-D368-42A2-98E9-D45BCF29448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9E71-A55D-490F-BAA8-6B725B941CA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2727-D868-4B7B-91C7-145E3A33F86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30B5-08B4-4B30-93F2-558B3D08070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7E36-B8FF-4C1E-A037-3B630294182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B0A3-D9B7-4D77-BC4F-03BDB0733B6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303D-69DE-423F-ABE1-0C12F0EC5AC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407F-B1EC-4293-9A35-6D04937B7ED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2889-B937-4EDC-AC73-C7BEE924D32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5056-4887-45F3-8542-CB271EA9CA8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945E-6924-4243-8830-A39581CEE1D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A86D-0FDE-4A0C-81C2-2F75D86BC4D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924F-730A-4FAB-9D4C-54A6FD44898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E669-B607-4666-996A-47D4E84A158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F486-97FB-44C6-901B-8205DF09075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10C0-3346-4AE4-8FC5-95BC959DE2C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DA2C-99DD-4754-BE0E-AAF1EBCE1D6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094F-1513-4111-9E53-0D3867D4364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0A19-4537-4501-BDF2-84FB0962626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F657-0221-41B6-9CAE-7124E35A7D7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4E71-83E8-41B0-9456-4980B5D17D7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FA54-6CFD-450A-BD64-1B884F0744E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C421-6EE3-4D31-8CC4-8D4705C7047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FF03-C9AD-40CD-B7E3-62C2355FB9C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6435-E9EF-404E-B5F1-B0B552A223F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FF79-038E-4E39-AB23-DD01A2F1D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DBBA-6E28-4B1C-A39A-26C08F07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7C471-FC76-42EF-8E24-F1C0584E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8A42E-4C86-4CAB-AF88-D94F848F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A6C11-2009-4796-8BED-FE391DBF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AE174-196A-4689-A71F-222F8FD3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62328-394C-4870-AEE6-F0FE8D92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7452F-24C7-40E9-B872-A2C1B599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D728A-66F9-4AD4-BED2-68D233E3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CB017-99D4-49C6-92CE-6EA0326D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5BBA2-2323-4DAB-BCF0-47BCE8D53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FAC19-3E57-4D51-8BA5-E02FFD291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E644-FD01-407A-87F3-337BB7AF3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F6FBA-30F2-462B-9793-11E70A8D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D74CFB-D223-486E-AFAE-23129FEA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20A6B-9901-45C7-AB0B-3B25DC80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0159B9-05CA-4FD9-AA3E-1406D7A0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5156C-F918-4E31-B915-2DD1E819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A844C0-8E18-4823-A33A-1A8BCC4C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F4BB9-0A8C-4C96-81CF-6F23EF29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BF470-9D06-4361-A413-15BF4634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E32439-A871-46C5-883C-0E01233C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9714C4-628C-41D7-9702-32A3CAC42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7BDC-D71C-4CBF-B848-55D47488B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73C52-96D1-4D03-837D-697FF865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9B913-2385-48BB-A86A-CED6E84C5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C0FE3-2398-4BE5-A206-5C7804BA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86CBD-AC1F-4F75-A48D-21B3D2EA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5E1F4-4C5A-4333-B2E9-C2B0884D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17CE2-29A6-4AA3-B55D-27F1488E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B7117-55C3-4BDE-A85E-2B16A008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820E1-9B7D-4F84-A62B-C937FB4B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EA7CD-9391-429B-8348-A912E2AD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F50D1-3914-4D4C-9397-5DA50AC5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3A19-60FB-4C48-8B0B-72E5C9FA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C1E97-5053-422C-BC1C-74BF8C81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8A6DE-3D96-4C15-9BC3-423E4FC43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59602-CB6C-4448-96EB-40060E53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27ED4C-778E-4082-856C-8E07E9E4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7202A-5A08-474B-9B35-ABC7FDD3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1BDE1-1815-4D01-990B-05C706EC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10E584-F8E2-4426-A3F8-623B96FB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E8B3E4-9ECE-4B12-BB31-6D650908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9F327A-BE51-4A8D-AB1C-691DD239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C931A8-9E16-4C05-8692-E8C473D0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5E91-9DEC-4A54-A364-B4B0D9DA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ABC40-9B59-4552-9A28-3B994EE6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DFD939-3634-46F9-A979-AA137A5F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B6A7E4-5ED8-46DF-ACA8-0997DC75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6517B-4573-4CAB-AF2C-707B92F05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6360E-C38C-41A5-B163-90EF87AC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B5A0-8431-486D-A66D-251531CC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D7D4-0EBE-463C-AC4F-3E1492DB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A7C4-658E-44F2-AB63-7B2BCFD0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654B-07A3-41D4-A082-C54079D4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05A9-448A-442C-AD34-5A5A1A89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F721-E79A-47ED-8D56-E4DA7386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405D-012F-452D-B53F-622454C8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0EB4-99C0-44EF-98FB-795BA314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7627-FFF2-439E-BBB6-4E7E243D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0E0B-4826-468A-A170-BFC8FBE2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C2AF-6DDB-4086-AA8C-655A090F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B8D90-38AB-4278-AAEF-B01AF782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4624F-55DC-4229-AFEA-16DD96B2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FF578-9153-4C96-A52A-C9B972F5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3F7C3-1E63-4C23-9FEF-5FA0F882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C54BE-825E-4323-86F3-23B04075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D400-F994-4E67-BD0E-8ED32A84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46492-3140-436E-B787-F8B44301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2994A-82DB-488B-BD61-5F3D9478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65FDF-0CA8-4E97-84C3-489E48BE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F09A6-F38C-4C10-9EF2-4C47855D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E8DE9-AB44-4F72-8243-8D812D4E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5FF47-49F8-48AD-83DD-34637FF2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666CC-E2ED-4356-81A0-95AE192C6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32E91-687B-44D9-9A03-422F32F5F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BA63B-46FB-47EA-B318-9ACFEA1D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622F5-B013-41DB-A360-FCBFADBD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9E3B-DE96-4397-B359-8DA7EEEB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FD8BE-EA3A-4EB9-8D01-563C009E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B323E-501F-4951-815D-A5B68942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DA38C-0124-4D8F-908F-AB6B206F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1D9A9-D5CE-4E98-B748-6A968CFB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7905C-65A6-41E1-82AD-0FD17A40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AFC5E-F6EA-4FD3-94B1-1C99E236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81D14-94FA-4E8E-ACBD-1B27FD5A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60342-56E4-48B5-B118-95F7EF06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73F62-92BD-4A71-8AA7-AE989EA3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42E4B-1526-4451-AD9A-F771A7A4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949F-11D5-4EB3-A81C-054FEF5B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4089B-E614-46D8-93EA-6B8FE660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466E0-681C-41DE-83A1-DDAF1189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7386D-738C-49F9-B9EC-B45A2035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44EA2-224F-4720-823F-1CFDDB52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DF1B8-481F-42F7-92F0-B8AC833B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E91A6-719F-4DC4-8894-B1771022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9D357-03D7-4C3D-8E71-54A5B0D4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911EF-3577-4508-8C20-B66388DD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EA10B-8FD2-438A-96BB-C8657EFE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F917C-7C4C-448F-94B5-8E19A7F0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3842-2CE8-4EDC-A1DE-241ECE03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0E519-E2CB-4373-8804-9DC41D93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3FFC5-979E-4965-9655-E753BDE4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2A209-09CB-4D28-8402-D02835D3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5E92F-D94A-4423-BF8E-902ED123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2328E-E3F8-4E11-891F-F86D4A4C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5767A-5F7A-4131-816D-418F30B9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DA493-2E8E-4FB5-BF56-70051892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7AE5F-B2D8-4A79-94E3-462A0270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BA858-8E38-4647-9808-441964F5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B7AFF-E7ED-4B15-BE42-CA8DF8F8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B6D8-3A73-4FD3-8205-BA86D1CB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F4336-9175-4B9E-9EC1-4306FF78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04CE3-8771-467F-9C31-13E27726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02C08-46B8-492C-9AF9-D5E5EB1FD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3A073-82B3-4558-85D8-01F6A31D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39E94-2CEA-476A-8CD1-C1D56861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2AF50-CA75-491C-B173-1A07D170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DBE61-FED8-48CA-844D-E5CCFDD8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E5AB3-7B13-42BC-ABCA-1265451C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18011-E4E7-49AC-8837-2589C38E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8A902-F542-41B4-80CD-5312DBE0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776B-F226-4F7F-8B50-FF41EFBA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5A339-5CCE-4275-824A-96ABD49C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7E8A9-D2CB-4DA3-87AE-2D17D839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096AC-3625-4B5E-A393-EFB86CA5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5BE2F-D92C-4C42-B29F-F9A6EA269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72750-C829-489F-8617-67400E26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60375-6526-466C-AF1B-75988FDB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91DD1-7C55-47A5-B50B-D39D6C27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52234-8E85-47CD-BA3E-1C4B0614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57B3B-60C5-4363-8947-980C9CED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207D5-E5F6-493F-9F87-B0C67C2E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A428-A134-4976-9408-F374BC88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844B2-FD9F-4962-A6A4-021B95CA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BF919-28B8-4531-B9D1-C11E68D2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C53E7-0B27-4631-A6E0-5E6B2F67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45E9B-1668-4BA7-B831-E1F92D29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FDF3E-D454-499D-8064-68A24559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7263A-690C-48A0-BC61-862CC3C60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F832E-140F-4952-ACB5-D98B11265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3BFB7-B54E-4B0F-AE51-1980A9E1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DA1CA-43B7-4039-B60B-4AA04667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B66DE-162F-40EB-B4D5-B5FE1FC1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50DA-AE00-419E-A6E2-815F6134401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54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4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5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5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grpSp>
        <p:nvGrpSpPr>
          <p:cNvPr id="55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5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6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6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6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7205-E8F3-4532-A125-027B755AB49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12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613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4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615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616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7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61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37B7-B9B8-4617-90AB-7D565B250DEA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CDC5-F7FF-4A82-A2ED-15480B25403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4BF8-F73C-4D58-9EFC-7CAD4837523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6A73-04D8-400E-9B6E-C8696EB07B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3BBD-276A-4879-9CE8-B20BB32C26F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0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1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2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2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2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2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2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2B7B-1013-4123-9F00-2D9DBD3F92B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20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pic>
          <p:nvPicPr>
            <p:cNvPr id="321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0B86-FEE4-422E-A35F-552ECD4ABCB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6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6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6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7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71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3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7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8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8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0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25B1-3B9F-4C13-98DA-8E29E3F5EAD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67F4-C4DD-4E6A-92C5-DCE5F40B863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3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5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6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27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43AA-EF37-4590-BFA5-404829C770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6966000" cy="38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«Роль семьи и школы в          развитии морального              самосознания  обучающихся».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1979280" y="4941720"/>
            <a:ext cx="410508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январь 2014 год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ИТУАЦИЯ 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Мама ученика 7 класса пришла за консультацией к классному руководителю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У моего сына в этом году вдруг стала заметно проявляться агрессивность по отношению к младшему брату, но и не только к нему, а и к своим друзьям. Ему хочется, как мне кажется, быть лидер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блюдаем с отцом, что агрессивность в отдельных случаях проявляется и в отношениях с нами. Мы считаем, что семья у нас благополучная, все вопросы решаем между собой и с детьми спокойно, доброжелательно. В чем причина такого поведения сына, не знаем. Помогит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Ситуация 4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Я вызвала Вас обсудить поведение Вашего сына. На школьной дискотеке он был замечен в нетрезвом вид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Не может быть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едложите разные варианты продолжения беседы и её результат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5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Наталья Викторовна давайте поговорим о внешнем виде Вашей дочер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Вы считаете, что внешний вид Татьяны не приемлем для школы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Конечно.  Её внешний вид не соотносится с образом школьницы:пирсинг, которым она украсила лицо, блузки, которые не могут прикрыть определённые части тел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А я считаю, что это очень стильно. Сейчас вся молодёжь придерживается такого имидж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должите разговор с матерью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8007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телям нужна поддержка, помощь и добрый совет. Если вы ими располагаете, создайте необходимые условия для общ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беседуйте с родителями второпях, на бегу; если вы не располагаете временем, лучше договориться о встрече в другой раз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говаривайте с родителями спокойным тоном, не старайтесь назидать и поучать – это вызывает раздражение и негативную реакцию со стороны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мейте терпеливо слушать родителей, давайте возможность высказаться  по всем наболевшим вопрос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спешите с выводами! Обдумайте хорошо то, что вы услышали от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, о чём родители вам поведали, не должно стать достоянием других родителей, учащихся и педагог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есть профессиональная необходимость поделиться той информацией, которую сообщили родители, ещё с кем-то – родителей необходимо поставить об этом в известнос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7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товясь к встрече с семьёй учащегося, необходимо помнить, что любой родитель хочет услышать не только плохое, но и хорошее. Не следует начинать разговор со следующих фраз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У вашего ребёнка совсем плохи дел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аш ребёнок совсем перестал учиться, ничего не делае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ы задумайтесь, скоро экзамены, а ваш, ведь, не сдас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д началом разговора поблагодарите родителя за то,    что пришёл.                                 Выразите надежду, что совместными усилиями удастс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равиться с    возникшими трудностями. А потом уже излагайте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туацию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азговоре уместны следующие высказыв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понимаю, что трудно…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сама мама и знаю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о же Ваш ребёнок, никто не знает его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икто не сможет помочь Вашему ребёнку,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ложите родителям варианты решения проблемы и обсудите их вс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ти беседу необходимо в направлении поиска путей решения проблемы, преодоления трудностей, т.е. не обсуждать, кто  виноват, а решать, что делать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ждая встреча с семьёй учащегося должна заканчивать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нструктивными рекомендациями для родителей и самого учащегос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747720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82600" y="2111400"/>
            <a:ext cx="77724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ложите эффективные методы групповой работы с родителями и докажите их эффективнос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Методы групповой работы с родителям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667836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ое собрание вместе с ученикам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зентация семей, их традиц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левая игр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сс – конференц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брание -  спектакль, в котором участвуют де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ий лектор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ечер вопросов и ответ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испут, дискусс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Экскурси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аздники и т.д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учитель, чтобы его уважали дети и родители, прислушивались к его совета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родитель, чтобы воспитывать моральные качества у своего ребён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е черты учителей и родителей мешают воспитанию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родителей по успешному взаимодействию со школой в вопросах воспитания и развития у детей моральных качест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учителей по успешному взаимодействию с родителями в вопросах воспитания  и развития моральных качеств у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учитель, чтобы его уважали дети и родители, прислушивались к его советам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ружелюб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Щедр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ъектив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зывч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важение к мнению ученик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еленаправлен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имание того, что ученик – Челове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юбить общение с деть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нать свой предм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итель – пример и идеал!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родитель, чтобы воспитывать моральные качества у своего ребёнка 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нима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им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ешит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оспита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удр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равновеш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удолюб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меть прислушиваться к детя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тель должен быть другом своему ребёнк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мья и школ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это берег и  море.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берегу, ребенок делает свои первые шаги, получает первые уроки жизни, а потом перед ним открывается необозримое море знаний, и курс в этом море прокладывает школа. Это не значит, что он должен совсем оторваться от берег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Л. А. Касси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8920" y="765000"/>
            <a:ext cx="74772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Что мешает учителю в воспитательном и учебном процессах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                               (мнение детей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65340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праведл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равновешенность, вспыльч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мнению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лоб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взятое мнение об ученика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арый взгляд на ми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нос своих личных проблем на ученик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кандаль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знание учебного предме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6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Что мешает родителям правильно строить воспитательный процесс.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(мнение детей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547280" y="1916280"/>
            <a:ext cx="610236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понимание детей и времен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любовь к детя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мение слушать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сокомер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воспит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держ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рвозность, истерич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чужим ошибка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строг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ебёнка учит то, что его окружает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критикуют – он учится ненавиде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у часто демонстрируют враждебность – он учится быть агрессив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высмеивают – он становится замкнут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к ребёнку часто бывают снисходительны – он учится быть терпе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подбадривают – он учится уверенности в себ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хвалят – он учится быть благодар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с ребёнком обычно честны – он учится быть справед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ок живёт в атмосфере дружбы и чувствует себя нужным – он вырастет добрым и уверенным в себе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Стратегия успешного взаимодействия с семьей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помнить, что все семьи имеют сильные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воспринимать ошибки и недостатки семьи  не как ошибки семьи, а как ошибки социальной системы в создании возможностей обучения и развитии компетентности  сем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развивать работу с семьями на основе всего положительного, что у них есть, а не преодолевать ее  недоста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мешательстве в жизнь семьи мы не должны думать, что делаем это «для людей», а должны стремиться к тому, чтобы семья как можно меньше зависела от профессионалов (педагогов, психологов, социальных работник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нципы взаимодействия семьи и школы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гласия – взаимная договорённость о поддержании благоприятных для развития ребёнка услов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яжения – последовательное соотнесение единых требований к ребёнку в школьной и семейной сфере его жизне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ереживания – взаимное выражение расположенности друг к другу, проявление доброжелательности и знаков вним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ичастности – взаимная практическая забота об улучшении условий жизнедеятельности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деянности – реальные совместные практические действия, содействующие счастливому развитию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Удовлетворённость родителей жизнедеятельностью  ОУ</a:t>
            </a:r>
            <a:br>
              <a:rPr sz="2000"/>
            </a:b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(насколько ОУ воспитывает в детях следующие качества)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ая школа                               средня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куратность                                            3,8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сциплинированность                                4,0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ветственность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ля                                                                3,8 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орошие манеры поведения                        3,8  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знерадостность                                        4,0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ованность 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м                                                                   3,9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окие жизненные запросы                      3,7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мостоятельность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стность                                                       4,3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брота                   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кость                                                         3,6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раведливость                                             3,9                                                  4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рпение                                                         3,9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едний балл                                                 4,0                                                  3,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07-08 уч. год                                              3,9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ыво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Родители удовлетворены работой школы по формированию у детей поведенческих, морально-психологических качеств (уровень удовлетворённости – более 3 балл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Цветограмма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685800" y="1828800"/>
          <a:ext cx="7696080" cy="116856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актуаль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новизн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полез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интерес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3" name="Rectangle 25"/>
          <p:cNvSpPr/>
          <p:nvPr/>
        </p:nvSpPr>
        <p:spPr>
          <a:xfrm>
            <a:off x="611280" y="335592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ждая группа должна оценить все параметры и закрасить графу цветным карандашо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расный – высо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иний – средня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елёный – низ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Реш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Принять выработанные принципы эффективного взаимодействия семьи и школы в деятельности по развитию личности ребенка за основу в своей деятельности каждому учителю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Продолжать проводить внеклассные и общешкольные мероприятия с участием родителей: родительские собрания, деловые игры, конкурсно-игровые программы и т. п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Создать копилку передовых педагогических находок в работе с родител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едсовета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: поиск оптимальных форм совместной работы школы и семьи в деятельности по развитию ребёнк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ить основные проблемы во взаимодействии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общить и систематизировать теоретические сведения о формах и принципах взаимодействия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аботать принципы эффективного взаимодействия семьи и школ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-46296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ть взаимодействия семьи и школы заключается в заинтересованности обеих сторон в изучении личности ребенка, раскрытии и развитии скрытого в нем потенциала. В основе такого взаимодействия лежат принципы взаимного доверия и уважения, взаимной поддержки и помощи, терпения и терпимости по отношению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руг к другу</a:t>
            </a:r>
            <a:r>
              <a:rPr b="0" lang="ru-RU" sz="3200" spc="-1" strike="noStrike">
                <a:solidFill>
                  <a:srgbClr val="703d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Что Вы ждёте от родителей своего класса? (опрос классных руководителей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заимопомощи, взаимопонимания в вопросах воспитания и обучения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вместной работы над вопросами успеваемости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явления интереса к успехам и неудачам ребён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ветственности за воспитание своих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мощи в организации внеклассных мероприят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ак Вы думаете, что родители ждут от Вас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раведливо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бро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уткого, понимающе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тственного, добросовестного отношения к своим обязаннос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держки дет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орошего качества зна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больше времени проводили с деть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заставили и научили детей учитьс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ть « второй мамой» со всеми прилагающими обязанностями (чтобы учителя полностью изолировали родителей от воспитания детей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еоретическая часть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семьи в формировании нравственно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классного руководителя во взаимодействии семьи и школ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ИТУАЦИЯ 1 (работа в группах, обсуждение ситуаций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386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участники: учительница, мать, сын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Мама пришла в школу по вызову учител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Здравствуйте, М. И., получила Вашу записку.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енику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у, рассказывай маме,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молчи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молчишь? Рассказывай маме, как ты ведешь себя на уроках? За что тебя выгнали с ИЗО? Какую оценку ты получил сегодня по русскому язык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я не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. Ну как тебе не стыдно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это не я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Сколько можно с гобой разговаривать на эту тем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И ведь никаких слов не понимает. Все учителя на него жалуют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ты голову опустил? За свои поступки отвечать надо. Отвечай, сколько ты еще нервы мои трепать будешь? Что молчишь? Как ты намерен себя дальше вести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ришел в школу, будь добр, учись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ителю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к с ним еще бороться, ума не приложу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аверное, витамин “Р” давно не прописывал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у все. Мое терпение закончилось, пусть с тобой теперь отец разговаривает. Он из тебя дурь-то выбье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6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2</a:t>
            </a:r>
            <a:br>
              <a:rPr sz="1900"/>
            </a:b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39640" y="765000"/>
            <a:ext cx="77774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ительница вызвала в школу маму Саши. Разговор состоялся в учительской во время перем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совершенно перестали следить за сыно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 есть, как перестала следить? Дневник, тетради проверяю, по-моему, он приходит всегда в школу чист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раздраженно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что же выходит: я вам лгу, и от нечего делать вызвала вас в школу?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собственно, что натворил сын? Он вообще мне все рассказыв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н дерзит учителям, срывает уроки. Вот вчера безобразничал на уроке черчения, на литературе стрелял из рогатки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знаете, К. М., дома он мне не дерз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у, знаете, мне лучше знать, как ваш сын ведет себя в школе. А если вы мне не верите, тогда мы с вами будем разговаривать в другом месте в присутствии админист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меня не пугайте этим. Саша ведет себя плохо на тех уроках, где неинтересно. Все ребята рассказывают, что на уроках черчения они ходят на головах, по литературе у них уже второй месяц пег постоянного учителя. А по географии у Саши у нового учителя одни двойки стоят. Сын говорит, что все их поставили не за знания, а за поведение – разве это справедливо? В прошлом году он у Л. И. по географии отличником был, в районной олимпиаде участвовал. А новый учитель к нему подхода не нашел, вот Саша и возненавидел географию! Так что наведите сначала у себя поряд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вы нам не делайте замечаний, лучше сына воспитывайт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не грозите мне администрацией, я тоже могу пожаловаться на в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таком случае мне с вами больше не о чем разговаривать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отворачиваетс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ход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у и мамочка! Докажите ей что-нибуд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4:35:32Z</dcterms:created>
  <dc:creator>1</dc:creator>
  <dc:description/>
  <dc:language>en-US</dc:language>
  <cp:lastModifiedBy>SUOMI</cp:lastModifiedBy>
  <dcterms:modified xsi:type="dcterms:W3CDTF">2014-11-14T11:42:57Z</dcterms:modified>
  <cp:revision>14</cp:revision>
  <dc:subject/>
  <dc:title>«Роль семьи и школы в          развитии морального              самосознания  обучающихся». </dc:title>
</cp:coreProperties>
</file>