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557B-546F-4EDB-8040-7FE23ECD70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8D91-6CF0-40FA-B226-CCF7A1482D8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A088-2C08-4D3C-8B32-3C79F322918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6772-75EA-4622-B03A-DF2D077C713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14CF-A774-4943-8168-8A099B9A889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6F80-983C-4769-8D1B-8321FE6D573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377B-C7C9-4B77-B369-490D30544BB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95E1-4DEA-4E3D-8322-6AEA11A97B1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7AEE-507E-4983-8635-69347F0056E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96D3-21EB-481B-BB65-2D5FD2CCA70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2696-E756-4909-8601-32620CE5475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B44F-5A38-4D7A-9CCC-A79D2652992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24C5-3A3B-4A14-9C60-CE1638C806F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2D34-B31B-42EE-845A-94585838820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1AA1-2946-4BDB-A142-E64E28C1CF0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C789-F8BC-4D9C-962C-1440DB862E3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6FA8-16AC-4B0B-835D-1FD1FA70B6A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FD26-8733-4485-9055-443B25B22AE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09D9-B0AE-4101-A97D-C3B4AE88819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7BDB-6440-4BC1-8874-A24304BDC88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DE3A-ED89-4FC3-A62C-29783C2BB92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5458-6309-4A48-A896-CEFB355FA23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89DA-4F0C-4479-877F-63A7D5917B9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92A1-DA33-42EA-8B81-97B4B47613B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42F2-0080-4E84-A5D7-2027383EF8C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9655-E1C1-4EDF-B9D7-A5660B4B97B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D5B6-6A18-468E-B3CE-1CE48CA38AB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BC70-C560-4480-AA3B-84BABDD4C5A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7C53-32C3-434D-9688-64AF625E4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E60C-33E4-482C-84AA-828F6046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3829F-45C8-4C76-89BF-8F54AD4D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67C3F-6756-4F95-A3A1-20EDC5AD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A4243-A2BE-40AA-B71D-E5AD9CC4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587FD-F8CA-465C-A7B4-ECB5457F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49265-C253-45A8-91EE-59834FD6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5BAC9-1B42-443C-9684-23FC556B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5497B-94EE-462C-BAB4-53588549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CD6A3-32C9-4B8B-B443-A8E51B854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B43E8-F9F7-4D55-999C-8BB7E55BB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6CBFC-C638-48A8-A42F-19B830CB7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895F-F024-472A-B51F-E1248FCEF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D7E54-57DA-42EA-BBD7-4ED72BE1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7F91E-DB21-4BAE-A457-3FADCC44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FD22E3-AD6E-4F50-B997-2BC030FD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5CC8C-84A2-40AF-8051-2789508D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6A2FC7-CF83-4E8A-85FC-533C8457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D734FE-CD0A-48EF-96DC-163AEF3B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85D52E-86A7-4AF2-9205-8FDE5F35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C6EBD-E53A-4BE4-9C17-C58AECDC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D3941-92C5-4078-84D3-33C31E59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DF7B4-C4DB-483A-8E83-59AC6F54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2C70-8D71-4A14-B257-B70A2ACC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66BED-859A-4654-8A46-56330774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D2D59-FEB5-4B32-90ED-ADED5C1FD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98593-35E4-4340-9D44-B0BD4FA4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96700-61E0-413F-85D6-CE03068C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87A22-C82D-4529-9AB9-A8C9D239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C1DEB-89F2-4E44-8970-01229B45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A1751-6EAF-4386-86D5-04F1F158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27086-E2FB-4A1D-8018-017E7D60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1277C-1317-4147-8097-2FC07C4C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CC02B-EF38-40B1-A9E4-72D55652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3732-228C-4F17-9A78-3CF302F47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41E7E-8F34-4405-9E4B-D0AD2303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00395-0E11-4B78-804A-47B94BAB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8013B-128F-4272-817A-4B375C4F7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35091-D0A7-4AE0-9781-B373893B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D5B27B-6381-447C-9897-2041FBBF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0464C5-9374-41AA-A019-6C641C22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BA640A-8095-444D-B605-CAD25567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7BF551-DA78-4DAF-8177-A8362E24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EBE24-8F2F-4D95-91A4-3FEB0F87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23C9B-F305-42D0-91EC-845E5E9B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9E76-1465-4804-A214-FBED1787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8D9C6-F0F5-4F75-8735-C6AB7D20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2B56E-ACA1-4BAE-BAD4-7569C169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9CD2C-EFEC-4F04-8327-31BD6CE4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DDA93-345A-4E72-9009-2EA364083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3A2758-8C09-4F68-9EE6-3E4CD412D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9E26-31B5-496D-959B-4A533D4D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B244-5F92-4FBE-8F95-54164CFC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2B76-9BF1-49D2-AA6E-9476C352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DA09-D74D-4320-89B4-13A52F78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AD25-3BC5-4B74-AC4F-FAF07FFE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D355-DBAA-47F4-B835-60B28D7B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4615-FD50-4279-8814-FE916EC7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BCFB-D4CA-4D0D-9269-67CEBA68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9B89-EC10-4C8D-A1F2-D14C473F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399D-A9AF-4AE2-B430-1090BEF3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85E1-C4F9-4298-947A-EE7AE538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467C1-1658-4923-A883-D8510616B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7DE99-DACF-40FA-A32E-55D5DAB5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58797-84A2-47EB-AE21-CB73ED0E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4821A-B27D-48D8-A0D8-0855C085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EC2CC-9118-4857-BBB0-B989317E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14C4-4A04-4383-B016-4880ED5A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D16BC-71A3-4A4C-AC74-85280C82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3D244-CDFA-4172-BB8B-8DEFCFC4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88B43-7951-463F-A3F8-6140A8BA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22C6C-CB8C-46D6-A491-B661291E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54B8B-774F-454D-961E-492999D7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1CF74-C1C6-45CC-8249-8E3183B8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EE106-EF77-4406-B2A2-77F4A142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B37F2-55D7-46E2-A869-8F973DAD3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544F7-F32A-4BBF-9858-C5B5BAFF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73554-F8F6-4347-B3AD-13104128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8212-7DF0-456B-9AD8-A8A03755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D4770-D3CB-4636-9091-50AAC51B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B18B1-2621-4CD2-90FD-B24C252B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AD1D4-BA9E-4E23-8DCA-7D906E89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E0C9A-4DC2-459D-A642-BB26C1BE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0E1EC-000B-42D6-AFB7-8CCEABAE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94270-FCF8-4114-B39F-886625A8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8D741-8EB2-4FA0-B804-3F20770F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1221C-16CE-4990-B53A-301CC18FE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2002A-C4AE-4F2B-8868-41EFDA00C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707C8-08E8-452F-A01E-961E7AF8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C9F2-9195-46F6-AAFB-56E4794C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90476-538C-4B85-81A0-34EC9752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57373-201D-43B9-B45C-262AE06D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B6453-3AE6-4C26-A3E0-B862C10A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0B3FB-0570-4527-AA56-68DFDC94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6BDE4-FB0C-4DEB-A7B6-A3765C4A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30FA5-132A-4691-96A3-5BB709CA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62C28-921E-4B78-8E36-02F8A582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6975D-7AC4-4F29-B198-72892B71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1F1A5-2A14-4024-A4FC-E6B9D6BF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791FA-2F27-427C-AD33-6400385B8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33B0-B05D-458D-ADDE-8F010CA0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9FEDE-F992-480B-8154-3A5E0835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B8585-06DE-4B1F-BFCA-97CF4B19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24DDF-D65B-48A4-A49A-39D4CE2B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4B869-E9E6-4DC7-BD8F-7582A690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2557E-D497-41AA-A86E-703FEA1E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C58AD-B2EA-439C-99D3-DBAE040A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660F7-A15A-4818-B6D6-75732F30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EEB80-240F-4F87-A6DF-59700CC7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4A284-3962-4142-9F88-077FE592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24AD5-0E9C-45A6-8707-1500D52F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7190-7D19-46B1-A8CA-F2E48DE3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0B0B0-AE5E-4B86-8EA0-90F3F745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3FAC1-8B6F-4C90-A1EB-832C026E5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D64C6-9F90-4656-8370-9801DDB8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058CA-0677-4016-8904-6812F5BE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1D8A8-668C-43FF-A76A-A8401873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CE310-D3F0-4DCA-8D73-415F120F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37B89-38F5-4BCF-93DE-08434132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1FD20-5E67-4255-B45F-CE32809E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4967F-C8CD-4168-B810-491E9147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E3FBB-3FC1-4EAE-8004-2FE94436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9543-E0E1-4D16-B8E4-BD4C09A6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783D9-563A-4286-9646-DF93B85A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C52F4-A49B-4737-B081-BE789B8E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A2AFF-7510-4E4E-A1F0-46877B03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DF8CF-D160-4A05-8C99-30859B2E8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F18BC-4FAC-4683-9548-FB503066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E64DD-668F-41C5-ABF2-C1D1D2164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40409-E4ED-481F-8413-FD81AF00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2B965-73DF-4061-9D2B-7D44ADE1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52957-4506-4534-A92D-772401DD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89640-48E6-4C06-BD32-565F7E52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0FF5-AF77-43D6-94D3-9A21FD4C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44D3D-1A71-44C9-B70C-806E42FA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97C87-DB31-495C-BFB1-07EA56AC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A7E68-D4F9-4FBC-8D38-F68A1EF7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E4CB1-EC5C-434C-AEA3-1FA3BF8D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7BE13-A99D-4373-8EA4-FB2B1729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46C99-1921-4B6B-A0EA-61F04165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E8148-DCE2-4B19-B87A-8B85E19E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D0141-6FA8-4333-8C46-DF2B278CC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51C09-3845-426D-A7C8-B5511FB3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2C1C1-18C9-4892-9542-730C67A1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E59E-E936-4A2F-8FEE-12925971626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54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4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5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5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grpSp>
        <p:nvGrpSpPr>
          <p:cNvPr id="55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5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6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6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6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328C-683B-4221-95A5-E03CF879CC6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12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613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615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616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7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61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A78B-C936-4802-ADF3-D7608B5EA9C9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D68B-D7DC-40C2-BE40-6CA7E6DD26F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D4FA-C4A7-42C9-9BB9-38D591566BF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BFF8-6F0B-4E03-9044-90A187F95A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2CC1-CD34-4FD3-80A4-E6C6C5B0C4D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0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1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2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2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2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2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9857-F5EF-49E0-82BE-882E6EF298D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20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pic>
          <p:nvPicPr>
            <p:cNvPr id="321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C5F5-5682-4038-906A-975F17EEE17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6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6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6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7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71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3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7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8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8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0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797E-122F-4EBC-9842-723A08B1672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3A21-4C96-49AF-B1C0-CD7F8B980D2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3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5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6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27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B23B-7EDE-4E3D-864B-5030A41EED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6966000" cy="38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«Роль семьи и школы в          развитии морального              самосознания  обучающихся».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1979280" y="4941720"/>
            <a:ext cx="410508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январь 2014 год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ТУАЦИЯ 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Мама ученика 7 класса пришла за консультацией к классному руководителю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У моего сына в этом году вдруг стала заметно проявляться агрессивность по отношению к младшему брату, но и не только к нему, а и к своим друзьям. Ему хочется, как мне кажется, быть лидер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блюдаем с отцом, что агрессивность в отдельных случаях проявляется и в отношениях с нами. Мы считаем, что семья у нас благополучная, все вопросы решаем между собой и с детьми спокойно, доброжелательно. В чем причина такого поведения сына, не знаем. Помогит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Ситуация 4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Я вызвала Вас обсудить поведение Вашего сына. На школьной дискотеке он был замечен в нетрезвом вид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Не может быть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едложите разные варианты продолжения беседы и её результат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5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Наталья Викторовна давайте поговорим о внешнем виде Вашей дочер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Вы считаете, что внешний вид Татьяны не приемлем для школы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Конечно.  Её внешний вид не соотносится с образом школьницы:пирсинг, которым она украсила лицо, блузки, которые не могут прикрыть определённые части тел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А я считаю, что это очень стильно. Сейчас вся молодёжь придерживается такого имидж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должите разговор с матерью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8007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телям нужна поддержка, помощь и добрый совет. Если вы ими располагаете, создайте необходимые условия для общ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беседуйте с родителями второпях, на бегу; если вы не располагаете временем, лучше договориться о встрече в другой раз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говаривайте с родителями спокойным тоном, не старайтесь назидать и поучать – это вызывает раздражение и негативную реакцию со стороны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мейте терпеливо слушать родителей, давайте возможность высказаться  по всем наболевшим вопрос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спешите с выводами! Обдумайте хорошо то, что вы услышали от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, о чём родители вам поведали, не должно стать достоянием других родителей, учащихся и педагог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есть профессиональная необходимость поделиться той информацией, которую сообщили родители, ещё с кем-то – родителей необходимо поставить об этом в известнос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7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товясь к встрече с семьёй учащегося, необходимо помнить, что любой родитель хочет услышать не только плохое, но и хорошее. Не следует начинать разговор со следующих фраз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У вашего ребёнка совсем плохи дел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аш ребёнок совсем перестал учиться, ничего не делае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ы задумайтесь, скоро экзамены, а ваш, ведь, не сдас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д началом разговора поблагодарите родителя за то,    что пришёл.                                 Выразите надежду, что совместными усилиями удастс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равиться с    возникшими трудностями. А потом уже излагайте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туацию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азговоре уместны следующие высказыв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понимаю, что трудно…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сама мама и знаю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о же Ваш ребёнок, никто не знает его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кто не сможет помочь Вашему ребёнку,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ложите родителям варианты решения проблемы и обсудите их вс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ти беседу необходимо в направлении поиска путей решения проблемы, преодоления трудностей, т.е. не обсуждать, кто  виноват, а решать, что делать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ждая встреча с семьёй учащегося должна заканчивать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нструктивными рекомендациями для родителей и самого учащегос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747720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82600" y="2111400"/>
            <a:ext cx="77724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ложите эффективные методы групповой работы с родителями и докажите их эффективнос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Методы групповой работы с родителям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667836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ое собрание вместе с ученикам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зентация семей, их традиц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левая игр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сс – конференц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брание -  спектакль, в котором участвуют де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ий лектор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ечер вопросов и ответ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испут, дискусс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Экскурси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аздники и т.д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учитель, чтобы его уважали дети и родители, прислушивались к его совета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родитель, чтобы воспитывать моральные качества у своего ребён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е черты учителей и родителей мешают воспитанию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родителей по успешному взаимодействию со школой в вопросах воспитания и развития у детей моральных качест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учителей по успешному взаимодействию с родителями в вопросах воспитания  и развития моральных качеств у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учитель, чтобы его уважали дети и родители, прислушивались к его советам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ружелюб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Щедр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ъектив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зывч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важение к мнению ученик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еленаправлен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имание того, что ученик – Челове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юбить общение с деть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нать свой предм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итель – пример и идеал!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родитель, чтобы воспитывать моральные качества у своего ребёнка 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нима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им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ешит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оспита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удр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равновеш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удолюб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меть прислушиваться к детя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тель должен быть другом своему ребёнк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мья и школ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это берег и  море.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берегу, ребенок делает свои первые шаги, получает первые уроки жизни, а потом перед ним открывается необозримое море знаний, и курс в этом море прокладывает школа. Это не значит, что он должен совсем оторваться от берег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Л. А. Касси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8920" y="765000"/>
            <a:ext cx="74772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Что мешает учителю в воспитательном и учебном процессах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                               (мнение детей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65340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праведл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равновешенность, вспыльч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мнению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лоб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взятое мнение об ученика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арый взгляд на ми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нос своих личных проблем на ученик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кандаль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знание учебного предме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6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Что мешает родителям правильно строить воспитательный процесс.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(мнение детей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547280" y="1916280"/>
            <a:ext cx="610236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понимание детей и времен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любовь к детя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мение слушать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сокомер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воспит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держ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рвозность, истерич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чужим ошибка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строг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ебёнка учит то, что его окружает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критикуют – он учится ненавиде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у часто демонстрируют враждебность – он учится быть агрессив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высмеивают – он становится замкнут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к ребёнку часто бывают снисходительны – он учится быть терпе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подбадривают – он учится уверенности в себ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хвалят – он учится быть благодар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с ребёнком обычно честны – он учится быть справед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ок живёт в атмосфере дружбы и чувствует себя нужным – он вырастет добрым и уверенным в себе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Стратегия успешного взаимодействия с семьей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помнить, что все семьи имеют сильные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воспринимать ошибки и недостатки семьи  не как ошибки семьи, а как ошибки социальной системы в создании возможностей обучения и развитии компетентности  сем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развивать работу с семьями на основе всего положительного, что у них есть, а не преодолевать ее  недоста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мешательстве в жизнь семьи мы не должны думать, что делаем это «для людей», а должны стремиться к тому, чтобы семья как можно меньше зависела от профессионалов (педагогов, психологов, социальных работник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нципы взаимодействия семьи и школы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гласия – взаимная договорённость о поддержании благоприятных для развития ребёнка услов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яжения – последовательное соотнесение единых требований к ребёнку в школьной и семейной сфере его жизне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ереживания – взаимное выражение расположенности друг к другу, проявление доброжелательности и знаков вним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ичастности – взаимная практическая забота об улучшении условий жизнедеятельности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деянности – реальные совместные практические действия, содействующие счастливому развитию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Удовлетворённость родителей жизнедеятельностью  ОУ</a:t>
            </a:r>
            <a:br>
              <a:rPr sz="2000"/>
            </a:b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(насколько ОУ воспитывает в детях следующие качества)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ая школа                               средня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куратность                                            3,8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сциплинированность                                4,0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ветственность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ля                                                                3,8 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орошие манеры поведения                        3,8  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знерадостность                                        4,0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нность 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м                                                                   3,9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окие жизненные запросы                      3,7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мостоятельность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стность                                                       4,3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брота                   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кость                                                         3,6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раведливость                                             3,9                                                  4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рпение                                                         3,9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едний балл                                                 4,0                                                  3,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07-08 уч. год                                              3,9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ыво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Родители удовлетворены работой школы по формированию у детей поведенческих, морально-психологических качеств (уровень удовлетворённости – более 3 балл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Цветограмма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685800" y="1828800"/>
          <a:ext cx="7696080" cy="116856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актуаль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новизн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полез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интерес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3" name="Rectangle 25"/>
          <p:cNvSpPr/>
          <p:nvPr/>
        </p:nvSpPr>
        <p:spPr>
          <a:xfrm>
            <a:off x="611280" y="335592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ждая группа должна оценить все параметры и закрасить графу цветным карандашо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расный – высо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иний – средня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елёный – низ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Реш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Принять выработанные принципы эффективного взаимодействия семьи и школы в деятельности по развитию личности ребенка за основу в своей деятельности каждому учител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Продолжать проводить внеклассные и общешкольные мероприятия с участием родителей: родительские собрания, деловые игры, конкурсно-игровые программы и т. п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Создать копилку передовых педагогических находок в работе с родител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едсовета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: поиск оптимальных форм совместной работы школы и семьи в деятельности по развитию ребёнк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ить основные проблемы во взаимодействии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общить и систематизировать теоретические сведения о формах и принципах взаимодействия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аботать принципы эффективного взаимодействия семьи и шко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-46296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ть взаимодействия семьи и школы заключается в заинтересованности обеих сторон в изучении личности ребенка, раскрытии и развитии скрытого в нем потенциала. В основе такого взаимодействия лежат принципы взаимного доверия и уважения, взаимной поддержки и помощи, терпения и терпимости по отношению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руг к другу</a:t>
            </a:r>
            <a:r>
              <a:rPr b="0" lang="ru-RU" sz="3200" spc="-1" strike="noStrike">
                <a:solidFill>
                  <a:srgbClr val="703d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Что Вы ждёте от родителей своего класса? (опрос классных руководителе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заимопомощи, взаимопонимания в вопросах воспитания и обучения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вместной работы над вопросами успеваемости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явления интереса к успехам и неудачам ребён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ветственности за воспитание своих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мощи в организации внеклассных мероприят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ак Вы думаете, что родители ждут от Вас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раведливо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бро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уткого, понимающе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ственного, добросовестного отношения к своим обязаннос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держки дет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орошего качества зна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больше времени проводили с деть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заставили и научили детей учитьс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ть « второй мамой» со всеми прилагающими обязанностями (чтобы учителя полностью изолировали родителей от воспитания детей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еоретическая часть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семьи в формировании нравственно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классного руководителя во взаимодействии семьи и школ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ИТУАЦИЯ 1 (работа в группах, обсуждение ситуаций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386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участники: учительница, мать, сын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Мама пришла в школу по вызову учител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Здравствуйте, М. И., получила Вашу записку.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енику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у, рассказывай маме,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молчи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молчишь? Рассказывай маме, как ты ведешь себя на уроках? За что тебя выгнали с ИЗО? Какую оценку ты получил сегодня по русскому язык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я не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. Ну как тебе не стыдно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это не я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Сколько можно с гобой разговаривать на эту тем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И ведь никаких слов не понимает. Все учителя на него жалуют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ты голову опустил? За свои поступки отвечать надо. Отвечай, сколько ты еще нервы мои трепать будешь? Что молчишь? Как ты намерен себя дальше вести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ишел в школу, будь добр, учись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ителю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к с ним еще бороться, ума не приложу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аверное, витамин “Р” давно не прописывал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у все. Мое терпение закончилось, пусть с тобой теперь отец разговаривает. Он из тебя дурь-то выбье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6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2</a:t>
            </a:r>
            <a:br>
              <a:rPr sz="1900"/>
            </a:b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39640" y="765000"/>
            <a:ext cx="77774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ительница вызвала в школу маму Саши. Разговор состоялся в учительской во время перем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совершенно перестали следить за сыно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 есть, как перестала следить? Дневник, тетради проверяю, по-моему, он приходит всегда в школу чист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раздраженно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что же выходит: я вам лгу, и от нечего делать вызвала вас в школу?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собственно, что натворил сын? Он вообще мне все рассказыв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н дерзит учителям, срывает уроки. Вот вчера безобразничал на уроке черчения, на литературе стрелял из рогатки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знаете, К. М., дома он мне не дерз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у, знаете, мне лучше знать, как ваш сын ведет себя в школе. А если вы мне не верите, тогда мы с вами будем разговаривать в другом месте в присутствии админист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меня не пугайте этим. Саша ведет себя плохо на тех уроках, где неинтересно. Все ребята рассказывают, что на уроках черчения они ходят на головах, по литературе у них уже второй месяц пег постоянного учителя. А по географии у Саши у нового учителя одни двойки стоят. Сын говорит, что все их поставили не за знания, а за поведение – разве это справедливо? В прошлом году он у Л. И. по географии отличником был, в районной олимпиаде участвовал. А новый учитель к нему подхода не нашел, вот Саша и возненавидел географию! Так что наведите сначала у себя поряд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вы нам не делайте замечаний, лучше сына воспитывайт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не грозите мне администрацией, я тоже могу пожаловаться на в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таком случае мне с вами больше не о чем разговаривать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отворачиваетс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ход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у и мамочка! Докажите ей что-нибуд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4:35:32Z</dcterms:created>
  <dc:creator>1</dc:creator>
  <dc:description/>
  <dc:language>en-US</dc:language>
  <cp:lastModifiedBy>SUOMI</cp:lastModifiedBy>
  <dcterms:modified xsi:type="dcterms:W3CDTF">2014-11-14T11:42:57Z</dcterms:modified>
  <cp:revision>14</cp:revision>
  <dc:subject/>
  <dc:title>«Роль семьи и школы в          развитии морального              самосознания  обучающихся». </dc:title>
</cp:coreProperties>
</file>