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1E56-F631-4A91-8829-484B61D6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8660-5092-41D0-A18C-E778BB89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90CE-4CA9-4582-BC59-D34822ECC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0509-984E-4C58-8D44-636ECEC1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493D-33BD-413F-959C-69075B74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96C3-F233-4670-A881-6E26CC4A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B8CA-258D-4DC0-AEC8-6DA00C09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34EB-6099-4D85-AB99-1E5CAA34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DEB1-C92E-41EB-8A54-B90C05B9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639F-D52A-4E68-A021-CFD5CDD9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EFC8-3079-4A1C-B0B3-B20F335D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6A97-1AE6-4524-89FF-C89DE873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F44D-9508-481D-9E9D-DA3FD6E06E99}" type="slidenum">
              <a:rPr b="0" lang="ru-R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етодический ден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5 апреля 200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ОУ «СОШ № 13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и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ради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блем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ектив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модуль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гровая технолог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форма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доровьесберегающи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ст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развивающего обучения («Школа 2100»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Новая система  в образовании предполагает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Традиционные способы информации – устная и письменная речь, телефонная и радиосвязь уступают место компьютерным средствам обучения, использованию телекоммуникационных сетей глобального масштаб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Особая роль отводится духовному воспитанию личности, становлению нравственного облика ЧЕЛОВЕК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Намечается дальнейшая интеграция образовательных факторов: школы, семьи, микро – и макросоциум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Увеличивается роль науки в создании педагогических технологий, адекватных уровню общественного знания. В психолого-педагогическом плане основные тенденции совершенствования образовательных технологий характеризуются переходом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учения как функции запоминания к учению как процессу умственного развития, позволяющему использовать усвоенное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чисто ассоциативной, статической модели знаний к динамически структурированным системам умственных действий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ориентации на усредненного ученика к дифференцированным и индивидуализированным программам обучения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внешней мотивации учения к внутренней нравственно – волевой регуляци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 учителями школы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009 г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8840" y="1341360"/>
            <a:ext cx="3809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.Повышается уровень мотивации уче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2.Кажый ребенок обучается на уровне его возможностей и способносте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3.Сильные учащиеся утверждаются в своих способностях, слабые – получают возможность испытывать учебный успе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27240" y="2011320"/>
            <a:ext cx="3490920" cy="3444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Игр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Формирование у учащихся интереса к учебной деятельности, удовлетворение потребности личности в самовыражении, самоутверждении. Расширение кругозора, развитие познавательной деятельности, формирование определенных умений и навыков, развитие общеучебных умений и навы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27640" y="4653000"/>
            <a:ext cx="2592360" cy="2016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3811320"/>
            <a:ext cx="77724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Научно – исследовательски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3816360" cy="2809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20000" y="4869000"/>
            <a:ext cx="1800000" cy="160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ая технология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00280"/>
            <a:ext cx="7772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проек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Формирование навыков проектной деятельности(знание алгоритма составления проектов). Работа по данной методике дает возможность развивать индивидуальные творческие способности учащихся, более осознанно подходить к профессиональному и социальному самоопределени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роектировани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создание субъектом модели предстоящей деятельности, включающей представление о стадиях, этапах целенаправленного изменения объекта от исходного состояния к желаемом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bd189"/>
                </a:solidFill>
                <a:latin typeface="Arial"/>
              </a:rPr>
              <a:t>Этапы процесса проектирования</a:t>
            </a:r>
            <a:endParaRPr b="0" lang="en-US" sz="41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Модел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Разработка целей (общей идеи) создания систем, процессов или ситуаций и основных путей их достиж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Проект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альнейшая разработка модели и доведение ее до уровня практического использов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Констру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етализация созданного проекта для применения в конкретных условиях реальными участниками отношений и деятельн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88600" y="352440"/>
            <a:ext cx="7347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труктура проекта включает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пределение темы, цели, задач и актуальности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учно-методическое обоснование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жидаемые результаты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механизмы выполнения проекта; исполнители, взаимодействия между ним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программа выполнения работ по проекту (описание этапов, используемых методов и способов решения, планируемые сроки выполнения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Без стремления к научной работе учитель попадает во власть трех демонов: механичности, рутинности, банальности. Он деревенеет, каменеет, опускает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Адольф Дистервег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работе учителей вызывают затруднения такие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педагогические технологии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ровневой дифференциации, личностно-ориентированного обучения, модульного обучения,, технология проектов, групповые технологии, научно-исследовательские, информационны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атруднения могут быть определе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ой осведомленностью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чителей о существовании указанных технологий и их сущности. Кроме того, такие затруднения могут быть вызва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им техническим обеспечение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для проведения определенных технолог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 algn="just">
              <a:lnSpc>
                <a:spcPct val="80000"/>
              </a:lnSpc>
              <a:spcBef>
                <a:spcPts val="499"/>
              </a:spcBef>
              <a:spcAft>
                <a:spcPts val="17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учащихся работать с информаци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Развитие коммуникативных способност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принимать оптимальные реше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зменение и неограниченное обогащение содержания образова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спользование интегрированных курсов, доступ в интерне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6720" y="1776240"/>
            <a:ext cx="3745080" cy="388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69840" y="0"/>
            <a:ext cx="69840" cy="1809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ВОСПИТАТЕЛЬНЫ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2000" y="3284640"/>
            <a:ext cx="3672000" cy="264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53600" y="1614960"/>
            <a:ext cx="4700160" cy="41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ОЛОГИЯ КОЛЛЕКТИВНОЙ ТВОРЧЕСКОЙ ДЕЯТЕЛЬНОСТИ И.П.ИВАНОВА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ПЕДАГОГИЧЕСКОЙ ПОДДЕРЖК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ВОСПИТАНИЯ В ПРОЦЕССЕ ОБУЧЕН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ОРГАНИЗАЦИИ САМОВОСПИТАНИЯ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ЗДОРОВЬЕСБЕРЕГАЮЩИЕ ТЕХНОЛОГИ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ПРОЕКТНАЯ ТЕХНОЛОГ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технология личностно-ориентированного воспитания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74680" y="3500280"/>
            <a:ext cx="624492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КТД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ллективное творческое дел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509112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14560" y="352440"/>
            <a:ext cx="7676640" cy="8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ллективное творческое дело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560" y="1341360"/>
            <a:ext cx="7859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оспитательная технология, основанная  на проведении и подготовке любого мероприятия по принципам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оллективности (все решения принимаются  и осуществляются совместно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ктивного личностного участия (каждый имеет попробовать себя в каждом дел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рческого подход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Основная воспитательная задача – развитие личностных качест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руктура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целеполаг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планиров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ая подготов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ведение дел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ый анализ по итогам (рефлексия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ррек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d189"/>
                </a:solidFill>
                <a:latin typeface="Times New Roman"/>
              </a:rPr>
              <a:t>Сравнительная таблица: </a:t>
            </a:r>
            <a:br>
              <a:rPr sz="2000"/>
            </a:b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0" lang="ru-RU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КТД классическое и КТД личностно-ориентированное»</a:t>
            </a: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557360"/>
          <a:ext cx="8507520" cy="5068440"/>
        </p:xfrm>
        <a:graphic>
          <a:graphicData uri="http://schemas.openxmlformats.org/drawingml/2006/table">
            <a:tbl>
              <a:tblPr/>
              <a:tblGrid>
                <a:gridCol w="1738440"/>
                <a:gridCol w="3168360"/>
                <a:gridCol w="3600720"/>
              </a:tblGrid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по модел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ванова И.П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личностно-ориентированно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целеполаг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еализация общественно-значимых задач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ри выбор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ело как реализация задач личностного развит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ланиров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е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вторство иде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дивидуальное авторство идей, умение представлять их в групп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ая подготовк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й работ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принятие решений на добровольной основе и развитие творческих стратегий каждо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роведени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олько командное учас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гласованность индивидуальной деятельности с группово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ый анализ по итога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группового участия в организации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личностного участия, оценка своего потенциал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bd189"/>
                </a:solidFill>
                <a:latin typeface="Times New Roman"/>
              </a:rPr>
              <a:t>Механизм разработки коллективного творческого дел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013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Определение цели. Мобилизация ресур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едставление советом основной идеи дела. Коллективное обсуждение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Разработка плана с указанием конкретных исполнителей и срок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Контроль за выполнением плана(руководитель совета дела)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оведение дела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Анализ КТД(сбор, анкетирование, стенгазеты, линейки и т.д.). Внесение изменений в чередующиеся творческие задания. Планирование нового КТД.      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Метод «Мозгового штурма»( «мозговой атаки», коллективной генерации идей)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096920"/>
            <a:ext cx="7475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метод, позволяющий при минимальных затратах времени найти множество решений, выдвигаемых участниками спонтанно, для поставленной проблем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ан А. Осборном в 1953 г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bd189"/>
                </a:solidFill>
                <a:uFillTx/>
                <a:latin typeface="Arial"/>
              </a:rPr>
              <a:t>Правила проведения</a:t>
            </a: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уществует запрет на критику идей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Идеи оцениваются после штурм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 первую очередь приветствуются идеи оригинальные, высказанные экспромто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Предпочтения отдаются комбинированным и усовершенствованным идея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сказанные идеи не имеют авторов, так как идея могла ранее «мысленно принадлежать» любому из участни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накомство с инновационными технологиям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ышение качества проведения учебных занятий на основе внедрения новых технолог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явление, обобщение и распространение опыта творчески работающих учител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"/>
                            </p:stCondLst>
                            <p:childTnLst>
                              <p:par>
                                <p:cTn id="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Формы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портив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Познав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бществен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Эстетически-развлек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18000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32000" y="4581360"/>
            <a:ext cx="1819080" cy="1533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Механизм анализа КТД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2000" spc="-1" strike="noStrike">
                <a:solidFill>
                  <a:srgbClr val="000054"/>
                </a:solidFill>
                <a:latin typeface="Arial"/>
              </a:rPr>
              <a:t>(акцент на рефлексию воспитанником собственной деятельности)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0000" y="1883880"/>
            <a:ext cx="36720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следовательность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вым дает анализ и оценку дела участник КТД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тем – участники групп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вершают анализ педагог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05480" y="1827360"/>
            <a:ext cx="42876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мерные вопросы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хорошего удалос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к это меня лично продвинуло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получила творческая группа? Каковы основные результаты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мне следует изменит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желания все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делать дальше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673280" y="416160"/>
            <a:ext cx="6830640" cy="97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Основные условия воспитательной результативности КТД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1640" y="1628280"/>
            <a:ext cx="74851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жизненно-практической  и воспитательной направлен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Творческий характер каждого дела: поиск лучших решений жизненно важной задачи на всех стадиях организац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отдельных стадий организации каждого дела: стадии предварительной работы, коллективного планирования, подготовки, проведения, подведения итогов и ближайшего последействия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основе представленных на педсовете материалов можно утверждать, что эффективность педагогического труда неразрывно связана с работой по созданию новой образовательной среды, основными принципами которой становятся субъект – субъектные отношения педагога и учащихся в учебном процессе. С целью успешного продолжения работы педсовет выносит решение: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Решение педсовета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.Запланировать и провести семинар по теме «Здоровьесберегающие технологии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2.Организовать в рамках школы передового опыта систему открытых уроков по теме «Внедрение инновационных технологий в учебно-воспитательный процесс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3.На ШМО изучить ресурсные возможности внедрения в практику работы инновационных технологий с целью совершенствования педагогической деятельнос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4. В учебной деятельности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местить акценты в методиках и технологиях образовательной деятельности в сторону формирования оптимальных способов самостоятельной деятельности школьников. Формировать у них практические навыки самообраз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величить время на самостоятельную работу(проектирование, исследовательская и экспериментальная деятельность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силить дифференциацию и индивидуализацию образовательного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пасибо за сотрудничество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План проведения методического дн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е уроки: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1.Баландина И.С. -7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2.Кудрявцева Ю.В. – 6а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3.Молодецкая Д.А.- 8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й классный час – 8классы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Педсовет – подведение итогов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Технология обучен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(педагогическая технология) – новое (с 50-х годов) направление в педагогической науке, которое занимается конструированием оптимальных обучающих систем, проектированием учебных процес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разовательная технолог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– это процессная система совместной деятельности учащихся и учителя по проектированию, организации, ориентированию и корректированию образовательного процесса с целью достижения конкретного результата при обеспечении комфортных условий участникам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33920" y="2819520"/>
            <a:ext cx="2361960" cy="1066680"/>
          </a:xfrm>
          <a:prstGeom prst="roundRect">
            <a:avLst>
              <a:gd name="adj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Педагогическа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технолог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04920"/>
            <a:ext cx="3200400" cy="1600200"/>
          </a:xfrm>
          <a:prstGeom prst="wedgeRoundRectCallout">
            <a:avLst>
              <a:gd name="adj1" fmla="val 36310"/>
              <a:gd name="adj2" fmla="val 9811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М.В. Клари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ая совокупность и порядок функционирования всех личностных, инструментальных и методических средств, используемых для достижения педагогических целей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981080"/>
            <a:ext cx="2362320" cy="2895840"/>
          </a:xfrm>
          <a:prstGeom prst="wedgeRoundRectCallout">
            <a:avLst>
              <a:gd name="adj1" fmla="val 68347"/>
              <a:gd name="adj2" fmla="val -13046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Г.Ю. Ксенозова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Такое построение деятельности педагога, в котором все входящие в него действия представлены в определенной целостности и последовательности, а выполнение предполагает достижение необходимого результата и имеет вероятностный прогнозируемый характер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029200"/>
            <a:ext cx="3124440" cy="1600200"/>
          </a:xfrm>
          <a:prstGeom prst="wedgeRoundRectCallout">
            <a:avLst>
              <a:gd name="adj1" fmla="val 67379"/>
              <a:gd name="adj2" fmla="val -112898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П. Беспаль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овокупность средств и методов воспроизведения процессов обучения и воспитания, позволяющих успешно реализовать поставленные образовательные цели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228600"/>
            <a:ext cx="3810240" cy="1828800"/>
          </a:xfrm>
          <a:prstGeom prst="wedgeRoundRectCallout">
            <a:avLst>
              <a:gd name="adj1" fmla="val -33500"/>
              <a:gd name="adj2" fmla="val 86893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М. Монахо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Продуманная во всех деталях модель педагогической деятельности, включающей в себя проектирование, организацию и проведение учебного процесса с безусловным обеспечением комфортных условий для учащихся и учител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286000"/>
            <a:ext cx="2286000" cy="2971800"/>
          </a:xfrm>
          <a:prstGeom prst="wedgeRoundRectCallout">
            <a:avLst>
              <a:gd name="adj1" fmla="val -70000"/>
              <a:gd name="adj2" fmla="val -17041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В. Гузее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Это упорядоченная совокупность действий, операций и процедур, инструментально обеспечивающих достижения прогнозируемого результата в изменяющихся условиях образовательно-воспитательного процесса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5410080"/>
            <a:ext cx="4038480" cy="1447920"/>
          </a:xfrm>
          <a:prstGeom prst="wedgeRoundRectCallout">
            <a:avLst>
              <a:gd name="adj1" fmla="val -37615"/>
              <a:gd name="adj2" fmla="val -15449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ЮНЕС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ый метод создания, применения и определения всего процесса преподавания и усвоения, ставящий своей задачей оптимизацию форм образовани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щепедагогическая технолог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характеризует целостный образовательный процесс в данном учебном заведении, регионе. В этом случае педагогическая технология отражает комплексную педагогическую систему: в нее включается совокупность целей, содержания, средств и методов управления, алгоритм деятельности субъектов и объектов процесс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 </a:t>
            </a: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частнометодическо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(предметном) уровне педагогическая технология охватывает отдельные направления, аспекты педагогической системы, соответствующие, например, частным методикам, то есть совокупности методов и средств для реализации определенного содержания обучения и воспитания в рамках одного предмета, класса, учителя (методики преподавания предметов, методика компенсирующего обучения, методика работы руководителя, учителя, воспитателя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Локально-модульный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уровень технологии относится к отдельным частям учебно-воспитательного процесса: технология отдельных видов деятельности, технология формирования понятий, воспитания отдельных личностных качеств, технология урока, отдельных мероприятий, технология усвоения новых знаний, технология повторения и контроля материала, технология самостоятельной работы и др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лебова Н.Н.</cp:lastModifiedBy>
  <dcterms:modified xsi:type="dcterms:W3CDTF">2009-04-14T10:38:42Z</dcterms:modified>
  <cp:revision>22</cp:revision>
  <dc:subject/>
  <dc:title>PowerPoint Presentation</dc:title>
</cp:coreProperties>
</file>