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85161-6C57-4376-B308-7F7205D822C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C93D3-6C08-45CD-A391-F81D2C8FEF19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64894-800E-422D-8A9C-AB6A7854BC68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A1AF9-D7D2-4A64-8332-18446250BE6B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3DE1F-2CFF-4DF7-B11F-26850C4C4288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0B661-F9BD-4636-B25E-2E75F735DEC7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0A0CE-7678-4DCA-82A4-457DDFDDC645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1EA5C-AE3C-4551-BC6F-D94B85CFD5DB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07FAE-7612-44EB-844A-F9AE823E9FB9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370A5-D317-45E9-A889-7FA9B4247F4E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85ABA-375C-450D-935D-494DFA5CAD7A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7EB71-06EA-421C-A61F-38C2319D81C8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78C4E-D322-47F7-A939-BD5C4B8C464F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7AE47-73F8-4427-9492-89102EAEC6E3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6F372-B88E-4C32-A8D9-35A65D8D52B6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BE2DD-3F86-4975-B5EA-D69091048B22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91530-3D29-40E5-A3AD-D89D7B0F9023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4CF28-377C-4391-9E0B-0DCBBBB821DC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4DB95-82F2-4CF8-A5AB-E180AACE55E8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8E7CB-D4AE-41D8-A885-32D9EA8077AB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70FBB-EEF6-4F4A-B7D6-FC31B4B88382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86B3B-DA99-450D-A91E-A71E81D6677B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E5BB5-6279-4755-B835-314D89F9688A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7D6F6-B653-4633-BC74-92ABAC1A514D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5399C-EBA6-4113-9240-1C139A219C0E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0140F-F6EF-4D11-80E3-ABEF90006D71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6529A-F5FF-45B6-A7BA-9ABFD346A63C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85A9A-10A5-46D2-B8A1-9251E42E5F7F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AA1B-C9C2-4730-BB89-E70C95A83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4025-D57E-407C-ACF0-9B011EEF4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3A5992-CE79-4459-AD9A-48E2DE10A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BE81E8-617A-49CE-BD5D-8336F5067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A1D92A-B3C0-430E-B572-A355DF992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F40135-BE12-4ED9-A901-4A0A06E7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03EDE4-1E63-4094-A9A3-DEB47D14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5AEA6A-EC5E-4C9F-9D9A-D9E8BBA88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AA5E74-0628-44A2-BD73-E43D0E064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9E3863-1652-4843-A739-D4236AB91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7DCAB1-18F8-4926-9AAF-E925A4462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B637D0-3367-4544-A4E9-6ACB91DE2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EA0A-59CE-47E0-B82B-F173CF428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E28484-F6BD-4C5B-8F25-59F91EE4C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401205-4BDD-4244-806D-ECDE95893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7C7E41-4AD5-4B8B-A64B-98921C5AD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72C6D9-FF2C-4FEC-987C-F9041D1CA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9E2D5F-2068-42C1-9233-D708F3EDA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DD1A4B-954B-4D93-B8E7-974AC72CE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B1B6E8-98A2-4BB7-9D2B-8D8DBB776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FC33D7-93A5-4531-90F8-24C972A67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9B35B5-4C99-43FA-9ABF-DB06E36AF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C6CBC1-9CA5-48E7-8D10-ED0C2F266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7C44-55CA-427C-8D85-62CC365C7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9E261C-F333-46A0-AD74-FD5F9EECC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FBE886-602D-4868-8CAF-EF012A859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61AC4D-15F3-4B15-B56E-58672DF39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F97AEC-5152-4930-8456-08AC45319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220F44-CC0D-41F2-B311-DA6DC1F52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A599E1-65BE-43DE-93C1-96F041E6C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847852-3D66-45A7-B5EA-6F3168CAD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F61127-DF40-44E0-AABA-56EDE3D87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5A4D72-05ED-4B08-98BB-3D9EF47B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37A3ED-AD03-4092-A968-51C9153DA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3B261-8163-429C-BFBB-DFC5761E6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D395C6-D105-40F6-A26F-377570E5F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73DFAC-C459-4190-8B3F-334E8A250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DAB924-FA85-4DD0-B9D6-BB0310AE3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76C8A3-D2F5-4178-AD51-74950EDFF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7C8DDE-B421-4602-847D-F6C9B8E34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7983CC-B9DF-4F7C-AC92-E7E500497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03B115-AE0A-445C-9BCD-5AB8ABCCA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430CFE-071B-4751-B986-51ABA3DF4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6ED666-DABE-40C3-9A38-110AD9BE6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7CB65B-C93C-40C1-A43E-2C7F1A8C1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CA06C-D052-4476-B2DC-6A45926C8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D42C03-AF7F-4D9F-AA0E-9E435A8DC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6F2FA7-8A8D-4639-9BEE-EF1B80D2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568265-247B-4301-B0A2-190ECBEFC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A6BB8A-E183-44F1-843E-75261E7EF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948208-7A1A-4A03-9069-6AA549120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DE270-B159-4D50-B5E4-BF39587B6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8DA86-8C3D-4DC7-A2FF-38ADCBDFA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48E54-3A7E-45E8-B9BC-69CFC9CB1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79C28-4C66-48BA-96D0-D63BE16F9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83F44-ACCF-4805-A4E1-36BF3FE6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5169-5078-48BA-BF13-620458072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B882D-65C1-499B-8AC1-AF1363BD3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C3AA0-5D3B-4A80-BADC-E73CAEC4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322D9-B25B-48EC-9939-9A7CCA161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F4204-DE54-420D-A022-15D11D4F5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0563D-D2B2-4931-81D5-9600529DA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0D3E4-B740-43C2-A622-AC3B20BF7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4EBEC-DC0E-476B-A212-4E45A7E7F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FE7E9-32EF-4156-AE21-9A9A6B1A0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BC3A1-4AC2-4073-843E-4BC048BF4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13A67-BAD1-4F88-9C75-D4C8B976F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FB31-D666-4691-89F5-1BA078A9D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36A50-B9D9-4ACA-85DB-F583E981F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4E5D0-515C-4CE9-86DE-2AAC8CADE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151AA-72C6-483A-8170-5CA526A2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705FC-6BFD-4929-9A11-3A56745D1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BC446-79CD-4212-AABF-B57562D3C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A53B7-7138-4A6C-81CC-08A023366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24179-E8E9-4DBB-A3AF-D0B4C7174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74984-9194-43BB-A156-043CC743E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35176-ED4B-4B8C-BF2A-029DD93F6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7FC41-D5E9-41FB-8D15-4DD936780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1641-4C8F-404F-B681-A1C92F29E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B39B2-2392-45F9-A41A-51893A5B7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9EFCB-2E17-4828-BA01-D31AC1EFD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B9B2F-00BF-42F7-A1BE-A91F02DB7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9D78D-CD4D-4430-A836-E51B5BFF8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9614C-E481-4C2F-A908-A20E53C9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9B216-389F-4A67-9332-12BA6B06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1F54B-0E04-4DAD-BCD1-BEAEF95CE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0DDF2-28C2-4DEC-A6E9-B15A682AE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1FB36-7250-4649-B7A4-10686FBF6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CA90D0-B097-4302-AA36-5CCBF0EE6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3E9E-7135-488D-B5FC-0457B68BC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AD7945-18BE-4366-AFFA-C0FD046AD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963B2-907D-4CAD-B034-609E53CAB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BE3EBF-D885-4514-AEB4-503F67145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00B62B-EA72-4256-B51B-9929AB3B5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C16AD2-7F1B-492F-BD22-A21D81CB9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F1CBBF-A99D-467F-9F94-201244F82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2B3FE-B782-48A1-954C-E3527092E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5BF1F-2DF6-42BA-BA32-28C0CA032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EAAAE-CC23-4ECC-92E5-08A8C5AE1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A6B9B4-68DA-41FE-A26E-C4D9D99B8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E894-632B-4E15-B4D5-4BA6A9218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780479-C703-4384-8A6D-EB8F769E3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57E340-3F2F-4B62-95B0-5BABB9020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418142-13E5-4509-ACF6-06324721B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5F3860-193D-41C9-8621-E82A310A1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C440F3-081D-4D14-9AE4-21FDF36F6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1E69ED-C554-4363-9AAF-F08E129D2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FBEB81-7F36-43F7-A4E2-6BD1C5C60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9CC1FE-ECB7-40D0-9F4A-B06C46B20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BD17C3-A962-4998-A1F0-7F1C2E0DD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5A6E5-49FE-4AB0-A128-446881575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58C9-8002-435F-B7F2-BD582A19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693C3F-6E0C-4D1D-8F68-1106EC9DF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6C531B-8E92-476E-910F-4B09B27DF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D8784B-3623-49BF-94E9-60ACBED43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020115-5E48-49D0-A52F-4323181EC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DB4D3B-4714-4E01-855B-4614FEFFB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66FA84-63CA-431D-8152-6BDF08799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EC15C3-6D9F-434B-A3CE-10A12402A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77DB1B-8816-465A-BCE7-B4EDDE5FD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F0CFEF-8A48-4280-9E92-597E772B0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95E6A3-253D-4535-A71D-2DFA7A8D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DEAC-E89C-445D-BEB6-AE4BD6B5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26EE5F-32D9-41B6-AEDA-B0EB58026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FEE67F-3B62-4D43-8B76-FF06B4BE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323166-3192-4CC7-989B-C8EABF810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0B393F-C7FD-445B-9047-821A8BDD2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A97DD0-15F3-497B-A6B7-83FB26889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B9D6E9-A814-4C4A-90A5-9471E20E5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A0BE6B-7670-4746-B8D9-FBC368496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D8839D-ADE2-41D9-8FC6-624F6E50F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A88F0E-BBF3-44F3-8635-1C6EEBA83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B00A18-AD6C-4EED-864B-EAF9C9132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E09D-1636-413E-A12D-2C7AB399B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BECAC0-3319-4C82-9FF0-13C1406E4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86DE61-9771-4A1B-8A10-28DF4496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780A7F-4685-4623-9C96-7FBCC427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A3BD5B-9476-494D-8133-E5CA257E7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25733A-E870-4F22-BC20-751DC4D15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20DFDF-800B-4B6C-B9F5-E002C4518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2418B6-7A39-414C-A541-0BEBC4E2D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7B5B0B-7308-4AE3-9287-D9A630156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6B6291-1B17-4A2D-B9D7-DEB919546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215AED-891F-4AEE-A3EB-F455FF1F8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73.xml"/><Relationship Id="rId35" Type="http://schemas.openxmlformats.org/officeDocument/2006/relationships/slideLayout" Target="../slideLayouts/slideLayout74.xml"/><Relationship Id="rId36" Type="http://schemas.openxmlformats.org/officeDocument/2006/relationships/slideLayout" Target="../slideLayouts/slideLayout75.xml"/><Relationship Id="rId37" Type="http://schemas.openxmlformats.org/officeDocument/2006/relationships/slideLayout" Target="../slideLayouts/slideLayout76.xml"/><Relationship Id="rId38" Type="http://schemas.openxmlformats.org/officeDocument/2006/relationships/slideLayout" Target="../slideLayouts/slideLayout77.xml"/><Relationship Id="rId39" Type="http://schemas.openxmlformats.org/officeDocument/2006/relationships/slideLayout" Target="../slideLayouts/slideLayout78.xml"/><Relationship Id="rId40" Type="http://schemas.openxmlformats.org/officeDocument/2006/relationships/slideLayout" Target="../slideLayouts/slideLayout79.xml"/><Relationship Id="rId41" Type="http://schemas.openxmlformats.org/officeDocument/2006/relationships/slideLayout" Target="../slideLayouts/slideLayout80.xml"/><Relationship Id="rId42" Type="http://schemas.openxmlformats.org/officeDocument/2006/relationships/slideLayout" Target="../slideLayouts/slideLayout81.xml"/><Relationship Id="rId43" Type="http://schemas.openxmlformats.org/officeDocument/2006/relationships/slideLayout" Target="../slideLayouts/slideLayout82.xml"/><Relationship Id="rId44" Type="http://schemas.openxmlformats.org/officeDocument/2006/relationships/slideLayout" Target="../slideLayouts/slideLayout83.xml"/><Relationship Id="rId4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5F305-BF24-49DA-AB3A-25EDDE7851B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54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54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55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55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5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5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5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5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grpSp>
        <p:nvGrpSpPr>
          <p:cNvPr id="55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55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56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56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6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6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6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6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56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DDF41-ACA0-4AC3-83F5-E20BD6849E2A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1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612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613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14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615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616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17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sp>
          <p:nvSpPr>
            <p:cNvPr id="618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19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0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dt" idx="31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 type="ftr" idx="3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 type="sldNum" idx="3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26A6D-FEE7-4D07-AD97-FA401F83F614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 type="dt" idx="3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50D9A-CACB-4720-85FC-E08C348AC9A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AD632-B043-4925-9386-21B56C3F75F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2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7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8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9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2CC2B-B217-44A2-8884-CEE651FA31B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5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6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7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06DB1-5A94-4133-B88B-63BAC86939E4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19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9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20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0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21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1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1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2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222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23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2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225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26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7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8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9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2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7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3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14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1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A5D95-5DE1-4C89-BC51-E9EC46EFC11F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320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pic>
          <p:nvPicPr>
            <p:cNvPr id="321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16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18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57497-4C07-4F6E-B708-709AAF747D5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364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5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6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367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368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369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370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371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2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3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79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0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1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2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3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4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5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6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87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388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9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0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1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2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3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4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5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6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7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8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9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0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1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2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3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4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5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6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07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8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9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0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1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2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3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4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5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6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7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1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2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AD1DC-B412-4F08-9FD7-0D143460700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4"/>
    <p:sldLayoutId id="2147483728" r:id="rId35"/>
    <p:sldLayoutId id="2147483729" r:id="rId36"/>
    <p:sldLayoutId id="2147483730" r:id="rId37"/>
    <p:sldLayoutId id="2147483731" r:id="rId38"/>
    <p:sldLayoutId id="2147483732" r:id="rId39"/>
    <p:sldLayoutId id="2147483733" r:id="rId40"/>
    <p:sldLayoutId id="2147483734" r:id="rId41"/>
    <p:sldLayoutId id="2147483735" r:id="rId42"/>
    <p:sldLayoutId id="2147483736" r:id="rId43"/>
    <p:sldLayoutId id="2147483737" r:id="rId44"/>
    <p:sldLayoutId id="2147483738" r:id="rId4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0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2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77E3C-C5C1-479D-88DD-F924FE872DE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3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4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5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dt" idx="25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ftr" idx="26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sldNum" idx="27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33B69-F4C3-450F-AAC5-E12C0A24818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6966000" cy="38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«Роль семьи и школы в          развитии морального              самосознания  обучающихся».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1979280" y="4941720"/>
            <a:ext cx="410508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январь 2014 год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СИТУАЦИЯ 3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Мама ученика 7 класса пришла за консультацией к классному руководителю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У моего сына в этом году вдруг стала заметно проявляться агрессивность по отношению к младшему брату, но и не только к нему, а и к своим друзьям. Ему хочется, как мне кажется, быть лидером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аблюдаем с отцом, что агрессивность в отдельных случаях проявляется и в отношениях с нами. Мы считаем, что семья у нас благополучная, все вопросы решаем между собой и с детьми спокойно, доброжелательно. В чем причина такого поведения сына, не знаем. Помогит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4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Ситуация 4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читель: Я вызвала Вас обсудить поведение Вашего сына. На школьной дискотеке он был замечен в нетрезвом вид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ать: Не может быть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едложите разные варианты продолжения беседы и её результаты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33"/>
                </a:solidFill>
                <a:latin typeface="Garamond"/>
              </a:rPr>
              <a:t>Ситуация 5</a:t>
            </a: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читель: Наталья Викторовна давайте поговорим о внешнем виде Вашей дочер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ать: Вы считаете, что внешний вид Татьяны не приемлем для школы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читель: Конечно.  Её внешний вид не соотносится с образом школьницы:пирсинг, которым она украсила лицо, блузки, которые не могут прикрыть определённые части тел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ать: А я считаю, что это очень стильно. Сейчас вся молодёжь придерживается такого имиджа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одолжите разговор с матерью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Правила эффективного взаимодействия 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                        классного руководителя с родителями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837720" y="1915920"/>
            <a:ext cx="80074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дителям нужна поддержка, помощь и добрый совет. Если вы ими располагаете, создайте необходимые условия для общени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 беседуйте с родителями второпях, на бегу; если вы не располагаете временем, лучше договориться о встрече в другой раз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говаривайте с родителями спокойным тоном, не старайтесь назидать и поучать – это вызывает раздражение и негативную реакцию со стороны родителе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мейте терпеливо слушать родителей, давайте возможность высказаться  по всем наболевшим вопроса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 спешите с выводами! Обдумайте хорошо то, что вы услышали от родителе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о, о чём родители вам поведали, не должно стать достоянием других родителей, учащихся и педагого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есть профессиональная необходимость поделиться той информацией, которую сообщили родители, ещё с кем-то – родителей необходимо поставить об этом в известность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08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Правила эффективного взаимодействия 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                        классного руководителя с родителями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.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900000" y="1341000"/>
            <a:ext cx="778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отовясь к встрече с семьёй учащегося, необходимо помнить, что любой родитель хочет услышать не только плохое, но и хорошее. Не следует начинать разговор со следующих фраз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У вашего ребёнка совсем плохи дела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Ваш ребёнок совсем перестал учиться, ничего не делает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Вы задумайтесь, скоро экзамены, а ваш, ведь, не сдаст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ред началом разговора поблагодарите родителя за то,    что пришёл.                                 Выразите надежду, что совместными усилиями удастся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правиться с    возникшими трудностями. А потом уже излагайте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итуацию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разговоре уместны следующие высказывания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Я понимаю, что трудно…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Я сама мама и знаю…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Это же Ваш ребёнок, никто не знает его лучше, чем В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икто не сможет помочь Вашему ребёнку, лучше, чем В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едложите родителям варианты решения проблемы и обсудите их все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ести беседу необходимо в направлении поиска путей решения проблемы, преодоления трудностей, т.е. не обсуждать, кто  виноват, а решать, что делать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ждая встреча с семьёй учащегося должна заканчиватьс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конструктивными рекомендациями для родителей и самого учащегося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7477200" cy="75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абота в группах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182600" y="2111400"/>
            <a:ext cx="777240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дложите эффективные методы групповой работы с родителями и докажите их эффективность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Методы групповой работы с родителями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971280" y="1484280"/>
            <a:ext cx="667836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Родительское собрание вместе с ученикам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езентация семей, их традиций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Ролевая игр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есс – конференция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Собрание -  спектакль, в котором участвуют дет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Родительский лекторий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Вечер вопросов и ответов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Диспут, дискуссия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Экскурси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аздники и т.д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абота в группах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кими качествами должен обладать учитель, чтобы его уважали дети и родители, прислушивались к его совета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кими качествами должен обладать родитель, чтобы воспитывать моральные качества у своего ребёнк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кие черты учителей и родителей мешают воспитанию дете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ставить советы для родителей по успешному взаимодействию со школой в вопросах воспитания и развития у детей моральных качест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ставить советы для учителей по успешному взаимодействию с родителями в вопросах воспитания  и развития моральных качеств у дете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Times New Roman"/>
              </a:rPr>
              <a:t>Какими качествами должен обладать учитель, чтобы его уважали дети и родители, прислушивались к его советам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(мнение детей)</a:t>
            </a:r>
            <a:br>
              <a:rPr sz="2100"/>
            </a:b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263520" y="1125000"/>
            <a:ext cx="738648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праведлив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трогость (в меру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оброт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ружелюби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Коммуникабельн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Щедр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бъективн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тзывчив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Уважение к мнению учеников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Целенаправленн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нимание того, что ученик – Человек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Любить общение с детьм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Знать свой предме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Учитель – пример и идеал!!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Times New Roman"/>
              </a:rPr>
              <a:t>Какими качествами должен обладать родитель, чтобы воспитывать моральные качества у своего ребёнка (мнение детей)</a:t>
            </a:r>
            <a:br>
              <a:rPr sz="2100"/>
            </a:b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63520" y="907560"/>
            <a:ext cx="738648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оброт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трогость (в меру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ерпен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ониман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праведлив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Ответствен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ерпим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ешитель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оспитан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удр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Коммуникабель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равновешен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рудолюб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меть прислушиваться к детям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одитель должен быть другом своему ребёнку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263520" y="476280"/>
            <a:ext cx="738648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емья и школа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 это берег и  море.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 берегу, ребенок делает свои первые шаги, получает первые уроки жизни, а потом перед ним открывается необозримое море знаний, и курс в этом море прокладывает школа. Это не значит, что он должен совсем оторваться от берег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 </a:t>
            </a:r>
            <a:r>
              <a:rPr b="0" i="1" lang="ru-RU" sz="3200" spc="-1" strike="noStrike">
                <a:solidFill>
                  <a:srgbClr val="ff0000"/>
                </a:solidFill>
                <a:latin typeface="Comic Sans MS"/>
              </a:rPr>
              <a:t>Л. А. Кассил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258920" y="765000"/>
            <a:ext cx="7477200" cy="78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Что мешает учителю в воспитательном и учебном процессах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                                (мнение детей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1116000" y="2060280"/>
            <a:ext cx="653400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справедлив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уравновешенность, вспыльчив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терпимость к мнению дете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лоб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руб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едвзятое мнение об ученика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тарый взгляд на ми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еренос своих личных проблем на учеников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кандаль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 знание учебного предмет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6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Что мешает родителям правильно строить воспитательный процесс.</a:t>
            </a:r>
            <a:br>
              <a:rPr sz="2000"/>
            </a:b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(мнение детей)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547280" y="1916280"/>
            <a:ext cx="610236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понимание детей и времен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резмерная любовь к детя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умение слушать дете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ысокомери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воспитан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сдержан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руб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рвозность, истерич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терпимость к чужим ошибка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резмерная строг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Ребёнка учит то, что его окружает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263520" y="907560"/>
            <a:ext cx="738648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а часто критикуют – он учится ненавидеть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у часто демонстрируют враждебность – он учится быть агрессивн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а часто высмеивают – он становится замкнут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к ребёнку часто бывают снисходительны – он учится быть терпелив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а часто подбадривают – он учится уверенности в себ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а часто хвалят – он учится быть благодарн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с ребёнком обычно честны – он учится быть справедлив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ок живёт в атмосфере дружбы и чувствует себя нужным – он вырастет добрым и уверенным в себе!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c0039"/>
                </a:solidFill>
                <a:latin typeface="Arial"/>
              </a:rPr>
              <a:t>Стратегия успешного взаимодействия с семьей</a:t>
            </a: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 должны помнить, что все семьи имеют сильные сторо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 должны воспринимать ошибки и недостатки семьи  не как ошибки семьи, а как ошибки социальной системы в создании возможностей обучения и развитии компетентности  семь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 должны развивать работу с семьями на основе всего положительного, что у них есть, а не преодолевать ее  недостат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вмешательстве в жизнь семьи мы не должны думать, что делаем это «для людей», а должны стремиться к тому, чтобы семья как можно меньше зависела от профессионалов (педагогов, психологов, социальных работников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инципы взаимодействия семьи и школы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971640" y="148392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гласия – взаимная договорённость о поддержании благоприятных для развития ребёнка услови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пряжения – последовательное соотнесение единых требований к ребёнку в школьной и семейной сфере его жизнедеятельност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переживания – взаимное выражение расположенности друг к другу, проявление доброжелательности и знаков вниман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причастности – взаимная практическая забота об улучшении условий жизнедеятельности ребёнк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деянности – реальные совместные практические действия, содействующие счастливому развитию ребёнк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00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33"/>
                </a:solidFill>
                <a:latin typeface="Garamond"/>
              </a:rPr>
              <a:t>Удовлетворённость родителей жизнедеятельностью  ОУ</a:t>
            </a:r>
            <a:br>
              <a:rPr sz="2000"/>
            </a:br>
            <a:r>
              <a:rPr b="0" lang="ru-RU" sz="2000" spc="-1" strike="noStrike">
                <a:solidFill>
                  <a:srgbClr val="006633"/>
                </a:solidFill>
                <a:latin typeface="Garamond"/>
              </a:rPr>
              <a:t>(насколько ОУ воспитывает в детях следующие качества)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альная школа                               средняя шко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ккуратность                                            3,8                                                    3,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исциплинированность                                4,0                                                   3,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ветственность                                            4,3                                                   4,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оля                                                                3,8                                                    3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Хорошие манеры поведения                        3,8                                                    3,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Жизнерадостность                                        4,0                                                    3,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разованность                                             4,3                                                   4,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м                                                                   3,9                                                   4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ысокие жизненные запросы                      3,7                                                   3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амостоятельность                                       4,0                                                   4,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естность                                                       4,3                                                   4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оброта                                                          4,0                                                   4,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уткость                                                         3,6                                                  3,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праведливость                                             3,9                                                  4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ерпение                                                         3,9                                                  3,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редний балл                                                 4,0                                                  3,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007-08 уч. год                                              3,9                                                   3,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Вывод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: Родители удовлетворены работой школы по формированию у детей поведенческих, морально-психологических качеств (уровень удовлетворённости – более 3 баллов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Цветограмма педсовет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62" name=""/>
          <p:cNvGraphicFramePr/>
          <p:nvPr/>
        </p:nvGraphicFramePr>
        <p:xfrm>
          <a:off x="685800" y="1828800"/>
          <a:ext cx="7696080" cy="1168560"/>
        </p:xfrm>
        <a:graphic>
          <a:graphicData uri="http://schemas.openxmlformats.org/drawingml/2006/table">
            <a:tbl>
              <a:tblPr/>
              <a:tblGrid>
                <a:gridCol w="1924200"/>
                <a:gridCol w="1923840"/>
                <a:gridCol w="1924200"/>
                <a:gridCol w="1923840"/>
              </a:tblGrid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актуальность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новизна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полезность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интерес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3" name="Rectangle 25"/>
          <p:cNvSpPr/>
          <p:nvPr/>
        </p:nvSpPr>
        <p:spPr>
          <a:xfrm>
            <a:off x="611280" y="3355920"/>
            <a:ext cx="792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аждая группа должна оценить все параметры и закрасить графу цветным карандашом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расный – высокая оценк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Синий – средняя оценк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Зелёный – низкая оценк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333399"/>
                </a:solidFill>
                <a:uFillTx/>
                <a:latin typeface="Tahoma"/>
              </a:rPr>
              <a:t>Решение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. Принять выработанные принципы эффективного взаимодействия семьи и школы в деятельности по развитию личности ребенка за основу в своей деятельности каждому учителю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.Продолжать проводить внеклассные и общешкольные мероприятия с участием родителей: родительские собрания, деловые игры, конкурсно-игровые программы и т. п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.Создать копилку передовых педагогических находок в работе с родителям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Цель педсовета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: поиск оптимальных форм совместной работы школы и семьи в деятельности по развитию ребёнка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99"/>
                </a:solidFill>
                <a:uFillTx/>
                <a:latin typeface="Tahoma"/>
              </a:rPr>
              <a:t>Задач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пределить основные проблемы во взаимодействии семьи и школы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общить и систематизировать теоретические сведения о формах и принципах взаимодействия семьи и школы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зработать принципы эффективного взаимодействия семьи и школ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440" y="-462960"/>
            <a:ext cx="6870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263520" y="549000"/>
            <a:ext cx="738648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уть взаимодействия семьи и школы заключается в заинтересованности обеих сторон в изучении личности ребенка, раскрытии и развитии скрытого в нем потенциала. В основе такого взаимодействия лежат принципы взаимного доверия и уважения, взаимной поддержки и помощи, терпения и терпимости по отношению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руг к другу</a:t>
            </a:r>
            <a:r>
              <a:rPr b="0" lang="ru-RU" sz="3200" spc="-1" strike="noStrike">
                <a:solidFill>
                  <a:srgbClr val="703d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Что Вы ждёте от родителей своего класса? (опрос классных руководителей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заимопомощи, взаимопонимания в вопросах воспитания и обучения дете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вместной работы над вопросами успеваемости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оявления интереса к успехам и неудачам ребёнк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тветственности за воспитание своих дете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мощи в организации внеклассных мероприяти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Как Вы думаете, что родители ждут от Вас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праведливого отношения к детя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оброт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уткого, понимающего отношения к детя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тветственного, добросовестного отношения к своим обязанностя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ддержки дете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хорошего качества знани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тобы больше времени проводили с детьм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тобы заставили и научили детей учиться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ыть « второй мамой» со всеми прилагающими обязанностями (чтобы учителя полностью изолировали родителей от воспитания детей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Теоретическая часть педсовет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263520" y="1125000"/>
            <a:ext cx="738648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оль семьи в формировании нравственност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оль классного руководителя во взаимодействии семьи и школ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ИТУАЦИЯ 1 (работа в группах, обсуждение ситуаций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1258920" y="1412640"/>
            <a:ext cx="7386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(участники: учительница, мать, сын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Мама пришла в школу по вызову учител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Здравствуйте, М. И., получила Вашу записку. Что случилось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 </a:t>
            </a: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(ученику).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Ну, рассказывай маме, что случилось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еник </a:t>
            </a: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молчит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Что молчишь? Рассказывай маме, как ты ведешь себя на уроках? За что тебя выгнали с ИЗО? Какую оценку ты получил сегодня по русскому языку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еник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Да я не ..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. Ну как тебе не стыдно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еник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Да это не я ..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Сколько можно с гобой разговаривать на эту тему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. И ведь никаких слов не понимает. Все учителя на него жалуютс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Что ты голову опустил? За свои поступки отвечать надо. Отвечай, сколько ты еще нервы мои трепать будешь? Что молчишь? Как ты намерен себя дальше вести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Пришел в школу, будь добр, учись!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 </a:t>
            </a: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(учителю).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Как с ним еще бороться, ума не приложу!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Наверное, витамин “Р” давно не прописывал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Ну все. Мое терпение закончилось, пусть с тобой теперь отец разговаривает. Он из тебя дурь-то выбьет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6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33"/>
                </a:solidFill>
                <a:latin typeface="Garamond"/>
              </a:rPr>
              <a:t>СИТУАЦИЯ 2</a:t>
            </a:r>
            <a:br>
              <a:rPr sz="1900"/>
            </a:b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539640" y="765000"/>
            <a:ext cx="777744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чительница вызвала в школу маму Саши. Разговор состоялся в учительской во время переме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Вы совершенно перестали следить за сыном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То есть, как перестала следить? Дневник, тетради проверяю, по-моему, он приходит всегда в школу чисты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(раздраженно)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к что же выходит: я вам лгу, и от нечего делать вызвала вас в школу?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А собственно, что натворил сын? Он вообще мне все рассказыва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Он дерзит учителям, срывает уроки. Вот вчера безобразничал на уроке черчения, на литературе стрелял из рогатки 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Вы знаете, К. М., дома он мне не дерзи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у, знаете, мне лучше знать, как ваш сын ведет себя в школе. А если вы мне не верите, тогда мы с вами будем разговаривать в другом месте в присутствии администр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А вы меня не пугайте этим. Саша ведет себя плохо на тех уроках, где неинтересно. Все ребята рассказывают, что на уроках черчения они ходят на головах, по литературе у них уже второй месяц пег постоянного учителя. А по географии у Саши у нового учителя одни двойки стоят. Сын говорит, что все их поставили не за знания, а за поведение – разве это справедливо? В прошлом году он у Л. И. по географии отличником был, в районной олимпиаде участвовал. А новый учитель к нему подхода не нашел, вот Саша и возненавидел географию! Так что наведите сначала у себя порядо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А вы нам не делайте замечаний, лучше сына воспитывайте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А вы не грозите мне администрацией, я тоже могу пожаловаться на ва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В таком случае мне с вами больше не о чем разговаривать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(отворачивается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ходи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Ну и мамочка! Докажите ей что-нибудь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0T14:35:32Z</dcterms:created>
  <dc:creator>1</dc:creator>
  <dc:description/>
  <dc:language>en-US</dc:language>
  <cp:lastModifiedBy>SUOMI</cp:lastModifiedBy>
  <dcterms:modified xsi:type="dcterms:W3CDTF">2014-11-14T11:42:57Z</dcterms:modified>
  <cp:revision>14</cp:revision>
  <dc:subject/>
  <dc:title>«Роль семьи и школы в          развитии морального              самосознания  обучающихся». </dc:title>
</cp:coreProperties>
</file>