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37FF-71C5-49CF-BDCC-C0B042539B0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61C45-5C50-46E2-8C81-B332A241AE76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15E97-B6E2-4068-91BF-288C4A9D1D97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9501A-DCDD-4C3D-8E93-CDA094B5CAB5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A5975-2367-45DE-A7C8-4433B3E0FDBD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E9462-13A9-44C2-90A2-A28B53B025A5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EC003-A798-496C-8C80-68685D4E46EE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1E72-B93B-4695-BF8C-13B828BC6C7F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F695-47F5-4D6A-9BEB-2662359631B1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DE2B3-AE9F-47CA-8388-C6EB36289FDE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E580B-4A60-4527-9F1B-96A311C7AAE6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4BBB8-BDD7-45CE-BFBA-90857D6941D1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50F64-E4F1-4CD0-BC8D-1A6978C5FCEE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8DAE-0A01-47FB-A33B-35944726E20E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4C63D-CB99-446A-B20A-2B43BB1310E7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D3930-EDE0-4CAC-9D75-96E3A88B5F07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DE61C-FA89-4D74-967E-99DC34A67C3E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E9E17-9330-4029-B528-A06A405048F8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40297-BBDB-4938-B401-00F48B8DDCF5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A6C7E-8897-4AC3-8F3A-078A30B143C8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AC5A1-22E2-4E5B-8611-31B5CB0B791D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91AD5-787E-44A8-87B7-55BE7D1C8997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4C041-697B-42DD-914E-9BBA33361992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D65D-779E-40AF-B08C-27AE28804496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0EA85-055C-49C3-A2E7-6489FC9AAD6C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03C24-59BF-47EE-ABC7-B54985042972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BC08-DAA1-42C5-9464-305E1CC8482A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98382-08A3-4506-B0F3-A7EA22130DB2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8336-03CD-47A9-A155-B8301B743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D8BE-A975-4C93-AD6F-5CE402027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42CBAC-442B-45E7-B2F6-3D11F7CAF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2BDFFD-D2B2-41C0-AECA-D164DBD17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E82848-B263-4C9E-AB6E-231B7F3A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D3D829-74C0-4306-A664-DEF26136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471E5B-65C9-4CE8-BAFA-B8E0536C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4DB498-1185-48B7-A224-DED5BB4C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590B0A-BFB6-41B1-95D9-31613875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53AADC-3470-464A-B6BC-8EF4E01CB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E09E69-F147-4889-9F02-17B74826C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4109D2-FC77-4557-9188-98CE5C43E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8C29-2986-4654-AB64-E30859955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19BCC7-1991-4D40-A160-550400996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C879CA-4E3A-4000-A64B-5B5374CCC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7AB731-EDD5-40C7-97DA-E94E09307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67DFFB-BDE0-4A8B-99A3-D9B8FF33E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7FDF0E-E905-489B-9501-2CEBAE41A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282FB1-4DD4-40A9-9591-E4FA2C7A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1D9245-255C-4B1C-8115-C75FF07D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BF2CA5-9F2E-4FCC-B99D-822D503C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3B7820-2B15-42E3-AD6F-75650EDEA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36327F-E48F-40E7-9CCA-29BCB9263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2DA9-53FF-4C47-BD57-6F0AB48F3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AFFF17-F19B-4CAB-88F1-E8D2198D2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DD7B5A-807C-4D00-A1A9-7DEF14FE6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4C361A-2BC1-47E8-BF2D-F836270B4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026105-30CA-4E3C-AA74-9AABD2E5C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8C3717-4CA3-451D-96CD-1BFBACCC4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4DBBA3-3FC8-4CEB-9081-EA25D48EC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1674D8-D6B6-4F8A-81F5-1889DDCEB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103FB8-27EF-4F47-8D08-9712AC93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7527A2-BB82-45F0-94A3-56605DCD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F81869-37D9-4069-A883-75F0AA3E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0E1F6-490C-40A5-8A88-6E54D4859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C119C0-25EC-4520-A897-781A5EDC7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86F69A-2B97-42F9-887B-E4D5029EC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802326-77FE-4664-8F8A-574346EA7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845B40-896E-464A-87A5-D9CECCAB4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CB9074-1C79-4B10-B81F-5B10A9C56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E85D4E-184F-4842-9F9A-DA8A04B6E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282EB7-7B98-4F7F-8EE0-D1FE2418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CE4B59-9AF0-420B-A5B9-096F50823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CCEDA7-9AD8-4FB9-B8B8-22D232F6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C16123-0A86-4B57-955B-5A0A32D2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8CFF0-286D-45B9-9886-DFC43F427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B409E5-24C3-4E88-9BA5-6161CC8C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A213BF-6969-4C97-9020-3F7931B9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6C1FE9-192F-46C6-8DC4-DD0EF166A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71964A-2CDC-480B-B19C-336E8E1C9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E27ADD-88EB-48DA-B356-E188B9895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BCAA6-AE3D-4239-A5DA-3EBDE30DC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8DCED-1EC6-4A30-B679-A8908C626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324C6-15C3-43C9-B809-9A1B2769D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13575-A27A-48A0-AB93-910E40770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6ADDF-F191-49AE-BBC2-5A908C77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F780-2859-4823-A39B-0A8CEDF47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70909-BDDD-4C33-A2B1-2A1A54AE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28817-15DA-4E53-8C97-2B6786B9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A7B46-451C-4163-9868-C8AD7982E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2A6A4-699D-4547-A60A-7B312CA57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517AF-78C1-49FF-A055-FD4E99AC4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F8DA5-C21B-4266-9D05-37A742554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08446-C612-4198-A33A-9FD2914BD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094D0-3F7C-4EB1-8F92-A7B3E988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EEB39-0C40-4457-8118-F4147E568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FB625-54B2-46E7-9806-B95C005E6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52B8-65F8-4CA0-AE25-ECD2584EB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F579D-2184-4C13-B26D-C9D20C9C7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F4BCF-1DA4-4FB9-B5DE-4D067F4B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B5A89-BAF7-4AE7-9C1F-B9769AF6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5C580-6189-4033-9513-9BE2BB88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4BEAA-8F2D-44DB-8EC4-7D1736003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2B393-3A15-4835-BDB7-E16437EDD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C659D-8BD2-414A-91F8-4CCB9DB83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BCBC3-9173-498E-9A0C-668C17B12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14276-61F4-4A20-91ED-15B7E77E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E35C7-C315-4913-9814-B4FBB7A57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FB41-6A67-4256-A084-9E7F7BFB9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65D38-BFC1-41D2-8C38-56AFFAA6E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B0266-79DD-4CFE-A572-49FB4695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56150-57E3-4914-A015-50CC9DC36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5CE4D-9EAA-4174-A144-DFDC8191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DB7C6-92E8-49FC-96DF-3AF4ACDA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322FD-F020-43EE-AB21-BCEEDC80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64C24-BA8B-44DF-BA3E-F3E8A70BA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61BD2-8A47-4CFC-867C-84B0776DB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A003B-D6B3-497F-ADFA-32C543AA1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069B1-AA47-4962-BBA6-C0E76E892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5EA0-3382-4C63-850F-C0C7F4F53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EECE8-49B9-4F07-83EA-1B39F73C2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0CF52-657D-4D7B-B4AB-8E80BB241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2FE40-A39F-4FCE-8B98-C3FA30F88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7C1F5-FD0D-4D5F-832D-414167422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6C21F-829A-47F1-BF2B-F42F1BF7C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8D332-5602-4F71-9411-37C9BFFF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1BBB8-E343-4EF2-A762-64AE7D37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A567B-22E5-4079-8C39-173295F9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22B44-7079-42B9-A689-D031012CB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6E219-1E22-478D-9158-9F6DCBA57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68EB-D143-4769-AE63-197F8589A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5C1FA-5D70-4E21-8455-F056ACB4B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99944-FD19-46BC-A0E6-747542842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E8850-D590-4874-AE9F-B9A6E16E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30DD06-8139-43BB-A805-1FC0D1572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15BA8-B823-498E-A32F-E99805158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DC34F-0A2F-4FD7-B86C-7FF6CB300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D9232-3C34-458B-BE5C-2ED04255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090DC-93D1-4409-97B9-3C73446E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8C31A-1717-4A5E-943F-36E28AA0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A526D-E0A0-4A5A-9E9B-1724752E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CF99-CC5E-4BB2-A001-2B1F9644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01B32-36D0-4463-839B-94FC0AD4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567AC-619D-4CDD-9EA2-A3E879CED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D952D-FFBD-4D55-82E2-9879722CA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C65B2-7647-4D91-86E2-F6EEF13EB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996B6E-2491-42F9-8E85-68444BB4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A1673-BC5E-47E5-8660-549090F3A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A1A8D-4F56-458E-8C91-81EDA396B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1A0CD-D296-4F03-AE03-2B10A97A5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6AD9A-1295-47FA-8EB7-DFDE8A3B9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42B93-2089-4F43-89EC-91B7C589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9452-333B-4DA9-AD1C-D550C9ED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50351-8136-4244-96F4-177EFAEA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CDF09-A2E2-4591-BC68-1F752E60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86675-76B3-49ED-BF75-8913156C3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2337AC-07E0-4B22-B5A1-EA31A0489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6465F-0311-4909-B268-EFB33EC8C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6EC633-3302-4F8B-B6AE-2FCA297A6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9EEA6D-69ED-458D-929E-BD005FAF8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C7C3D-353F-418A-8E8D-978EEA850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D5967-C692-4CF3-87CF-5B32B14FE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D1A11-62D4-4A4D-944D-8A353D3CD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B292-2574-47BF-84C1-B8AF0875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0B3913-4906-49B7-B62E-759E660E8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EA34A3-3D32-4C18-B273-B2734CF2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D12D4C-8A43-440D-A548-4326AA4D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5AC9C-7E29-4FE8-87CD-DC42A8D3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69FD34-449A-4EE2-A2B0-9A792DF19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D97D1-2330-4AE9-9CD4-61DD4F2D3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178F25-C11D-4363-AA69-871F68F1E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8D3D91-3CAE-4C8C-B37D-0B9AA43D5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FC30D4-C8B8-4700-AD57-CBE91F1CC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2F6B7C-7E8F-4B88-9DDA-8102EDE64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73.xml"/><Relationship Id="rId35" Type="http://schemas.openxmlformats.org/officeDocument/2006/relationships/slideLayout" Target="../slideLayouts/slideLayout74.xml"/><Relationship Id="rId36" Type="http://schemas.openxmlformats.org/officeDocument/2006/relationships/slideLayout" Target="../slideLayouts/slideLayout75.xml"/><Relationship Id="rId37" Type="http://schemas.openxmlformats.org/officeDocument/2006/relationships/slideLayout" Target="../slideLayouts/slideLayout76.xml"/><Relationship Id="rId38" Type="http://schemas.openxmlformats.org/officeDocument/2006/relationships/slideLayout" Target="../slideLayouts/slideLayout77.xml"/><Relationship Id="rId39" Type="http://schemas.openxmlformats.org/officeDocument/2006/relationships/slideLayout" Target="../slideLayouts/slideLayout78.xml"/><Relationship Id="rId40" Type="http://schemas.openxmlformats.org/officeDocument/2006/relationships/slideLayout" Target="../slideLayouts/slideLayout79.xml"/><Relationship Id="rId41" Type="http://schemas.openxmlformats.org/officeDocument/2006/relationships/slideLayout" Target="../slideLayouts/slideLayout80.xml"/><Relationship Id="rId42" Type="http://schemas.openxmlformats.org/officeDocument/2006/relationships/slideLayout" Target="../slideLayouts/slideLayout81.xml"/><Relationship Id="rId43" Type="http://schemas.openxmlformats.org/officeDocument/2006/relationships/slideLayout" Target="../slideLayouts/slideLayout82.xml"/><Relationship Id="rId44" Type="http://schemas.openxmlformats.org/officeDocument/2006/relationships/slideLayout" Target="../slideLayouts/slideLayout83.xml"/><Relationship Id="rId4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33A58-09DA-458B-9655-C8FFF9A4F10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54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4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55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5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grpSp>
        <p:nvGrpSpPr>
          <p:cNvPr id="55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55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56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56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56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41EDE-8DC9-430A-A3DC-65266B65C928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612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613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4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615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616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7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618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9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0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dt" idx="3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ftr" idx="3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sldNum" idx="3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B5D0A-024E-44D4-9F2A-E67D041E364C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3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CA8BD-F180-47E5-83C1-B23993EC8C6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2F97E-9236-40A5-B337-D99A1E81865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14096-4D40-4CDE-86EE-39B1DE68249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5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6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7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A3681-5CA7-4015-AB0B-015912F5425F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19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9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20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0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1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1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2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2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2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2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2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2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03D4B-8576-4872-8AD7-006BFCF6C32C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320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pic>
          <p:nvPicPr>
            <p:cNvPr id="321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6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18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8AF61-18B1-4625-9E5A-1CC7C79409B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64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5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6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367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68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69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70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71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3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79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0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1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2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3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4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5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6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87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88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9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0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1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2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3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4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5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6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7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8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9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0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1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2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3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4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5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6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07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8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9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0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1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2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3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4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5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6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7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1DCA-F959-4984-8E4F-4C1B5958208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4"/>
    <p:sldLayoutId id="2147483728" r:id="rId35"/>
    <p:sldLayoutId id="2147483729" r:id="rId36"/>
    <p:sldLayoutId id="2147483730" r:id="rId37"/>
    <p:sldLayoutId id="2147483731" r:id="rId38"/>
    <p:sldLayoutId id="2147483732" r:id="rId39"/>
    <p:sldLayoutId id="2147483733" r:id="rId40"/>
    <p:sldLayoutId id="2147483734" r:id="rId41"/>
    <p:sldLayoutId id="2147483735" r:id="rId42"/>
    <p:sldLayoutId id="2147483736" r:id="rId43"/>
    <p:sldLayoutId id="2147483737" r:id="rId44"/>
    <p:sldLayoutId id="2147483738" r:id="rId4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0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2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33FD8-A89A-4EAD-85AB-DF98BCED10D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3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4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5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25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26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27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9442F-89C7-415D-A289-4EC0AC3BA53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6966000" cy="38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«Роль семьи и школы в          развитии морального              самосознания  обучающихся».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1979280" y="4941720"/>
            <a:ext cx="410508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январь 2014 год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ИТУАЦИЯ 3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Мама ученика 7 класса пришла за консультацией к классному руководителю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У моего сына в этом году вдруг стала заметно проявляться агрессивность по отношению к младшему брату, но и не только к нему, а и к своим друзьям. Ему хочется, как мне кажется, быть лидеро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аблюдаем с отцом, что агрессивность в отдельных случаях проявляется и в отношениях с нами. Мы считаем, что семья у нас благополучная, все вопросы решаем между собой и с детьми спокойно, доброжелательно. В чем причина такого поведения сына, не знаем. Помогит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4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Ситуация 4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итель: Я вызвала Вас обсудить поведение Вашего сына. На школьной дискотеке он был замечен в нетрезвом вид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ать: Не может быть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едложите разные варианты продолжения беседы и её результаты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33"/>
                </a:solidFill>
                <a:latin typeface="Garamond"/>
              </a:rPr>
              <a:t>Ситуация 5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итель: Наталья Викторовна давайте поговорим о внешнем виде Вашей дочер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ать: Вы считаете, что внешний вид Татьяны не приемлем для школы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итель: Конечно.  Её внешний вид не соотносится с образом школьницы:пирсинг, которым она украсила лицо, блузки, которые не могут прикрыть определённые части тел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ать: А я считаю, что это очень стильно. Сейчас вся молодёжь придерживается такого имиджа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одолжите разговор с матерью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Правила эффективного взаимодействия 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                        классного руководителя с родителями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837720" y="1915920"/>
            <a:ext cx="80074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дителям нужна поддержка, помощь и добрый совет. Если вы ими располагаете, создайте необходимые условия для обще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беседуйте с родителями второпях, на бегу; если вы не располагаете временем, лучше договориться о встрече в другой раз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говаривайте с родителями спокойным тоном, не старайтесь назидать и поучать – это вызывает раздражение и негативную реакцию со стороны родител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мейте терпеливо слушать родителей, давайте возможность высказаться  по всем наболевшим вопроса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спешите с выводами! Обдумайте хорошо то, что вы услышали от родител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, о чём родители вам поведали, не должно стать достоянием других родителей, учащихся и педагог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есть профессиональная необходимость поделиться той информацией, которую сообщили родители, ещё с кем-то – родителей необходимо поставить об этом в известность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08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равила эффективного взаимодействия 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                      классного руководителя с родителями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900000" y="1341000"/>
            <a:ext cx="77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отовясь к встрече с семьёй учащегося, необходимо помнить, что любой родитель хочет услышать не только плохое, но и хорошее. Не следует начинать разговор со следующих фраз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У вашего ребёнка совсем плохи дел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Ваш ребёнок совсем перестал учиться, ничего не делае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Вы задумайтесь, скоро экзамены, а ваш, ведь, не сдас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ед началом разговора поблагодарите родителя за то,    что пришёл.                                 Выразите надежду, что совместными усилиями удастс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правиться с    возникшими трудностями. А потом уже излагайте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итуацию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разговоре уместны следующие высказывания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Я понимаю, что трудно…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Я сама мама и знаю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то же Ваш ребёнок, никто не знает его лучше, чем В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икто не сможет помочь Вашему ребёнку, лучше, чем В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ложите родителям варианты решения проблемы и обсудите их все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сти беседу необходимо в направлении поиска путей решения проблемы, преодоления трудностей, т.е. не обсуждать, кто  виноват, а решать, что делать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ждая встреча с семьёй учащегося должна заканчиватьс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онструктивными рекомендациями для родителей и самого учащегося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7477200" cy="75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бота в группах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182600" y="2111400"/>
            <a:ext cx="777240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дложите эффективные методы групповой работы с родителями и докажите их эффективность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Методы групповой работы с родителями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71280" y="1484280"/>
            <a:ext cx="667836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одительское собрание вместе с ученикам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езентация семей, их традици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олевая игр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есс – конференци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Собрание -  спектакль, в котором участвуют дет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одительский лектори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ечер вопросов и ответов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Диспут, дискусси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Экскурси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аздники и т.д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бота в группах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ими качествами должен обладать учитель, чтобы его уважали дети и родители, прислушивались к его совета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ими качествами должен обладать родитель, чтобы воспитывать моральные качества у своего ребён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ие черты учителей и родителей мешают воспитанию дете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ставить советы для родителей по успешному взаимодействию со школой в вопросах воспитания и развития у детей моральных качест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ставить советы для учителей по успешному взаимодействию с родителями в вопросах воспитания  и развития моральных качеств у дете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Times New Roman"/>
              </a:rPr>
              <a:t>Какими качествами должен обладать учитель, чтобы его уважали дети и родители, прислушивались к его советам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(мнение детей)</a:t>
            </a:r>
            <a:br>
              <a:rPr sz="2100"/>
            </a:b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63520" y="1125000"/>
            <a:ext cx="73864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праведлив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трогость (в меру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оброт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ружелюби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оммуникабель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Щедр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бъектив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тзывчив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важение к мнению ученико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Целенаправлен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нимание того, что ученик – Человек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Любить общение с детьм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Знать свой предме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читель – пример и идеал!!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Times New Roman"/>
              </a:rPr>
              <a:t>Какими качествами должен обладать родитель, чтобы воспитывать моральные качества у своего ребёнка (мнение детей)</a:t>
            </a:r>
            <a:br>
              <a:rPr sz="2100"/>
            </a:b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63520" y="907560"/>
            <a:ext cx="73864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оброт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трогость (в меру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ерпе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нима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праведлив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тветствен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ерпим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ешитель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оспитан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удр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Коммуникабель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равновешен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рудолюб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меть прислушиваться к детям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одитель должен быть другом своему ребёнку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263520" y="476280"/>
            <a:ext cx="738648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емья и школ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 это берег и  море.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 берегу, ребенок делает свои первые шаги, получает первые уроки жизни, а потом перед ним открывается необозримое море знаний, и курс в этом море прокладывает школа. Это не значит, что он должен совсем оторваться от берег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r>
              <a:rPr b="0" i="1" lang="ru-RU" sz="3200" spc="-1" strike="noStrike">
                <a:solidFill>
                  <a:srgbClr val="ff0000"/>
                </a:solidFill>
                <a:latin typeface="Comic Sans MS"/>
              </a:rPr>
              <a:t>Л. А. Кассил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258920" y="765000"/>
            <a:ext cx="74772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Что мешает учителю в воспитательном и учебном процессах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                                (мнение детей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116000" y="2060280"/>
            <a:ext cx="653400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справедлив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уравновешенность, вспыльчив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терпимость к мнению дете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лоб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уб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едвзятое мнение об ученика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тарый взгляд на ми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еренос своих личных проблем на ученик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кандаль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 знание учебного предме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6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Что мешает родителям правильно строить воспитательный процесс.</a:t>
            </a: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(мнение детей)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547280" y="1916280"/>
            <a:ext cx="610236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понимание детей и времен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резмерная любовь к детя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умение слушать дете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сокомер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воспитан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сдержан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уб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рвозность, истерич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терпимость к чужим ошибка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резмерная строг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Ребёнка учит то, что его окружает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263520" y="907560"/>
            <a:ext cx="73864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критикуют – он учится ненавидет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у часто демонстрируют враждебность – он учится быть агрессивн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высмеивают – он становится замкнут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к ребёнку часто бывают снисходительны – он учится быть терпелив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подбадривают – он учится уверенности в себ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хвалят – он учится быть благодарн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с ребёнком обычно честны – он учится быть справедлив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ок живёт в атмосфере дружбы и чувствует себя нужным – он вырастет добрым и уверенным в себе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Стратегия успешного взаимодействия с семьей</a:t>
            </a: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должны помнить, что все семьи имеют сильные стор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должны воспринимать ошибки и недостатки семьи  не как ошибки семьи, а как ошибки социальной системы в создании возможностей обучения и развитии компетентности  семь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должны развивать работу с семьями на основе всего положительного, что у них есть, а не преодолевать ее  недостат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вмешательстве в жизнь семьи мы не должны думать, что делаем это «для людей», а должны стремиться к тому, чтобы семья как можно меньше зависела от профессионалов (педагогов, психологов, социальных работников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нципы взаимодействия семьи и школы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971640" y="148392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гласия – взаимная договорённость о поддержании благоприятных для развития ребёнка услови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пряжения – последовательное соотнесение единых требований к ребёнку в школьной и семейной сфере его жизнедеятельно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переживания – взаимное выражение расположенности друг к другу, проявление доброжелательности и знаков внима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причастности – взаимная практическая забота об улучшении условий жизнедеятельности ребён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деянности – реальные совместные практические действия, содействующие счастливому развитию ребён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00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33"/>
                </a:solidFill>
                <a:latin typeface="Garamond"/>
              </a:rPr>
              <a:t>Удовлетворённость родителей жизнедеятельностью  ОУ</a:t>
            </a:r>
            <a:br>
              <a:rPr sz="2000"/>
            </a:br>
            <a:r>
              <a:rPr b="0" lang="ru-RU" sz="2000" spc="-1" strike="noStrike">
                <a:solidFill>
                  <a:srgbClr val="006633"/>
                </a:solidFill>
                <a:latin typeface="Garamond"/>
              </a:rPr>
              <a:t>(насколько ОУ воспитывает в детях следующие качества)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альная школа                               средняя шк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ккуратность                                            3,8                                                    3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исциплинированность                                4,0                                                   3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ветственность                                            4,3                                                   4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ля                                                                3,8                                                    3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Хорошие манеры поведения                        3,8                                                    3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Жизнерадостность                                        4,0                                                    3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разованность                                             4,3                                                   4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м                                                                   3,9                                                   4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сокие жизненные запросы                      3,7                                                   3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амостоятельность                                       4,0                                                   4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естность                                                       4,3                                                   4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оброта                                                          4,0                                                   4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уткость                                                         3,6                                                  3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праведливость                                             3,9                                                  4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ерпение                                                         3,9                                                  3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редний балл                                                 4,0                                                  3,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007-08 уч. год                                              3,9                                                   3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Вывод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: Родители удовлетворены работой школы по формированию у детей поведенческих, морально-психологических качеств (уровень удовлетворённости – более 3 балло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Цветограмма педсовет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62" name=""/>
          <p:cNvGraphicFramePr/>
          <p:nvPr/>
        </p:nvGraphicFramePr>
        <p:xfrm>
          <a:off x="685800" y="1828800"/>
          <a:ext cx="7696080" cy="1168560"/>
        </p:xfrm>
        <a:graphic>
          <a:graphicData uri="http://schemas.openxmlformats.org/drawingml/2006/table">
            <a:tbl>
              <a:tblPr/>
              <a:tblGrid>
                <a:gridCol w="1924200"/>
                <a:gridCol w="1923840"/>
                <a:gridCol w="1924200"/>
                <a:gridCol w="192384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актуальность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новизна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полезность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интерес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3" name="Rectangle 25"/>
          <p:cNvSpPr/>
          <p:nvPr/>
        </p:nvSpPr>
        <p:spPr>
          <a:xfrm>
            <a:off x="611280" y="3355920"/>
            <a:ext cx="792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аждая группа должна оценить все параметры и закрасить графу цветным карандашом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расный – высокая оцен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Синий – средняя оцен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Зелёный – низкая оцен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333399"/>
                </a:solidFill>
                <a:uFillTx/>
                <a:latin typeface="Tahoma"/>
              </a:rPr>
              <a:t>Решени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. Принять выработанные принципы эффективного взаимодействия семьи и школы в деятельности по развитию личности ребенка за основу в своей деятельности каждому учителю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.Продолжать проводить внеклассные и общешкольные мероприятия с участием родителей: родительские собрания, деловые игры, конкурсно-игровые программы и т. п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.Создать копилку передовых педагогических находок в работе с родителя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Цель педсовета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: поиск оптимальных форм совместной работы школы и семьи в деятельности по развитию ребёнка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99"/>
                </a:solidFill>
                <a:uFillTx/>
                <a:latin typeface="Tahoma"/>
              </a:rPr>
              <a:t>Задач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пределить основные проблемы во взаимодействии семьи и школы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общить и систематизировать теоретические сведения о формах и принципах взаимодействия семьи и школы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работать принципы эффективного взаимодействия семьи и школ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440" y="-46296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263520" y="549000"/>
            <a:ext cx="7386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уть взаимодействия семьи и школы заключается в заинтересованности обеих сторон в изучении личности ребенка, раскрытии и развитии скрытого в нем потенциала. В основе такого взаимодействия лежат принципы взаимного доверия и уважения, взаимной поддержки и помощи, терпения и терпимости по отношению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руг к другу</a:t>
            </a:r>
            <a:r>
              <a:rPr b="0" lang="ru-RU" sz="3200" spc="-1" strike="noStrike">
                <a:solidFill>
                  <a:srgbClr val="703d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Что Вы ждёте от родителей своего класса? (опрос классных руководителей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заимопомощи, взаимопонимания в вопросах воспитания и обучения дете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вместной работы над вопросами успеваемости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явления интереса к успехам и неудачам ребёнк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ветственности за воспитание своих дете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мощи в организации внеклассных мероприяти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Как Вы думаете, что родители ждут от Вас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праведливого отношения к дет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оброт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уткого, понимающего отношения к дет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ветственного, добросовестного отношения к своим обязанност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ддержки дете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хорошего качества знани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обы больше времени проводили с детьм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обы заставили и научили детей учиться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ыть « второй мамой» со всеми прилагающими обязанностями (чтобы учителя полностью изолировали родителей от воспитания детей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Теоретическая часть педсовет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63520" y="1125000"/>
            <a:ext cx="73864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ль семьи в формировании нравственност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ль классного руководителя во взаимодействии семьи и школ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ИТУАЦИЯ 1 (работа в группах, обсуждение ситуаций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1258920" y="1412640"/>
            <a:ext cx="7386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(участники: учительница, мать, сын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Мама пришла в школу по вызову учител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Здравствуйте, М. И., получила Вашу записку. Что случилось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(ученику).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у, рассказывай маме, что случилось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еник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молчит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Что молчишь? Рассказывай маме, как ты ведешь себя на уроках? За что тебя выгнали с ИЗО? Какую оценку ты получил сегодня по русскому языку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еник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а я не ..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. Ну как тебе не стыдно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еник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а это не я ..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Сколько можно с гобой разговаривать на эту тему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. И ведь никаких слов не понимает. Все учителя на него жалуютс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Что ты голову опустил? За свои поступки отвечать надо. Отвечай, сколько ты еще нервы мои трепать будешь? Что молчишь? Как ты намерен себя дальше вести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Пришел в школу, будь добр, учись!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(учителю).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ак с ним еще бороться, ума не приложу!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Наверное, витамин “Р” давно не прописывал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Ну все. Мое терпение закончилось, пусть с тобой теперь отец разговаривает. Он из тебя дурь-то выбьет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6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33"/>
                </a:solidFill>
                <a:latin typeface="Garamond"/>
              </a:rPr>
              <a:t>СИТУАЦИЯ 2</a:t>
            </a:r>
            <a:br>
              <a:rPr sz="1900"/>
            </a:b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539640" y="765000"/>
            <a:ext cx="777744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чительница вызвала в школу маму Саши. Разговор состоялся в учительской во время переме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ы совершенно перестали следить за сыном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То есть, как перестала следить? Дневник, тетради проверяю, по-моему, он приходит всегда в школу чисты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раздраженно)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к что же выходит: я вам лгу, и от нечего делать вызвала вас в школу?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А собственно, что натворил сын? Он вообще мне все рассказыва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н дерзит учителям, срывает уроки. Вот вчера безобразничал на уроке черчения, на литературе стрелял из рогатки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ы знаете, К. М., дома он мне не дерз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у, знаете, мне лучше знать, как ваш сын ведет себя в школе. А если вы мне не верите, тогда мы с вами будем разговаривать в другом месте в присутствии администр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А вы меня не пугайте этим. Саша ведет себя плохо на тех уроках, где неинтересно. Все ребята рассказывают, что на уроках черчения они ходят на головах, по литературе у них уже второй месяц пег постоянного учителя. А по географии у Саши у нового учителя одни двойки стоят. Сын говорит, что все их поставили не за знания, а за поведение – разве это справедливо? В прошлом году он у Л. И. по географии отличником был, в районной олимпиаде участвовал. А новый учитель к нему подхода не нашел, вот Саша и возненавидел географию! Так что наведите сначала у себя порядо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А вы нам не делайте замечаний, лучше сына воспитывайте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А вы не грозите мне администрацией, я тоже могу пожаловаться на ва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 таком случае мне с вами больше не о чем разговаривать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отворачивается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ход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Ну и мамочка! Докажите ей что-нибудь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14:35:32Z</dcterms:created>
  <dc:creator>1</dc:creator>
  <dc:description/>
  <dc:language>en-US</dc:language>
  <cp:lastModifiedBy>SUOMI</cp:lastModifiedBy>
  <dcterms:modified xsi:type="dcterms:W3CDTF">2014-11-14T11:42:57Z</dcterms:modified>
  <cp:revision>14</cp:revision>
  <dc:subject/>
  <dc:title>«Роль семьи и школы в          развитии морального              самосознания  обучающихся». </dc:title>
</cp:coreProperties>
</file>