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7C20-1A0A-4D75-A754-ABEDF8D7ED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50B0-EB84-455B-A947-AC49F9C41D1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EE10-6630-411B-8B19-B03F5B3BBFC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AD79-B358-4664-A0B6-12D606941E4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1536-BC72-4897-B187-9E4887F018D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5858-90D3-4AEF-9257-29166218B68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C1CC-8D38-4015-A595-B435749355D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2FB7-535C-4730-AC25-2FBC93D348D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C90F-E1D5-44E3-BBCE-E73AFCFFD56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608B-7683-4192-B9AB-05CEC8B4851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810C-1DAF-4310-9C78-1F825E4EF23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E6A1-59F5-45E6-9635-49129963C05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51B6-F59B-46BD-BB6B-0BFAA3F15E4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27D0-C5D6-4565-B939-9F093754CB8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C943-F79B-4A58-9F48-9BAD4C79A08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C83C-22EC-4FDE-A7ED-9407AD47F4D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D0D8-A8D4-42B0-997D-DC820632964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A073-02FB-4359-84ED-D9F5A08E4B6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B7DE-F25B-4B6C-BF4B-E2D777E50FB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64D4-909F-4D1B-8424-CD06A072CFC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F3EA-D4B1-4626-BD19-2C9ECD1CC9D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8D29-F198-4335-A6C5-B684F3E8E4D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FC16-A735-4740-BAD3-1E47CCFE14A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17DD-B2ED-42CA-B007-72D70EDF3BA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76A2-5A78-4295-9A27-215256613EC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7C3B-5019-49BD-843C-078B7D19BB5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F0F9-AC3C-4317-B345-1EAE373B077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9B1D-F4F3-44C3-941C-AB90D8B066D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CC9B-9F8D-4961-81B8-C8D669C6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1F38-0692-4661-9EBF-3D98AD55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3A0F6-3F90-4B63-A54C-74BFBAFD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7C405-D21C-4B04-994D-183BC024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8DDDC-E03D-498B-9A6F-E2FBD866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2161B-B154-4A63-9582-115875B7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49817E-A1AF-4DD1-B9E6-58B39B56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4C24A-EAB9-4C4A-B6FF-8FB47B77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2D6D1-F850-4AA0-B473-5C6E6222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66DDF-D4DF-4EA0-B082-28F69008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B046C-A3FD-4BC7-90C2-20FE4F0F8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6E94B1-6EBB-4C37-8B55-A33B454A6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B5C0-AB6C-47F2-9FC5-FA617882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15D28-EEE3-44FC-AD06-B202FFFB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2FC31-5FAA-48F4-8899-03B04890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A9CEC2-5861-4D9C-8A44-5D91E837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0D7F2-C155-4EA6-88AB-DE5F3950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3180E-3C6E-4886-B81C-7F4B609C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A4984-9734-419F-8A6E-D56D92A8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72BDB-C8C3-4ED6-B0AF-1B89EA9C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B8DAA-31F7-4247-B357-11CE983B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DE67E4-F92C-4E08-8855-9BA02FA9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34CD6-CB6A-4D1C-AADF-A551356BF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9CCD-0CEF-4E33-9BEF-8CB28D524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FA7BB4-7659-4FF8-B629-364E16209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ED33D-1AAE-48F6-B958-F239F9FAA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75A6A-0B35-4CB6-A174-0E1ECB8B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ECC98-CA5F-41CB-8D32-1ADDD7CD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75335-847C-4467-8F18-EDF15CD4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D4D79-1929-45F6-A3EE-5724C395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EFBD3-4E1B-460C-99BC-4160C819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B3D1D-F444-4199-A5FA-FD3F74F9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C1011-9584-4736-AE37-2472003C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8B92A-BBF0-4F3B-AD7E-96BB8E41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141D-EEDA-4001-937C-A90838A31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840B4-7930-4AA9-8AA2-E5C8BA4D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45143-E743-408F-90E8-3F15F17CC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AA704-D135-4D51-9A60-DE2AFA842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8CEC39-0EB7-4391-B8CA-96F7FE61A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C8A90-8C8F-4C13-9EF4-D93E5C45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E82C4-C0E6-40E4-A915-50B4DFA0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C6FB63-C807-48FC-9381-5F0B5008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99AA7-7027-45C8-9359-05EEE5E3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27EDB-67E3-49F2-A3F3-D715B04D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51CF72-ED7A-4B91-9386-690E3AC1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BDE7-6C9A-492D-B674-DAF25D24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1310B-66BA-465D-A7E8-8C0EE21D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E2727-2779-4BA7-95F4-8DCB99D0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8C344E-3905-464B-B6D0-D0EF544D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3FB3CC-E81F-4CA1-819A-6265BF87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B69DD7-206A-4FCC-B264-D305388CF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3429-BD85-49D2-BCC2-19116B45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E35E-4286-47E5-9F3A-8D824AA5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30CB-E88B-4EB6-8EF5-8A172D9C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5F01-5F7C-47A4-8354-03E14510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64AB-41BB-49DC-B111-A57C9EB6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835C-3E0F-4825-9A50-9A563280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4E6F-199B-4F1F-9B62-8B117911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D49C-74B5-4485-9799-D2E9ADED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4D39-5EE6-4140-9DFC-487252A9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AEF7-C213-41B2-BF35-53322524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75F6-9887-4175-ACCF-BD42B47D9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1E4AA-2E24-4DA1-8494-AB28EF39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D30E6-24AD-454C-9103-42EE4568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ED8A4-E2A6-4107-884A-4332374F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3163B-70D9-40D9-91AE-7408C156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849CF-2CF0-4EC4-BE46-82CACA7E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F990-1143-43AF-9EBC-26DB27AC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D3222-C01D-4108-A415-5AFBB35F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F6992-E74E-4647-8EE6-5B326301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B00DD-E946-4072-82E2-AD9686A0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3170E-7256-4496-A4C3-2C7018EF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4F93E-1134-4B55-90F1-4649AF59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E25C3-A1DB-47A8-BAF4-E55606E4B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26D0E-3ABB-4637-80A5-8D962B87B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6424F-8EC4-486B-B001-3E829A92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6A2C9-3C84-4686-84F9-457840EA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DB135-6016-4032-AA05-40DC95B7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70F5-0EC3-467E-8A69-47B1B632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C20C8-D0C7-439C-9D60-365E365A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8F2BC-58AB-474B-991E-398B4282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09721-D947-43BC-A5FE-F61DFD6B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34EE9-9912-4686-ACD4-14F269A9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ABEAA-66C3-442A-8DCC-87DC1D73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683C6-6FB4-4B9E-B73D-5015F44D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91C47-38E2-4E27-9A34-53442F58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73C22-ABB0-4739-A60B-CF3C8161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EF47F-09B5-4DC1-A9A8-C17BD486C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9F112-CB53-4033-9FEE-C47CDCB47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1D17-7239-435C-BED9-D0EA1CFB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B4E9E-BA0E-4DE5-BCA8-E33661C6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4439E-619B-47F6-9C88-8AB3B27C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A1A52-41AD-4382-A9AD-B4EFAB9E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9ACFD-5201-4085-BACC-06DCDB24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57CDD-E4F5-4C73-9170-BF7587EB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C10E0-C6D6-4C06-9DE3-F13C2031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4B1B4-CABA-4BA7-B674-BCF90D4F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CA404-201E-4C35-927D-D7F6D935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E3BC1-EDA9-419E-8D8E-26632E05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1AA69-BE22-4B19-B964-7F12EE0DF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A0F1-B4B5-410F-B37C-D44D8637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5EFF5-2C06-4193-8507-6CEA2AFAC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61BCF-A8C4-4E6D-8E23-634F93D8D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EC4A6-BF60-4923-B450-C7D7849F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9598C-4D8D-4568-8244-ABEF3D65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24A39-FC91-435C-A640-F79DD438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5878D-46D8-4B53-92D9-F7BC3F91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46251-DA62-448C-8969-66D078B5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5FF06-EB02-49EE-ABA7-162B24AC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23719-19CB-462A-958A-F787B62F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231EB-2B3D-44BC-98B0-6BC2F731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8FC4-7F82-4A4D-B2D7-CDD76AC9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758C3-6E1B-45D2-85F4-926551F2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2E9B0-81D0-49BE-A38A-84AA811A2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30D00-B345-453D-85BA-032D7D9F2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22D77-7AE2-4CE4-8F67-A46CCBF9C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50622-5BD5-406B-B10E-2E1148A9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E0800-5146-4D66-96F4-84E232A4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ADE3B-EA94-4768-8860-AC3159E1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D31FC-1C74-4597-82F6-387044A5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32304-05D9-4F3F-8D3A-F6C399EE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A9B39-1F19-4262-8432-D4034E53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52F4-14BC-4003-92A3-2370BB94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15E0D-6DE2-4905-A115-AED1341B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1F525-D4E0-44AE-B13A-207C9A73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25394-B8A9-4BF2-B9C3-E8D62E55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C76C1-2316-41CE-9EFB-220F70BE0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5B313-4E74-4382-9AC7-A709FFA3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5FDA0-444F-4F18-932B-364A8725E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F9AB4-987F-499E-867D-7B5CA404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F86BB-EF1A-43A1-A9EC-47627D34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74A8C-1C6F-445E-80A0-427F30AF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27BAC-12D7-4DFD-B5E1-DA037AD4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2E61-2744-49AB-B7FE-79378AD4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21F68-C23E-4179-B1D8-0A1549C6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CD271-21DE-4C6A-95EE-A8B22CFD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79124-1201-4FC7-A301-39B8428B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E2FB3-3CD1-42F0-ACBD-17A80BEA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518AC-BFAF-4CD4-940E-07F6D7AA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DD717-0A81-4A50-894C-FE89E9128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186F8-18D1-48EB-B822-785DBC99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98EF3-4FC2-4070-9102-9785621F6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61DCD-A4FB-4015-9E60-7F022920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C99AD-5E82-4595-8CF9-F67B5191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63D0-F5FB-4F44-B557-9EF52A4F580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54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4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5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5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grpSp>
        <p:nvGrpSpPr>
          <p:cNvPr id="55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5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6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6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6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1F6E-27F5-4E40-963B-E249B065A4F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612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613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4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615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616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7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61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3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3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3BC4-C110-448E-8261-8B1872748EFB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8A76-AC90-45DE-824C-6FABE3348E9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5C11-4149-4A26-98EC-46D01A62A6F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C5EC-BC83-4083-9D70-AA45AF7BED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4250-89EA-4B3B-8F88-7A82C9747DC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0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1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2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2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2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2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2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549C-F43F-4103-BA56-F1C74D733A9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20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pic>
          <p:nvPicPr>
            <p:cNvPr id="321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075F-9648-48E0-82C2-22BCEC241F5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6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6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6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6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7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71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3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7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8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8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07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8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9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0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1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2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3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4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6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3A2E-C40D-4674-ACD7-227F2755579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FDDB-A5A4-426C-B5E3-6915EE9E298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3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5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5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26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27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F8FA-ACFB-450B-BC98-34FCAEE5EC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6966000" cy="38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«Роль семьи и школы в          развитии морального              самосознания  обучающихся».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1979280" y="4941720"/>
            <a:ext cx="410508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январь 2014 год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ИТУАЦИЯ 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Мама ученика 7 класса пришла за консультацией к классному руководителю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У моего сына в этом году вдруг стала заметно проявляться агрессивность по отношению к младшему брату, но и не только к нему, а и к своим друзьям. Ему хочется, как мне кажется, быть лидер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блюдаем с отцом, что агрессивность в отдельных случаях проявляется и в отношениях с нами. Мы считаем, что семья у нас благополучная, все вопросы решаем между собой и с детьми спокойно, доброжелательно. В чем причина такого поведения сына, не знаем. Помогит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Ситуация 4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Я вызвала Вас обсудить поведение Вашего сына. На школьной дискотеке он был замечен в нетрезвом вид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Не может быть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едложите разные варианты продолжения беседы и её результат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5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Наталья Викторовна давайте поговорим о внешнем виде Вашей дочер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Вы считаете, что внешний вид Татьяны не приемлем для школы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Конечно.  Её внешний вид не соотносится с образом школьницы:пирсинг, которым она украсила лицо, блузки, которые не могут прикрыть определённые части тел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А я считаю, что это очень стильно. Сейчас вся молодёжь придерживается такого имидж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должите разговор с матерью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8007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ителям нужна поддержка, помощь и добрый совет. Если вы ими располагаете, создайте необходимые условия для общ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беседуйте с родителями второпях, на бегу; если вы не располагаете временем, лучше договориться о встрече в другой раз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говаривайте с родителями спокойным тоном, не старайтесь назидать и поучать – это вызывает раздражение и негативную реакцию со стороны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мейте терпеливо слушать родителей, давайте возможность высказаться  по всем наболевшим вопрос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спешите с выводами! Обдумайте хорошо то, что вы услышали от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, о чём родители вам поведали, не должно стать достоянием других родителей, учащихся и педагог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есть профессиональная необходимость поделиться той информацией, которую сообщили родители, ещё с кем-то – родителей необходимо поставить об этом в известнос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7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товясь к встрече с семьёй учащегося, необходимо помнить, что любой родитель хочет услышать не только плохое, но и хорошее. Не следует начинать разговор со следующих фраз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У вашего ребёнка совсем плохи дел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аш ребёнок совсем перестал учиться, ничего не делае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ы задумайтесь, скоро экзамены, а ваш, ведь, не сдас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д началом разговора поблагодарите родителя за то,    что пришёл.                                 Выразите надежду, что совместными усилиями удастс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равиться с    возникшими трудностями. А потом уже излагайте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туацию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азговоре уместны следующие высказыв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понимаю, что трудно…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сама мама и знаю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о же Ваш ребёнок, никто не знает его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икто не сможет помочь Вашему ребёнку,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ложите родителям варианты решения проблемы и обсудите их вс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ти беседу необходимо в направлении поиска путей решения проблемы, преодоления трудностей, т.е. не обсуждать, кто  виноват, а решать, что делать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ждая встреча с семьёй учащегося должна заканчивать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нструктивными рекомендациями для родителей и самого учащегос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747720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182600" y="2111400"/>
            <a:ext cx="77724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ложите эффективные методы групповой работы с родителями и докажите их эффективнос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Методы групповой работы с родителями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667836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ое собрание вместе с ученикам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зентация семей, их традиц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левая игр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сс – конференц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брание -  спектакль, в котором участвуют де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ий лектор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ечер вопросов и ответ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испут, дискусс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Экскурси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аздники и т.д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учитель, чтобы его уважали дети и родители, прислушивались к его совета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родитель, чтобы воспитывать моральные качества у своего ребён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е черты учителей и родителей мешают воспитанию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родителей по успешному взаимодействию со школой в вопросах воспитания и развития у детей моральных качест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учителей по успешному взаимодействию с родителями в вопросах воспитания  и развития моральных качеств у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учитель, чтобы его уважали дети и родители, прислушивались к его советам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ружелюб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Щедр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ъектив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тзывч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важение к мнению ученик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еленаправлен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имание того, что ученик – Челове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юбить общение с деть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нать свой предм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итель – пример и идеал!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родитель, чтобы воспитывать моральные качества у своего ребёнка 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нима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им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ешит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оспита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удр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равновеш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удолюб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меть прислушиваться к детя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тель должен быть другом своему ребёнк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мья и школ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это берег и  море.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берегу, ребенок делает свои первые шаги, получает первые уроки жизни, а потом перед ним открывается необозримое море знаний, и курс в этом море прокладывает школа. Это не значит, что он должен совсем оторваться от берег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Л. А. Касси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8920" y="765000"/>
            <a:ext cx="74772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Что мешает учителю в воспитательном и учебном процессах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                               (мнение детей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116000" y="2060280"/>
            <a:ext cx="65340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праведл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равновешенность, вспыльч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мнению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лоб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взятое мнение об ученика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арый взгляд на ми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нос своих личных проблем на ученик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кандаль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знание учебного предме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6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Что мешает родителям правильно строить воспитательный процесс.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(мнение детей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547280" y="1916280"/>
            <a:ext cx="610236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понимание детей и времен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любовь к детя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мение слушать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сокомер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воспит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держ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рвозность, истерич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чужим ошибка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строг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ебёнка учит то, что его окружает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критикуют – он учится ненавиде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у часто демонстрируют враждебность – он учится быть агрессив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высмеивают – он становится замкнут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к ребёнку часто бывают снисходительны – он учится быть терпе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подбадривают – он учится уверенности в себ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хвалят – он учится быть благодар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с ребёнком обычно честны – он учится быть справед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ок живёт в атмосфере дружбы и чувствует себя нужным – он вырастет добрым и уверенным в себе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Стратегия успешного взаимодействия с семьей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помнить, что все семьи имеют сильные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воспринимать ошибки и недостатки семьи  не как ошибки семьи, а как ошибки социальной системы в создании возможностей обучения и развитии компетентности  сем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развивать работу с семьями на основе всего положительного, что у них есть, а не преодолевать ее  недоста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мешательстве в жизнь семьи мы не должны думать, что делаем это «для людей», а должны стремиться к тому, чтобы семья как можно меньше зависела от профессионалов (педагогов, психологов, социальных работник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нципы взаимодействия семьи и школы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гласия – взаимная договорённость о поддержании благоприятных для развития ребёнка услов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яжения – последовательное соотнесение единых требований к ребёнку в школьной и семейной сфере его жизне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ереживания – взаимное выражение расположенности друг к другу, проявление доброжелательности и знаков вним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ичастности – взаимная практическая забота об улучшении условий жизнедеятельности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деянности – реальные совместные практические действия, содействующие счастливому развитию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Удовлетворённость родителей жизнедеятельностью  ОУ</a:t>
            </a:r>
            <a:br>
              <a:rPr sz="2000"/>
            </a:b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(насколько ОУ воспитывает в детях следующие качества)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ая школа                               средня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куратность                                            3,8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сциплинированность                                4,0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ветственность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ля                                                                3,8 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орошие манеры поведения                        3,8  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знерадостность                                        4,0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разованность 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м                                                                   3,9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окие жизненные запросы                      3,7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мостоятельность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стность                                                       4,3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брота                   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уткость                                                         3,6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раведливость                                             3,9                                                  4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рпение                                                         3,9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едний балл                                                 4,0                                                  3,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07-08 уч. год                                              3,9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ыво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Родители удовлетворены работой школы по формированию у детей поведенческих, морально-психологических качеств (уровень удовлетворённости – более 3 балл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Цветограмма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685800" y="1828800"/>
          <a:ext cx="7696080" cy="116856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актуаль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новизн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полез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интерес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3" name="Rectangle 25"/>
          <p:cNvSpPr/>
          <p:nvPr/>
        </p:nvSpPr>
        <p:spPr>
          <a:xfrm>
            <a:off x="611280" y="335592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ждая группа должна оценить все параметры и закрасить графу цветным карандашо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расный – высо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иний – средня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елёный – низ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Реш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Принять выработанные принципы эффективного взаимодействия семьи и школы в деятельности по развитию личности ребенка за основу в своей деятельности каждому учителю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Продолжать проводить внеклассные и общешкольные мероприятия с участием родителей: родительские собрания, деловые игры, конкурсно-игровые программы и т. п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Создать копилку передовых педагогических находок в работе с родител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едсовета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: поиск оптимальных форм совместной работы школы и семьи в деятельности по развитию ребёнк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Tahoma"/>
              </a:rPr>
              <a:t>Задач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ить основные проблемы во взаимодействии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общить и систематизировать теоретические сведения о формах и принципах взаимодействия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аботать принципы эффективного взаимодействия семьи и школ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-46296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уть взаимодействия семьи и школы заключается в заинтересованности обеих сторон в изучении личности ребенка, раскрытии и развитии скрытого в нем потенциала. В основе такого взаимодействия лежат принципы взаимного доверия и уважения, взаимной поддержки и помощи, терпения и терпимости по отношению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руг к другу</a:t>
            </a:r>
            <a:r>
              <a:rPr b="0" lang="ru-RU" sz="3200" spc="-1" strike="noStrike">
                <a:solidFill>
                  <a:srgbClr val="703d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Что Вы ждёте от родителей своего класса? (опрос классных руководителей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заимопомощи, взаимопонимания в вопросах воспитания и обучения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вместной работы над вопросами успеваемости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явления интереса к успехам и неудачам ребён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ветственности за воспитание своих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мощи в организации внеклассных мероприят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ак Вы думаете, что родители ждут от Вас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раведливо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бро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уткого, понимающе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тственного, добросовестного отношения к своим обязаннос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держки дет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орошего качества зна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больше времени проводили с деть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заставили и научили детей учитьс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ть « второй мамой» со всеми прилагающими обязанностями (чтобы учителя полностью изолировали родителей от воспитания детей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еоретическая часть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семьи в формировании нравственно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классного руководителя во взаимодействии семьи и школ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ИТУАЦИЯ 1 (работа в группах, обсуждение ситуаций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386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участники: учительница, мать, сын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Мама пришла в школу по вызову учител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Здравствуйте, М. И., получила Вашу записку.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енику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у, рассказывай маме,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молчи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молчишь? Рассказывай маме, как ты ведешь себя на уроках? За что тебя выгнали с ИЗО? Какую оценку ты получил сегодня по русскому язык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я не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. Ну как тебе не стыдно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это не я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Сколько можно с гобой разговаривать на эту тем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 И ведь никаких слов не понимает. Все учителя на него жалуют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ты голову опустил? За свои поступки отвечать надо. Отвечай, сколько ты еще нервы мои трепать будешь? Что молчишь? Как ты намерен себя дальше вести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Пришел в школу, будь добр, учись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ителю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к с ним еще бороться, ума не приложу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аверное, витамин “Р” давно не прописывал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у все. Мое терпение закончилось, пусть с тобой теперь отец разговаривает. Он из тебя дурь-то выбье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6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2</a:t>
            </a:r>
            <a:br>
              <a:rPr sz="1900"/>
            </a:b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39640" y="765000"/>
            <a:ext cx="77774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ительница вызвала в школу маму Саши. Разговор состоялся в учительской во время перем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совершенно перестали следить за сыно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 есть, как перестала следить? Дневник, тетради проверяю, по-моему, он приходит всегда в школу чист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раздраженно)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что же выходит: я вам лгу, и от нечего делать вызвала вас в школу?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собственно, что натворил сын? Он вообще мне все рассказыв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н дерзит учителям, срывает уроки. Вот вчера безобразничал на уроке черчения, на литературе стрелял из рогатки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знаете, К. М., дома он мне не дерз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у, знаете, мне лучше знать, как ваш сын ведет себя в школе. А если вы мне не верите, тогда мы с вами будем разговаривать в другом месте в присутствии админист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меня не пугайте этим. Саша ведет себя плохо на тех уроках, где неинтересно. Все ребята рассказывают, что на уроках черчения они ходят на головах, по литературе у них уже второй месяц пег постоянного учителя. А по географии у Саши у нового учителя одни двойки стоят. Сын говорит, что все их поставили не за знания, а за поведение – разве это справедливо? В прошлом году он у Л. И. по географии отличником был, в районной олимпиаде участвовал. А новый учитель к нему подхода не нашел, вот Саша и возненавидел географию! Так что наведите сначала у себя поряд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вы нам не делайте замечаний, лучше сына воспитывайт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не грозите мне администрацией, я тоже могу пожаловаться на в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 таком случае мне с вами больше не о чем разговаривать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отворачиваетс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ход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у и мамочка! Докажите ей что-нибуд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4:35:32Z</dcterms:created>
  <dc:creator>1</dc:creator>
  <dc:description/>
  <dc:language>en-US</dc:language>
  <cp:lastModifiedBy>SUOMI</cp:lastModifiedBy>
  <dcterms:modified xsi:type="dcterms:W3CDTF">2014-11-14T11:42:57Z</dcterms:modified>
  <cp:revision>14</cp:revision>
  <dc:subject/>
  <dc:title>«Роль семьи и школы в          развитии морального              самосознания  обучающихся». </dc:title>
</cp:coreProperties>
</file>