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7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2E393-7E0C-42DC-AFA7-DA3B7A553AC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DA01B-B9FE-4BCF-AAAE-04DA28B9820E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19A65-1E5B-4AEC-BBD7-B029E983BEA3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D6D4E-B379-457A-B820-D304A4542EE3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AE51D-45C2-4E6B-806D-28A662C49FE2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AAF35-0DF5-4AD3-9AB7-951C9D58214D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D9671-9664-4DF2-9CF1-DFEE8442E51C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ABDE7-447F-4DC5-B8AF-D073D144F547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873A2-4C68-4F7A-AA9A-6F59F6316FE7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21663-4C13-4381-81F9-B13898DD3F22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788B9-D835-4CFB-9FF2-C6A14B690502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222AD-27F7-4D49-8475-B6460109A607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BF62A-4631-4358-9AC3-D827E1B463CB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080D5-AA96-4875-B821-668708097A3B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D6B39-5CD2-4CEB-89A4-2114286FD32E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516F4-3704-4D01-B3E3-40A80C9D9F46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7D5E4-5381-4177-A26E-B4B93263A4D9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402DC-F9C8-48D4-BD3F-8F036EC80E16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9E8A1-A42E-4D09-85AD-285538F591B1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A71AA-0474-499C-9EE9-79DC030DD788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E7D27-87F2-43D6-AF82-8FFE1845D784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C2AFA-BF46-4C7D-8391-32B7B6F23824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82AA1-3015-4291-846A-F043DA253038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777AE-DE95-4F1B-B57C-1FD3ADB3449A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6CEA7-A637-4301-B6BD-CEAEE5E78B06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33585-3C85-42F4-A969-515CACE0EE26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DF290-8998-403A-8071-34E9E82A9E16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EA606-DFA2-4154-A266-09ACA3A7FE53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DFB7E-3B02-472A-AE6D-E14485C3C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217BC-B31F-4871-AAD8-5C121BE78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FEED20-E8E8-43A1-8135-5DADA2AFF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C16C62-B39D-4107-B5A1-FE5A48842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E0E990-98EF-4034-B963-F21496F98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C9E4BE-1F6A-45C9-8A12-439895649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B3D835-E4FC-4BDF-A85F-58840B5B2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159D97-DF03-4BF9-AE6D-793C498BF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347F46-99C4-49D1-B691-F95C98547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A17CDE-AC71-4EC1-B910-2CB091C73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98AD87-500D-4F59-A56A-235B39586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EB0384-F3E2-4360-8393-931D116E7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C36D7-E551-4C07-A072-22F08CB3F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9EBD27-0C35-4F5D-9626-68E7A5E6C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A830F7-2CE8-4C9F-8B1E-AE9559BB1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37976D-4520-41A8-B4EF-9C59C2C92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5B3206-53BC-41F7-95D5-BCCD0E28E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523E22-CD6E-4143-A8F8-E4BEBFDC0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C78F43-6545-44F5-B884-BDC5B17EB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D31EE3-12BA-49DB-B0FD-13727356C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E940C5-139E-48DB-B8A5-7EE0FA1D4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BAD088-6609-42E8-A950-7FE17F33D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271E3B-05DC-4B1A-B2D3-667BFA800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D8830-050C-4DDC-AD2B-657E9B940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569681-0AD7-49B0-970A-A8DF2E65D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1CBEB6-9588-433B-ACFE-461B0A04C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D05F0B-E577-4325-9915-A4832E842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7884EF-F978-4626-860E-FA4396B31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7B17E0-7CCA-48F2-9502-01473BCA7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F3A509-8D2A-474C-A5D5-BE6E3A738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A965AF-02A5-41DF-A254-4932EFFC3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1AD02B-C414-4E45-A949-7DB552D60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789686-9421-4B9B-8326-94C7C7760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4F2520-1B96-40D4-95A8-A57373870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E7A21-F10F-4F32-9303-337E90C32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37FAE7-604A-4EFC-9EA1-D28DE8BDC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4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E89F2B-1DF0-445B-8F99-AE7DADA4E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9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0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1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5498B9-1171-4688-8095-2538C546D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850EC9-0671-4894-8D84-282B579DB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AF24B4-7A69-44C8-A99D-DE1F0EF46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0848B1-A712-4235-9B17-0E1075275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88AF3F-5BF3-4375-9B20-82A3552B9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D0EA1E-2C56-4910-A086-81A636EFF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8456A6-BA3B-45F1-AC5D-1177E8D66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1401B3-BF06-4854-8CB6-BEE40CA16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62DBA-0B2F-43E9-97D8-62A3D3174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F3D5AA-97FA-488A-9CCA-8672F302D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D6FFAA-CCF6-4AA6-B621-722F0B19C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60D33C-313E-4BF7-BAA9-BCC138421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FA37C3-A52D-40B4-8263-203E2DD6D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3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0D92BF-97B4-4D75-A94C-780A78010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9AA38-2C83-445F-A7AA-807F47EE3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E8109-451A-45B6-9E87-4AF4FEE38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7CCCE-AB7B-4442-87D3-7EA4A70A9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051C9-F6AD-45B2-BFB6-C034CD52A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10922-F305-4026-8C08-8D951DEDF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F8BFE-8B51-4196-98F7-12D04395D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3DB88-6927-4941-9ABF-9F3034762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7160D-275A-48E9-8B07-0C4CE3A9E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6787F-951C-4C97-A9E6-4BF985C8F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B84EC-63DD-4E48-B7A3-401AE068A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7E553-7EF9-4DBA-914C-B2B987EB3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78B777-69F8-42D7-8F1F-7484F3CE4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159A8F-744F-406B-955C-749C696B0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578E02-DB56-4550-AFFF-ACD39F968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97FF23-877E-4887-AC0C-1A6BE120A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37BCBF-C2A4-487B-BEFE-DCF210EDE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82178-92FB-48F0-A400-2A769C308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067413-FBB4-42CA-9CA0-1204AC25D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AFEF2E-C6DE-46DA-BEE7-4E30BBC52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9C884B-B7B5-4CE6-91E4-46634E981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1C6C4F-C229-4AEB-B32C-F14A3338E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52FF6C-215B-4528-92BB-4FF0E63B4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7F5EDE-EC6F-4402-A7C7-C9511F424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B1163C-AB94-44F5-A5EF-80FEDF400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3B879E-E4AB-4091-9676-1DF86CD71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1122F0-F5D9-400E-B9EB-484653BA2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8A19CF-AA5B-4CBA-B128-F295CB664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27C00-68F6-4C45-9B8A-F080C99B6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2EA402-BF2A-43C4-97F1-9CFCE3191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397C86-3CEB-4856-AF44-BFA553263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6D378C-6206-42CB-8E66-114E9E802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7DEA70-5D06-49CB-B7B4-1798E8246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3F8B72-641E-4AA8-A86D-511D17F4E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356302-2A6B-4710-8EAC-3EB669D72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8EB323-A689-49AB-890D-03F3283DB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91664D-6096-4226-AFCA-DEF12F811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3A2033-4FFB-4DD8-9783-9BB709500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8D064A-9D5D-4029-812A-296640720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62B57-53A3-4050-9906-57EBE7F03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0B75F8-68CD-4DDA-A5CC-D42229B68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CB854A-87F2-4743-992E-BB311E77A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7FB86D-E157-4B1C-B809-7822B5D0A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F056B0-0784-4C5F-8BA8-FBAD96AEA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F64B07-5D97-4A26-BE44-EBDB36CBF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25FADF-663B-4D11-811A-2C3928136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61FCEB-217A-453A-84DA-8F313B5D8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C13C62-AD5C-4FE8-8735-86C425A01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DBCDF4-7352-480F-B0DB-837D62A0E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BF94C3-DE47-4B8B-8718-90C139F55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B2B58-1DA9-4A5C-897B-A3769F938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A68C83-6164-4C8F-B14F-2785EDC5E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0DE308-C3DE-4D55-BBD4-DB8028DEE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E749B3-73A0-4C24-952C-8476092D6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B6EDC4-73BD-4831-AF7B-7D649CE9F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1CF3EA-25F9-4C81-BF72-DFD4B061E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F5842D-F3A3-4CD6-939B-59153B029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AF5225-1863-4F8E-9040-FAFE46538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355AF4-E299-4248-826F-AF43285A1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2290F8-F911-4B9C-8AFB-33082BF36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8D8A51-CB52-4914-86BF-724467F0E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973F7-8920-44CA-A9F4-BD9D5CFF3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36EEE6-D6B8-4036-A696-340FE0D2D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8A7C92-4A23-4706-89E1-8DE861FBE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1102E0-AD7E-4E85-B167-86A94680D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FED7F8-512C-41C7-8A19-AA898EDB3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1EC7E3-2B43-48F2-80FA-F7E9470A4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5835EE-D07A-4F63-A133-5207AB41C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DFA168-1B3E-41D4-A7BC-60472B744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A14846-1130-40BF-BD4E-A067071C9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B60A6D-4B72-4673-A925-F4CF72D7B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2BE16B-5F64-4305-92D5-CF79BD69C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C827C-D6FF-4DA7-A3E6-56428F762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2D4F3F-9277-41C2-A852-86A732448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C6C422-A96A-4868-8D59-AFD36D3B0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738D3F-4E49-4A83-8F18-B52DFBAF1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25F641-85DE-4546-A99F-F7E1B219B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64016B-EAEF-4E50-A4D4-01A310A2A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A38AB5-00CC-4B48-9280-9DB559DDE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25A0F2-F884-4D07-A032-FF944C493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948109-200D-4EBD-9E11-D3349EABF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77F203-59D1-4B9A-880F-B25BCC5C4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4DAF71-3515-494D-89C2-A3B6528CD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8E327-48DA-4B2B-A86A-FCBB2D474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D88906-4D9B-49AD-ADE0-D0F557CDA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B6E0D8-DF32-4B07-895E-EEA1D7B4D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40DDA9-333C-488F-9356-79CA158B1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2654D8-6F00-40EA-8A96-84D82F50E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91EBA2-41F7-4EDA-BDEA-96674ECFE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4E32BD-E28D-40FE-B67A-7C854C7C2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0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A42DA7-1220-43B8-AFE7-0E9762914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A7AF47-0574-4460-B1C3-645E475DF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F44718-63B9-48E7-B8FF-B5367D412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4938C8-C5C9-4A6F-9609-7925CFC05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73.xml"/><Relationship Id="rId35" Type="http://schemas.openxmlformats.org/officeDocument/2006/relationships/slideLayout" Target="../slideLayouts/slideLayout74.xml"/><Relationship Id="rId36" Type="http://schemas.openxmlformats.org/officeDocument/2006/relationships/slideLayout" Target="../slideLayouts/slideLayout75.xml"/><Relationship Id="rId37" Type="http://schemas.openxmlformats.org/officeDocument/2006/relationships/slideLayout" Target="../slideLayouts/slideLayout76.xml"/><Relationship Id="rId38" Type="http://schemas.openxmlformats.org/officeDocument/2006/relationships/slideLayout" Target="../slideLayouts/slideLayout77.xml"/><Relationship Id="rId39" Type="http://schemas.openxmlformats.org/officeDocument/2006/relationships/slideLayout" Target="../slideLayouts/slideLayout78.xml"/><Relationship Id="rId40" Type="http://schemas.openxmlformats.org/officeDocument/2006/relationships/slideLayout" Target="../slideLayouts/slideLayout79.xml"/><Relationship Id="rId41" Type="http://schemas.openxmlformats.org/officeDocument/2006/relationships/slideLayout" Target="../slideLayouts/slideLayout80.xml"/><Relationship Id="rId42" Type="http://schemas.openxmlformats.org/officeDocument/2006/relationships/slideLayout" Target="../slideLayouts/slideLayout81.xml"/><Relationship Id="rId43" Type="http://schemas.openxmlformats.org/officeDocument/2006/relationships/slideLayout" Target="../slideLayouts/slideLayout82.xml"/><Relationship Id="rId44" Type="http://schemas.openxmlformats.org/officeDocument/2006/relationships/slideLayout" Target="../slideLayouts/slideLayout83.xml"/><Relationship Id="rId4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080" bIns="100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720" bIns="-97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040" bIns="140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CF446-4AAF-49F1-8E58-75442C560CFD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grpSp>
        <p:nvGrpSpPr>
          <p:cNvPr id="54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54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5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5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55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55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55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55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55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55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</p:grpSp>
      </p:grpSp>
      <p:grpSp>
        <p:nvGrpSpPr>
          <p:cNvPr id="55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55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6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6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56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56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56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56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56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56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</p:grpSp>
      </p:grpSp>
      <p:sp>
        <p:nvSpPr>
          <p:cNvPr id="56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6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31BA0-1F8C-457B-9352-49B005CA330B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1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612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613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614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</p:grpSp>
        <p:grpSp>
          <p:nvGrpSpPr>
            <p:cNvPr id="615" name="Group 6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616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617" name="Rectangle 8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</p:grpSp>
        <p:sp>
          <p:nvSpPr>
            <p:cNvPr id="618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19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20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 type="dt" idx="31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 type="ftr" idx="3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 type="sldNum" idx="33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3649F-B90C-495B-BB3E-45B0F458931E}" type="slidenum">
              <a:rPr b="0" lang="ru-RU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2" name="Picture 2" descr="titlemaster_med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 type="dt" idx="3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7" name="PlaceHolder 5"/>
          <p:cNvSpPr>
            <a:spLocks noGrp="1"/>
          </p:cNvSpPr>
          <p:nvPr>
            <p:ph type="sldNum" idx="3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BEB93-23D6-49A4-96B4-F59074F202B6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1B4C5-8649-40EE-AF0F-962502F13337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2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7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8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9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6FEE9-5C91-42C0-AF07-78E56BB18B3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Line 7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45" name="Oval 8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46" name="Oval 9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47" name="Oval 10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10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ftr" idx="11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sldNum" idx="12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B399D-4722-4397-9D4A-06721A28B1F9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grpSp>
        <p:nvGrpSpPr>
          <p:cNvPr id="192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93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4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5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6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7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8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9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00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01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202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203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4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05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06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7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208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209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grpSp>
            <p:nvGrpSpPr>
              <p:cNvPr id="210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11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12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13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14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15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16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17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18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19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220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21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grpSp>
        <p:nvGrpSpPr>
          <p:cNvPr id="222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223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224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grpSp>
            <p:nvGrpSpPr>
              <p:cNvPr id="225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226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27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28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29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30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31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32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33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34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2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3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4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5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6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7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 type="dt" idx="13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 type="ftr" idx="14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 type="sldNum" idx="15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EE2D9-52A4-48F7-97E1-705484369029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9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320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pic>
          <p:nvPicPr>
            <p:cNvPr id="321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 type="dt" idx="16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 type="sldNum" idx="18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7DDBD-38A5-4CB0-A209-70AB27E3C79B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364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65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66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367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368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369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370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371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2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73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4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080" bIns="100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5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720" bIns="-97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6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040" bIns="140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7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8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379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0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1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2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3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4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5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6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387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388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9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0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1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2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3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4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5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6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7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8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9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0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1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2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3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4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5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6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07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08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09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10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11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12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13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14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15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16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17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 type="dt" idx="19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 type="ftr" idx="20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 type="sldNum" idx="21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7009E-FD07-4297-94ED-E19C49B95901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4"/>
    <p:sldLayoutId id="2147483728" r:id="rId35"/>
    <p:sldLayoutId id="2147483729" r:id="rId36"/>
    <p:sldLayoutId id="2147483730" r:id="rId37"/>
    <p:sldLayoutId id="2147483731" r:id="rId38"/>
    <p:sldLayoutId id="2147483732" r:id="rId39"/>
    <p:sldLayoutId id="2147483733" r:id="rId40"/>
    <p:sldLayoutId id="2147483734" r:id="rId41"/>
    <p:sldLayoutId id="2147483735" r:id="rId42"/>
    <p:sldLayoutId id="2147483736" r:id="rId43"/>
    <p:sldLayoutId id="2147483737" r:id="rId44"/>
    <p:sldLayoutId id="2147483738" r:id="rId4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60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 type="dt" idx="2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 type="ftr" idx="2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4D0F6-CBA7-4C71-A221-E380578FB09E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Line 7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03" name="Oval 8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04" name="Oval 9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05" name="Oval 10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 type="dt" idx="25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 type="ftr" idx="26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 type="sldNum" idx="27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0FCB1-A1F0-40A9-85A0-12C9AB94067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685800" y="691920"/>
            <a:ext cx="6966000" cy="38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7d47d"/>
                </a:solidFill>
                <a:latin typeface="Arial"/>
              </a:rPr>
              <a:t>«Роль семьи и школы в          развитии морального              самосознания  обучающихся».</a:t>
            </a: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 type="subTitle"/>
          </p:nvPr>
        </p:nvSpPr>
        <p:spPr>
          <a:xfrm>
            <a:off x="1979280" y="4941720"/>
            <a:ext cx="4105080" cy="69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январь 2014 года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СИТУАЦИЯ 3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100" spc="-1" strike="noStrike">
                <a:solidFill>
                  <a:srgbClr val="000000"/>
                </a:solidFill>
                <a:latin typeface="Arial"/>
              </a:rPr>
              <a:t>Мама ученика 7 класса пришла за консультацией к классному руководителю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Мать.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У моего сына в этом году вдруг стала заметно проявляться агрессивность по отношению к младшему брату, но и не только к нему, а и к своим друзьям. Ему хочется, как мне кажется, быть лидером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Наблюдаем с отцом, что агрессивность в отдельных случаях проявляется и в отношениях с нами. Мы считаем, что семья у нас благополучная, все вопросы решаем между собой и с детьми спокойно, доброжелательно. В чем причина такого поведения сына, не знаем. Помогите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34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6633"/>
                </a:solidFill>
                <a:latin typeface="Garamond"/>
              </a:rPr>
              <a:t>Ситуация 4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Учитель: Я вызвала Вас обсудить поведение Вашего сына. На школьной дискотеке он был замечен в нетрезвом виде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Мать: Не может быть…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Предложите разные варианты продолжения беседы и её результаты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1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6633"/>
                </a:solidFill>
                <a:latin typeface="Garamond"/>
              </a:rPr>
              <a:t>Ситуация 5</a:t>
            </a:r>
            <a:endParaRPr b="0" lang="en-US" sz="19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Учитель: Наталья Викторовна давайте поговорим о внешнем виде Вашей дочери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Мать: Вы считаете, что внешний вид Татьяны не приемлем для школы?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Учитель: Конечно.  Её внешний вид не соотносится с образом школьницы:пирсинг, которым она украсила лицо, блузки, которые не могут прикрыть определённые части тела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Мать: А я считаю, что это очень стильно. Сейчас вся молодёжь придерживается такого имиджа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Продолжите разговор с матерью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97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Правила эффективного взаимодействия </a:t>
            </a:r>
            <a:br>
              <a:rPr sz="2400"/>
            </a:b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                         классного руководителя с родителями.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837720" y="1915920"/>
            <a:ext cx="80074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одителям нужна поддержка, помощь и добрый совет. Если вы ими располагаете, создайте необходимые условия для общения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е беседуйте с родителями второпях, на бегу; если вы не располагаете временем, лучше договориться о встрече в другой раз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азговаривайте с родителями спокойным тоном, не старайтесь назидать и поучать – это вызывает раздражение и негативную реакцию со стороны родителей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мейте терпеливо слушать родителей, давайте возможность высказаться  по всем наболевшим вопросам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е спешите с выводами! Обдумайте хорошо то, что вы услышали от родителей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То, о чём родители вам поведали, не должно стать достоянием других родителей, учащихся и педагогов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Если есть профессиональная необходимость поделиться той информацией, которую сообщили родители, ещё с кем-то – родителей необходимо поставить об этом в известность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1087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Правила эффективного взаимодействия </a:t>
            </a:r>
            <a:br>
              <a:rPr sz="2000"/>
            </a:b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                         классного руководителя с родителями</a:t>
            </a: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.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900000" y="1341000"/>
            <a:ext cx="77868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Готовясь к встрече с семьёй учащегося, необходимо помнить, что любой родитель хочет услышать не только плохое, но и хорошее. Не следует начинать разговор со следующих фраз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- У вашего ребёнка совсем плохи дела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- Ваш ребёнок совсем перестал учиться, ничего не делает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- Вы задумайтесь, скоро экзамены, а ваш, ведь, не сдаст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еред началом разговора поблагодарите родителя за то,    что пришёл.                                 Выразите надежду, что совместными усилиями удастся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правиться с    возникшими трудностями. А потом уже излагайте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итуацию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 разговоре уместны следующие высказывания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Я понимаю, что трудно…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Я сама мама и знаю…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Это же Ваш ребёнок, никто не знает его лучше, чем Вы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икто не сможет помочь Вашему ребёнку, лучше, чем Вы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едложите родителям варианты решения проблемы и обсудите их все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ести беседу необходимо в направлении поиска путей решения проблемы, преодоления трудностей, т.е. не обсуждать, кто  виноват, а решать, что делать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аждая встреча с семьёй учащегося должна заканчиваться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конструктивными рекомендациями для родителей и самого учащегося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179280" y="333000"/>
            <a:ext cx="7477200" cy="754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Работа в группах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1182600" y="2111400"/>
            <a:ext cx="7772400" cy="40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редложите эффективные методы групповой работы с родителями и докажите их эффективность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2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Методы групповой работы с родителями.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971280" y="1484280"/>
            <a:ext cx="6678360" cy="46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Родительское собрание вместе с учениками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Презентация семей, их традиций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Ролевая игра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Пресс – конференция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Собрание -  спектакль, в котором участвуют дети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Родительский лекторий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Вечер вопросов и ответов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Диспут, дискуссия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Экскурсии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Праздники и т.д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Работа в группах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Какими качествами должен обладать учитель, чтобы его уважали дети и родители, прислушивались к его советам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Какими качествами должен обладать родитель, чтобы воспитывать моральные качества у своего ребёнка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Какие черты учителей и родителей мешают воспитанию детей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оставить советы для родителей по успешному взаимодействию со школой в вопросах воспитания и развития у детей моральных качеств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оставить советы для учителей по успешному взаимодействию с родителями в вопросах воспитания  и развития моральных качеств у детей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9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6633"/>
                </a:solidFill>
                <a:latin typeface="Times New Roman"/>
              </a:rPr>
              <a:t>Какими качествами должен обладать учитель, чтобы его уважали дети и родители, прислушивались к его советам</a:t>
            </a: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 </a:t>
            </a:r>
            <a:r>
              <a:rPr b="0" lang="ru-RU" sz="2100" spc="-1" strike="noStrike">
                <a:solidFill>
                  <a:srgbClr val="006633"/>
                </a:solidFill>
                <a:latin typeface="Garamond"/>
              </a:rPr>
              <a:t>(мнение детей)</a:t>
            </a:r>
            <a:br>
              <a:rPr sz="2100"/>
            </a:b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263520" y="1125000"/>
            <a:ext cx="7386480" cy="49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Справедливость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Строгость (в меру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Доброта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Дружелюбие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Коммуникабельность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Щедрость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Объективность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Отзывчивость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Уважение к мнению учеников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Целенаправленность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онимание того, что ученик – Человек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Любить общение с детьми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Знать свой предмет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Учитель – пример и идеал!!!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2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6633"/>
                </a:solidFill>
                <a:latin typeface="Times New Roman"/>
              </a:rPr>
              <a:t>Какими качествами должен обладать родитель, чтобы воспитывать моральные качества у своего ребёнка (мнение детей)</a:t>
            </a:r>
            <a:br>
              <a:rPr sz="2100"/>
            </a:b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263520" y="907560"/>
            <a:ext cx="7386480" cy="518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Доброта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Строгость (в меру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Терпение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Понимание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Справедливость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Ответственность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Терпимость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Решительность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Воспитанность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Мудрость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Коммуникабельность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Уравновешенность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Трудолюбие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Уметь прислушиваться к детям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Родитель должен быть другом своему ребёнку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49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263520" y="476280"/>
            <a:ext cx="7386480" cy="56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Семья и школа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- это берег и  море.  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На берегу, ребенок делает свои первые шаги, получает первые уроки жизни, а потом перед ним открывается необозримое море знаний, и курс в этом море прокладывает школа. Это не значит, что он должен совсем оторваться от берега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mic Sans MS"/>
              </a:rPr>
              <a:t>                              </a:t>
            </a:r>
            <a:r>
              <a:rPr b="0" i="1" lang="ru-RU" sz="3200" spc="-1" strike="noStrike">
                <a:solidFill>
                  <a:srgbClr val="ff0000"/>
                </a:solidFill>
                <a:latin typeface="Comic Sans MS"/>
              </a:rPr>
              <a:t>Л. А. Кассиль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1258920" y="765000"/>
            <a:ext cx="7477200" cy="78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ahoma"/>
              </a:rPr>
              <a:t>Что мешает учителю в воспитательном и учебном процессах</a:t>
            </a:r>
            <a:br>
              <a:rPr sz="2400"/>
            </a:br>
            <a:r>
              <a:rPr b="0" lang="ru-RU" sz="2400" spc="-1" strike="noStrike">
                <a:solidFill>
                  <a:srgbClr val="333399"/>
                </a:solidFill>
                <a:latin typeface="Tahoma"/>
              </a:rPr>
              <a:t>                                (мнение детей)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1116000" y="2060280"/>
            <a:ext cx="6534000" cy="403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есправедливост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еуравновешенность, вспыльчивост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етерпимость к мнению детей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Злоб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Грубост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редвзятое мнение об учениках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тарый взгляд на мир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еренос своих личных проблем на учеников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кандальност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е знание учебного предмет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965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Что мешает родителям правильно строить воспитательный процесс.</a:t>
            </a:r>
            <a:br>
              <a:rPr sz="2000"/>
            </a:b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 (мнение детей)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1547280" y="1916280"/>
            <a:ext cx="6102360" cy="417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епонимание детей и времени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Чрезмерная любовь к детям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еумение слушать детей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Высокомери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евоспитанност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есдержанност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Грубост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ервозность, истеричност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етерпимость к чужим ошибкам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Чрезмерная строгост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2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Ребёнка учит то, что его окружает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263520" y="907560"/>
            <a:ext cx="7386480" cy="518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Если ребёнка часто критикуют – он учится ненавидеть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Если ребёнку часто демонстрируют враждебность – он учится быть агрессивным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Если ребёнка часто высмеивают – он становится замкнутым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Если к ребёнку часто бывают снисходительны – он учится быть терпеливым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Если ребёнка часто подбадривают – он учится уверенности в себе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Если ребёнка часто хвалят – он учится быть благодарным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Если с ребёнком обычно честны – он учится быть справедливым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Если ребёнок живёт в атмосфере дружбы и чувствует себя нужным – он вырастет добрым и уверенным в себе!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c0039"/>
                </a:solidFill>
                <a:latin typeface="Arial"/>
              </a:rPr>
              <a:t>Стратегия успешного взаимодействия с семьей</a:t>
            </a:r>
            <a:r>
              <a:rPr b="0" lang="ru-RU" sz="3200" spc="-1" strike="noStrike">
                <a:solidFill>
                  <a:srgbClr val="8c003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ы должны помнить, что все семьи имеют сильные сторо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ы должны воспринимать ошибки и недостатки семьи  не как ошибки семьи, а как ошибки социальной системы в создании возможностей обучения и развитии компетентности  семь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ы должны развивать работу с семьями на основе всего положительного, что у них есть, а не преодолевать ее  недостатк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 вмешательстве в жизнь семьи мы не должны думать, что делаем это «для людей», а должны стремиться к тому, чтобы семья как можно меньше зависела от профессионалов (педагогов, психологов, социальных работников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ринципы взаимодействия семьи и школы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971640" y="1483920"/>
            <a:ext cx="738648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ринцип согласия – взаимная договорённость о поддержании благоприятных для развития ребёнка условий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ринцип сопряжения – последовательное соотнесение единых требований к ребёнку в школьной и семейной сфере его жизнедеятельности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ринцип сопереживания – взаимное выражение расположенности друг к другу, проявление доброжелательности и знаков внимания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ринцип сопричастности – взаимная практическая забота об улучшении условий жизнедеятельности ребёнка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ринцип содеянности – реальные совместные практические действия, содействующие счастливому развитию ребёнка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8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800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33"/>
                </a:solidFill>
                <a:latin typeface="Garamond"/>
              </a:rPr>
              <a:t>Удовлетворённость родителей жизнедеятельностью  ОУ</a:t>
            </a:r>
            <a:br>
              <a:rPr sz="2000"/>
            </a:br>
            <a:r>
              <a:rPr b="0" lang="ru-RU" sz="2000" spc="-1" strike="noStrike">
                <a:solidFill>
                  <a:srgbClr val="006633"/>
                </a:solidFill>
                <a:latin typeface="Garamond"/>
              </a:rPr>
              <a:t>(насколько ОУ воспитывает в детях следующие качества)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457200" y="836640"/>
            <a:ext cx="8229600" cy="529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чальная школа                               средняя шко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ккуратность                                            3,8                                                    3,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исциплинированность                                4,0                                                   3,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тветственность                                            4,3                                                   4,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оля                                                                3,8                                                    3,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Хорошие манеры поведения                        3,8                                                    3,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Жизнерадостность                                        4,0                                                    3,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разованность                                             4,3                                                   4,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Ум                                                                   3,9                                                   4,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ысокие жизненные запросы                      3,7                                                   3,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амостоятельность                                       4,0                                                   4,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Честность                                                       4,3                                                   4,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оброта                                                          4,0                                                   4,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Чуткость                                                         3,6                                                  3,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праведливость                                             3,9                                                  4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Терпение                                                         3,9                                                  3,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редний балл                                                 4,0                                                  3,9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007-08 уч. год                                              3,9                                                   3,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Вывод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: Родители удовлетворены работой школы по формированию у детей поведенческих, морально-психологических качеств (уровень удовлетворённости – более 3 баллов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Цветограмма педсовет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762" name=""/>
          <p:cNvGraphicFramePr/>
          <p:nvPr/>
        </p:nvGraphicFramePr>
        <p:xfrm>
          <a:off x="685800" y="1828800"/>
          <a:ext cx="7696080" cy="1168560"/>
        </p:xfrm>
        <a:graphic>
          <a:graphicData uri="http://schemas.openxmlformats.org/drawingml/2006/table">
            <a:tbl>
              <a:tblPr/>
              <a:tblGrid>
                <a:gridCol w="1924200"/>
                <a:gridCol w="1923840"/>
                <a:gridCol w="1924200"/>
                <a:gridCol w="1923840"/>
              </a:tblGrid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f1311"/>
                          </a:solidFill>
                          <a:latin typeface="Comic Sans MS"/>
                        </a:rPr>
                        <a:t>актуальность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f1311"/>
                          </a:solidFill>
                          <a:latin typeface="Comic Sans MS"/>
                        </a:rPr>
                        <a:t>новизна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f1311"/>
                          </a:solidFill>
                          <a:latin typeface="Comic Sans MS"/>
                        </a:rPr>
                        <a:t>полезность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f1311"/>
                          </a:solidFill>
                          <a:latin typeface="Comic Sans MS"/>
                        </a:rPr>
                        <a:t>интерес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63" name="Rectangle 25"/>
          <p:cNvSpPr/>
          <p:nvPr/>
        </p:nvSpPr>
        <p:spPr>
          <a:xfrm>
            <a:off x="611280" y="3355920"/>
            <a:ext cx="7921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Каждая группа должна оценить все параметры и закрасить графу цветным карандашом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Красный – высокая оценка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Синий – средняя оценка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Зелёный – низкая оценка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333399"/>
                </a:solidFill>
                <a:uFillTx/>
                <a:latin typeface="Tahoma"/>
              </a:rPr>
              <a:t>Решение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1. Принять выработанные принципы эффективного взаимодействия семьи и школы в деятельности по развитию личности ребенка за основу в своей деятельности каждому учителю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2.Продолжать проводить внеклассные и общешкольные мероприятия с участием родителей: родительские собрания, деловые игры, конкурсно-игровые программы и т. п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3.Создать копилку передовых педагогических находок в работе с родителям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Цель педсовета</a:t>
            </a:r>
            <a:r>
              <a:rPr b="0" lang="ru-RU" sz="2800" spc="-1" strike="noStrike">
                <a:solidFill>
                  <a:srgbClr val="333399"/>
                </a:solidFill>
                <a:latin typeface="Times New Roman"/>
              </a:rPr>
              <a:t>: поиск оптимальных форм совместной работы школы и семьи в деятельности по развитию ребёнка.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333399"/>
                </a:solidFill>
                <a:uFillTx/>
                <a:latin typeface="Tahoma"/>
              </a:rPr>
              <a:t>Задачи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Определить основные проблемы во взаимодействии семьи и школы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Обобщить и систематизировать теоретические сведения о формах и принципах взаимодействия семьи и школы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Разработать принципы эффективного взаимодействия семьи и школы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685440" y="-462960"/>
            <a:ext cx="6870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263520" y="549000"/>
            <a:ext cx="7386480" cy="55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уть взаимодействия семьи и школы заключается в заинтересованности обеих сторон в изучении личности ребенка, раскрытии и развитии скрытого в нем потенциала. В основе такого взаимодействия лежат принципы взаимного доверия и уважения, взаимной поддержки и помощи, терпения и терпимости по отношению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друг к другу</a:t>
            </a:r>
            <a:r>
              <a:rPr b="0" lang="ru-RU" sz="3200" spc="-1" strike="noStrike">
                <a:solidFill>
                  <a:srgbClr val="703d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ahoma"/>
              </a:rPr>
              <a:t>Что Вы ждёте от родителей своего класса? (опрос классных руководителей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заимопомощи, взаимопонимания в вопросах воспитания и обучения детей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овместной работы над вопросами успеваемости;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роявления интереса к успехам и неудачам ребёнка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ответственности за воспитание своих детей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омощи в организации внеклассных мероприятий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Как Вы думаете, что родители ждут от Вас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праведливого отношения к детям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доброты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чуткого, понимающего отношения к детям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тветственного, добросовестного отношения к своим обязанностям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оддержки детей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хорошего качества знаний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чтобы больше времени проводили с детьми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чтобы заставили и научили детей учиться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быть « второй мамой» со всеми прилагающими обязанностями (чтобы учителя полностью изолировали родителей от воспитания детей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79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Теоретическая часть педсовет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263520" y="1125000"/>
            <a:ext cx="7386480" cy="49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оль семьи в формировании нравственности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оль классного руководителя во взаимодействии семьи и школы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СИТУАЦИЯ 1 (работа в группах, обсуждение ситуаций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1258920" y="1412640"/>
            <a:ext cx="738648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(участники: учительница, мать, сын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500" spc="-1" strike="noStrike">
                <a:solidFill>
                  <a:srgbClr val="000000"/>
                </a:solidFill>
                <a:latin typeface="Arial"/>
              </a:rPr>
              <a:t>Мама пришла в школу по вызову учителя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Мать.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Здравствуйте, М. И., получила Вашу записку. Что случилось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Учительница </a:t>
            </a:r>
            <a:r>
              <a:rPr b="1" i="1" lang="ru-RU" sz="1500" spc="-1" strike="noStrike">
                <a:solidFill>
                  <a:srgbClr val="000000"/>
                </a:solidFill>
                <a:latin typeface="Arial"/>
              </a:rPr>
              <a:t>(ученику).</a:t>
            </a:r>
            <a:r>
              <a:rPr b="0" i="1" lang="ru-RU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Ну, рассказывай маме, что случилось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Ученик </a:t>
            </a:r>
            <a:r>
              <a:rPr b="1" i="1" lang="ru-RU" sz="1500" spc="-1" strike="noStrike">
                <a:solidFill>
                  <a:srgbClr val="000000"/>
                </a:solidFill>
                <a:latin typeface="Arial"/>
              </a:rPr>
              <a:t>молчит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Учительница.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Что молчишь? Рассказывай маме, как ты ведешь себя на уроках? За что тебя выгнали с ИЗО? Какую оценку ты получил сегодня по русскому языку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Ученик.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Да я не ..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Мать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. Ну как тебе не стыдно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Ученик.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Да это не я ..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Мать.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Сколько можно с гобой разговаривать на эту тему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Учительница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. И ведь никаких слов не понимает. Все учителя на него жалуются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Мать.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Что ты голову опустил? За свои поступки отвечать надо. Отвечай, сколько ты еще нервы мои трепать будешь? Что молчишь? Как ты намерен себя дальше вести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Учительница.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Пришел в школу, будь добр, учись!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Мать </a:t>
            </a:r>
            <a:r>
              <a:rPr b="1" i="1" lang="ru-RU" sz="1500" spc="-1" strike="noStrike">
                <a:solidFill>
                  <a:srgbClr val="000000"/>
                </a:solidFill>
                <a:latin typeface="Arial"/>
              </a:rPr>
              <a:t>(учителю).</a:t>
            </a:r>
            <a:r>
              <a:rPr b="0" i="1" lang="ru-RU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Как с ним еще бороться, ума не приложу!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Учительница.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Наверное, витамин “Р” давно не прописывали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Мать.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Ну все. Мое терпение закончилось, пусть с тобой теперь отец разговаривает. Он из тебя дурь-то выбьет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6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6633"/>
                </a:solidFill>
                <a:latin typeface="Garamond"/>
              </a:rPr>
              <a:t>СИТУАЦИЯ 2</a:t>
            </a:r>
            <a:br>
              <a:rPr sz="1900"/>
            </a:br>
            <a:endParaRPr b="0" lang="en-US" sz="19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539640" y="765000"/>
            <a:ext cx="777744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Учительница вызвала в школу маму Саши. Разговор состоялся в учительской во время перемен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читель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Вы совершенно перестали следить за сыном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ать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То есть, как перестала следить? Дневник, тетради проверяю, по-моему, он приходит всегда в школу чисты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читель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(раздраженно).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ак что же выходит: я вам лгу, и от нечего делать вызвала вас в школу?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ать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А собственно, что натворил сын? Он вообще мне все рассказывае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читель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Он дерзит учителям, срывает уроки. Вот вчера безобразничал на уроке черчения, на литературе стрелял из рогатки 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ать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Вы знаете, К. М., дома он мне не дерзи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читель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Ну, знаете, мне лучше знать, как ваш сын ведет себя в школе. А если вы мне не верите, тогда мы с вами будем разговаривать в другом месте в присутствии администраци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ать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А вы меня не пугайте этим. Саша ведет себя плохо на тех уроках, где неинтересно. Все ребята рассказывают, что на уроках черчения они ходят на головах, по литературе у них уже второй месяц пег постоянного учителя. А по географии у Саши у нового учителя одни двойки стоят. Сын говорит, что все их поставили не за знания, а за поведение – разве это справедливо? В прошлом году он у Л. И. по географии отличником был, в районной олимпиаде участвовал. А новый учитель к нему подхода не нашел, вот Саша и возненавидел географию! Так что наведите сначала у себя порядок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читель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А вы нам не делайте замечаний, лучше сына воспитывайте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ать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А вы не грозите мне администрацией, я тоже могу пожаловаться на вас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читель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В таком случае мне с вами больше не о чем разговаривать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(отворачивается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ать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уходи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читель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Ну и мамочка! Докажите ей что-нибудь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0T14:35:32Z</dcterms:created>
  <dc:creator>1</dc:creator>
  <dc:description/>
  <dc:language>en-US</dc:language>
  <cp:lastModifiedBy>SUOMI</cp:lastModifiedBy>
  <dcterms:modified xsi:type="dcterms:W3CDTF">2014-11-14T11:42:57Z</dcterms:modified>
  <cp:revision>14</cp:revision>
  <dc:subject/>
  <dc:title>«Роль семьи и школы в          развитии морального              самосознания  обучающихся». </dc:title>
</cp:coreProperties>
</file>