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D3AB-4C78-4995-A8AF-6B037D9AC9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090F-F6DA-421F-B1A7-95B7D814DBD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B4E5-4E18-4144-B766-FC4872A8DAE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EE0B-6133-4281-8731-AEF52F495E2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3E89-0315-4CC5-A365-9E0A4C5248C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87A5-1E40-4973-9E06-907916DE17F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678F-D5CC-405E-B1DB-F56E506B298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6D75-34EF-4F0A-A435-53109431F7D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F874-AF78-415D-9781-8C2DA729B5F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118D-189D-4C54-98F4-609CE35E7D3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AC22-2AD3-4B2C-95D4-4D52BF40F68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D0B6-1B50-4EBF-B59A-79FA429DB24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4128-A242-48D1-9B63-831004BCA92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F8B2-55AB-4E1E-87C2-047D70DE869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09AE-1A16-4862-BDAF-EDE7DF3AE26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8501-A4B6-40EC-B6DF-0DB578A8EFB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1816-AF27-4B51-9B39-4587F36D9E9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B7C4-F7A5-4CE4-BE47-769999A809F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C3B3-4C5E-4113-8BA0-3D9F672FBF5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0AD2-A1E4-4426-958E-6BEA4049364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A00C-0290-4CBD-A7DB-480A1D44D35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3A87-40B3-4781-AE46-14F6A1FCEB4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D4FE-EBC8-4731-8B25-E8C174E0801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0B4E-5CA1-467F-99AC-AC59DB128B2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3D9B-AB2B-4F80-B8A4-3469A7E356D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6231-FA22-4FB2-AA2C-66A48CD32A9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BABD-CFBB-480B-B8AB-54C84F71762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E3D5-E21E-49F0-8B5B-C9FD9059FB2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0800-1795-496A-A5B0-62567B1B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A0B9-5B59-44C6-BCC8-A5C6571A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15FFF-B91D-42BE-ADEA-648F657D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4962A-4A35-47D5-922D-F185EC29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4130C-981D-49D5-AD30-604A7941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E5746-F175-42F5-B20B-F7D43339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A9648-3253-47F5-8515-A3D28E78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C08E0-B98E-4902-9168-CEA291AF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49EB7-571F-4361-8FD5-2F7A7A63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E7969-54D3-408A-96AF-3169F232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1CF76-EA81-4432-9189-E9F41523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7544F-39B1-4DF7-9D77-C12F8947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10E1-B073-49D8-AD23-65D266B7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DBA4B-1DA3-4CBF-B4D9-577A9A97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3ADF5-77FB-4E31-A7ED-676BDB13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BA61B-DD1D-4DF6-8277-1C8C1EFF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647B8-B94C-4C64-A08E-35B1965B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4D29D7-4A84-404E-886A-1794E142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16831-4F51-4C72-9666-EC2E9EA5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79E39-EBB0-4718-8D38-E1AB913D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5226C-EA3C-4647-9D8C-67A5F0CA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F5509-E493-4408-BD16-97431066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8AE77-3D6F-48FA-BD58-5860C1A9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C35B-E8DD-421E-840C-8909C40E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204AB-6366-4B68-B19C-DC1B1D49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BDF82-1F33-4CC3-AFDE-717034DC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CBD39-63A6-4B94-B275-83B05815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0C810-0AE3-46D0-BCE3-509DC0F2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76016-D433-4913-9DC4-A0B04F2D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CA7DE-ECC9-4C1E-AA14-5F0CD58E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8284C-3539-4D0E-AFF7-41C1CAF6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E73C8-0831-45FE-B665-27CE637E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ACA3D-F8F7-4B68-8506-B0F383F3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6EBAA-FA65-41D7-A8AD-48818BC5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942F-FF0B-4095-A783-3162D6E3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68B73-42B1-4168-9FCE-8BCA8593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F7195-06FF-4890-AB23-EF8B1BAF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30F04-F641-4A44-85BE-470D5354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818A9-EBB0-425A-AD9F-5FC18EEF0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89819-E062-4C82-B440-8F749B54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AF20C-8D2D-4F16-81DD-71320788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8A72F-3E9A-4EE6-9B39-DAF48E65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D5EEA-07DB-4503-BE68-6ABFE998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AC463-38D2-447E-8968-96716C80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E30B6-25D1-4A4A-A34F-9555D315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0F7A-625E-4AE1-9F84-614745BC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B1D0B-AAD8-4527-9B50-CE1DB99A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E8FA7-2136-413C-9571-E8348444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20429-3F92-40E4-B285-09C30E90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F7987-D179-4EBF-88DD-566F0799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EF8DBA-05DC-4F51-9C3C-37580A52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145B-58D4-4C5F-A6D6-0CA90E85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9BF1-8180-4991-AB81-B0CC7095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35EC-7127-4E85-8E4D-9A5A15A7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D9C5-AD77-42A9-90ED-195EF2C1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FAA7-BC93-4D92-A2B1-0A58CAED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8D52-D431-4866-A8AA-B621BF59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4CA7-A841-425F-8B45-6A980042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31D7-ED96-4706-915D-EE815404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3F6A-4A2C-4D6F-BE6C-A4DE6867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FB1D-D036-41CB-9F9F-33C1897D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D1A5-E609-4442-A63B-A36F8010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D6B59-5AAC-4B29-ACC4-7C295080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6819B-C52E-4B04-9829-3912489A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0D62E-5908-4648-9D2C-196F0F32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69C96-1DD3-4B23-9574-D1B131E7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CF84F-1F5E-48DC-A9E8-45CB15F9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06F1-4105-4824-A55D-F22A09E7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A12FE-D0EC-4E38-B055-1E283FC7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B8A45-E3FB-4678-A889-37ACD9F3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DA204-3B04-4239-951C-15A14FE9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9F645-AFE3-41D6-B8B9-7E249A66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9C36C-16F3-437C-8C55-5C7C0B6C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69509-2498-4E3E-982B-31236404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2A573-1F48-45CB-9B71-262FB829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4BD22-7409-4D11-B312-717C1A6F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0CEDC-FD5A-4BC0-BF6F-A1520DAA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257B7-8AFE-4CE8-9199-7D9D0697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381B-3616-4EEE-8179-C1B2BA17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EA7DE-C972-4A28-AC7A-39197A24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4ED20-85A3-4F16-AA1C-A29855D5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79152-242A-457F-8EA7-4BD96E25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EBC75-7194-4204-AE21-20494BC5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408E3-8BBE-4F6E-B376-2620A406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560F8-54D0-4319-9472-C7F363F4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08E99-8E3F-4F84-A629-0EA6A105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DB5C8-11E2-4555-BBF8-7BBE8B9D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689B3-40F3-421B-BD32-0B25620C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D6060-45F1-4E47-80D9-41432A06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A6D-5943-46B6-AAA2-609029A2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D05A2-6FC5-4E50-9EC5-3767942F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2783C-7E36-4B74-B320-B16C0AA9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C26D7-5F69-44B8-9F38-AC93BD30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28921-494F-4BF5-BC3F-78218270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DEE43-6034-4E2D-878C-EC01F708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C4FA8-1963-44B8-8E5E-B38F47E0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FD534-85AC-4858-A491-3608EC9D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D78DC-44C6-43C2-9FE6-8ECF688B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19A68-1DB5-4645-99ED-08FB7912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E8A3D-A5DB-4193-804A-8C67D750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F801-199E-48F4-828A-4A378541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80DD5-0B3E-49FE-8920-67ADC97D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2D210-4180-4302-8798-D5C52152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7D800-C9B0-41CE-8DC8-02BA0794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FB2B7-49BE-4E63-89F9-9090B70C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E0E00-D28F-4CEB-BB90-7126127A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977E6-3CF0-42AD-AA0D-4F76AE01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B2BA6-69E5-42AA-8C8A-E5447998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D9508-62DE-4D2C-B777-E9500852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1FFAC-6745-4404-9872-F2101AFF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E8EA8-0CB1-41DB-853C-01C8B586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6ED0-EFD8-4543-B167-4F705E45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33D05-1E1B-4A51-A2A5-5095F3F7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32694-CE0A-47EB-993D-4B9A8B1E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3CED9-C210-49DE-9298-7EAA7BFF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7D7A0-1620-428D-9B70-FB7E7D9E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E86EE-A05C-4871-B741-A293F1F1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122DA-F47E-40E6-B870-A0350417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5F670-036C-4EC2-9FB1-9708A676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36670-DE91-4B2F-91F4-A33FE157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C9622-0987-4907-82A4-CAC60006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23420-4AC4-45BB-9529-1923017D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C02E-873A-44C3-8AB6-90F7CFA7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73A5D-6438-4D3F-B29D-89460C9E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0EC48-E214-4237-98B8-C00ECC86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35B23-E37A-418F-9B34-2D36CC6F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6E387-ECE0-495D-B3BB-7B2F6249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401E7-DF72-476E-9380-49BBAF1D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0F3A6-3436-4922-B552-59D3969B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145F1-4F60-4D36-9620-EBA76300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D9D8A-6D7E-498F-ACE9-96C1B082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B1FDF-83AA-4B51-949A-BA64BFD1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D942A-AE17-45E1-B1B5-9734ABAF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E9D8-E096-4562-A382-0D774298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6C3B0-E919-4FA7-AFD7-1708835F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4C4FA-6A01-4C91-82E1-39366F40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67260-A980-415A-8E01-8ED1BB5C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4C639-0074-449C-B18E-CF48D69F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98065-E14E-4A87-A827-40648F97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1E081-DFB4-4585-BAF0-D88538F0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B9787-C144-4144-A9F8-C0B2C73D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96217-6C80-4837-8482-3FEFD4E6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D46C2-E623-45AE-975D-BFDE38CD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EB84A-6377-40B9-8A5F-B0F966F2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229B-675A-4B63-90AE-BC13F2FB96B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EDB1-EC4F-4CDB-89AF-7F921850788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1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1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1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1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C3C6-25CD-44D3-9CFF-EE970A842A07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353C-BDBF-4F29-8A82-EF8EBD5ED20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C1DE-B7A7-48F4-9F4E-CDE042B9D8C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AFB9-862F-416A-AB92-57B94E69AF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7965-83AB-483B-A853-A08686FB37C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2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2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399B-22F8-44FB-924F-865A1ADB75E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2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32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6D55-2E9E-4283-A80C-B3DED913A41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6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6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6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7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7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7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8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0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BCEC-9F50-431B-ADC6-8B073E03BBB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BF92-2197-4BA5-821E-44E8F91B9BC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9CF2-D753-452B-87F3-D07DAA8989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69660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«Роль семьи и школы в          развитии морального              самосознания  обучающихся»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979280" y="4941720"/>
            <a:ext cx="41050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нварь 2014 г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ТУАЦИЯ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ама ученика 7 класса пришла за консультацией к классному руководител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 моего сына в этом году вдруг стала заметно проявляться агрессивность по отношению к младшему брату, но и не только к нему, а и к своим друзьям. Ему хочется, как мне кажется, быть лиде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блюдаем с отцом, что агрессивность в отдельных случаях проявляется и в отношениях с нами. Мы считаем, что семья у нас благополучная, все вопросы решаем между собой и с детьми спокойно, доброжелательно. В чем причина такого поведения сына, не знаем. Помогит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Ситуация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Я вызвала Вас обсудить поведение Вашего сына. На школьной дискотеке он был замечен в нетрезвом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Не может быть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ложите разные варианты продолжения беседы и её результат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5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Наталья Викторовна давайте поговорим о внешнем виде Вашей дочер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Вы считаете, что внешний вид Татьяны не приемлем для школ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Конечно.  Её внешний вид не соотносится с образом школьницы:пирсинг, которым она украсила лицо, блузки, которые не могут прикрыть определённые части те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А я считаю, что это очень стильно. Сейчас вся молодёжь придерживается такого имидж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должите разговор с матер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ям нужна поддержка, помощь и добрый совет. Если вы ими располагаете, создайте необходимые условия для общ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беседуйте с родителями второпях, на бегу; если вы не располагаете временем, лучше договориться о встрече в другой раз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говаривайте с родителями спокойным тоном, не старайтесь назидать и поучать – это вызывает раздражение и негативную реакцию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йте терпеливо слушать родителей, давайте возможность высказаться  по всем наболевшим вопрос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спешите с выводами! Обдумайте хорошо то, что вы услышали от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, о чём родители вам поведали, не должно стать достоянием других родителей, учащихся и педаг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есть профессиональная необходимость поделиться той информацией, которую сообщили родители, ещё с кем-то – родителей необходимо поставить об этом в известн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товясь к встрече с семьёй учащегося, необходимо помнить, что любой родитель хочет услышать не только плохое, но и хорошее. Не следует начинать разговор со следующих фраз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 вашего ребёнка совсем плохи де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аш ребёнок совсем перестал учиться, ничего не дела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 задумайтесь, скоро экзамены, а ваш, ведь, не сда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 началом разговора поблагодарите родителя за то,    что пришёл.                                 Выразите надежду, что совместными усилиями удаст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равиться с    возникшими трудностями. А потом уже излагайт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ц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зговоре уместны следующие высказы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понимаю, что трудно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сама мама и знаю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же Ваш ребёнок, никто не знает его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кто не сможет помочь Вашему ребёнку,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ложите родителям варианты решения проблемы и обсудите их вс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ти беседу необходимо в направлении поиска путей решения проблемы, преодоления трудностей, т.е. не обсуждать, кто  виноват, а решать, что делат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ая встреча с семьёй учащегося должна заканчивать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нструктивными рекомендациями для родителей и самого учащегос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2600" y="2111400"/>
            <a:ext cx="77724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ожите эффективные методы групповой работы с родителями и докажите их эффективно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етоды групповой работы с родителя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6783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ое собрание вместе с ученик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зентация семей, их традиц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левая игр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сс – конференц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рание -  спектакль, в котором участвуют де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ий лектор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ечер вопросов и отве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испут, дискусс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Экскурс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аздники и т.д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учитель, чтобы его уважали дети и родители, прислушивались к его совет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родитель, чтобы воспитывать моральные качества у своего ребё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черты учителей и родителей мешают воспитанию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родителей по успешному взаимодействию со школой в вопросах воспитания и развития у детей моральных каче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учителей по успешному взаимодействию с родителями в вопросах воспитания  и развития моральных качеств у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учитель, чтобы его уважали дети и родители, прислушивались к его совет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ужелюб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др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зывч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важение к мнению учен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е того, что ученик – Челов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юбить общение с деть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ть свой предм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итель – пример и идеал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родитель, чтобы воспитывать моральные качества у своего ребёнка 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им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спита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равновеш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меть прислушиваться к дет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ь должен быть другом своему ребён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я и шко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это берег и  море.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берегу, ребенок делает свои первые шаги, получает первые уроки жизни, а потом перед ним открывается необозримое море знаний, и курс в этом море прокладывает школа. Это не значит, что он должен совсем оторваться от бере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Л. А. Касси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4772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Что мешает учителю в воспитательном и учебном процессах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                            (мнение детей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65340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праведл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равновешенность, вспыльч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мнению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взятое мнение об ученик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рый взгляд на ми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нос своих личных проблем на учени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анда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знание учебного предм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Что мешает родителям правильно строить воспитательный процесс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(мнение детей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610236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нимание детей и времен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любовь к детя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мение слушать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омер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воспит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держ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рвозность, истерич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чужим ошибк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строг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ебёнка учит то, что его окружае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критикуют – он учится ненавид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у часто демонстрируют враждебность – он учится быть агрессив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высмеивают – он становится замкнут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к ребёнку часто бывают снисходительны – он учится быть терпе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подбадривают – он учится уверенности в себ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хвалят – он учится быть благодар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с ребёнком обычно честны – он учится быть справед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ок живёт в атмосфере дружбы и чувствует себя нужным – он вырастет добрым и уверенным в себе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тратегия успешного взаимодействия с семьей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помнить, что все семьи имеют сильны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воспринимать ошибки и недостатки семьи  не как ошибки семьи, а как ошибки социальной системы в создании возможностей обучения и развитии компетентности 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развивать работу с семьями на основе всего положительного, что у них есть, а не преодолевать ее  недоста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мешательстве в жизнь семьи мы не должны думать, что делаем это «для людей», а должны стремиться к тому, чтобы семья как можно меньше зависела от профессионалов (педагогов, психологов, социальных рабо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ы взаимодействия семьи и школ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гласия – взаимная договорённость о поддержании благоприятных для развития ребёнка усло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яжения – последовательное соотнесение единых требований к ребёнку в школьной и семейной сфере его жизне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ереживания – взаимное выражение расположенности друг к другу, проявление доброжелательности и знаков вним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ичастности – взаимная практическая забота об улучшении условий жизнедеятельности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деянности – реальные совместные практические действия, содействующие счастливому развитию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Удовлетворённость родителей жизнедеятельностью  ОУ</a:t>
            </a:r>
            <a:br>
              <a:rPr sz="2000"/>
            </a:b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(насколько ОУ воспитывает в детях следующие качества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школа                               средня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куратность                                            3,8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сциплинированность                                4,0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ственность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ля                                                                3,8 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рошие манеры поведения                        3,8  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знерадостность                                        4,0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ность 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                                                                   3,9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ие жизненные запросы                      3,7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ость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стность                                                       4,3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брота                   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кость                                                         3,6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ведливость                                             3,9                                                  4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рпение                                                         3,9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ий балл                                                 4,0                                                  3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7-08 уч. год                                              3,9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Родители удовлетворены работой школы по формированию у детей поведенческих, морально-психологических качеств (уровень удовлетворённости – более 3 балл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ветограмма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85800" y="1828800"/>
          <a:ext cx="7696080" cy="116856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актуаль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новизн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полез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интере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Rectangle 25"/>
          <p:cNvSpPr/>
          <p:nvPr/>
        </p:nvSpPr>
        <p:spPr>
          <a:xfrm>
            <a:off x="611280" y="33559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ждая группа должна оценить все параметры и закрасить графу цветным карандаш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асный – высо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иний – средня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ёный – низ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Реш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Принять выработанные принципы эффективного взаимодействия семьи и школы в деятельности по развитию личности ребенка за основу в своей деятельности каждому учител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Продолжать проводить внеклассные и общешкольные мероприятия с участием родителей: родительские собрания, деловые игры, конкурсно-игровые программы и т. 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Создать копилку передовых педагогических находок в работе с родит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едсовета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: поиск оптимальных форм совместной работы школы и семьи в деятельности по развитию ребёнк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 основные проблемы во взаимодействии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теоретические сведения о формах и принципах взаимодействия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ть принципы эффективного взаимодействия семьи и шко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-4629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ть взаимодействия семьи и школы заключается в заинтересованности обеих сторон в изучении личности ребенка, раскрытии и развитии скрытого в нем потенциала. В основе такого взаимодействия лежат принципы взаимного доверия и уважения, взаимной поддержки и помощи, терпения и терпимости по отношению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уг к другу</a:t>
            </a:r>
            <a:r>
              <a:rPr b="0" lang="ru-RU" sz="3200" spc="-1" strike="noStrike">
                <a:solidFill>
                  <a:srgbClr val="703d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то Вы ждёте от родителей своего класса? (опрос классных руководителе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заимопомощи, взаимопонимания в вопросах воспитания и обучения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местной работы над вопросами успеваемост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явления интереса к успехам и неудачам ребён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ственности за воспитание своих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мощи в организации внеклассных мероприят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Вы думаете, что родители ждут от Вас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едливо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р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уткого, понимающе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го, добросовестного отношения к своим обязаннос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ки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рошего качества зн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больше времени проводили с деть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заставили и научили детей учитьс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« второй мамой» со всеми прилагающими обязанностями (чтобы учителя полностью изолировали родителей от воспитания дете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оретическая часть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семьи в формировании нравствен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классного руководителя во взаимодействии семьи и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ТУАЦИЯ 1 (работа в группах, обсуждение ситуаци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386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участники: учительница, мать, сы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Мама пришла в школу по вызову учител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Здравствуйте, М. И., получила Вашу записку.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енику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у, рассказывай маме,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молчи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молчишь? Рассказывай маме, как ты ведешь себя на уроках? За что тебя выгнали с ИЗО? Какую оценку ты получил сегодня по русскому язык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я не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. Ну как тебе не стыдно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это не я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колько можно с гобой разговаривать на эту тем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И ведь никаких слов не понимает. Все учителя на него жалую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ты голову опустил? За свои поступки отвечать надо. Отвечай, сколько ты еще нервы мои трепать будешь? Что молчишь? Как ты намерен себя дальше вест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шел в школу, будь добр, учись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ителю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 с ним еще бороться, ума не приложу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верное, витамин “Р” давно не прописыва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у все. Мое терпение закончилось, пусть с тобой теперь отец разговаривает. Он из тебя дурь-то выбь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2</a:t>
            </a: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7777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ница вызвала в школу маму Саши. Разговор состоялся в учительской во время перем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совершенно перестали следить за сыно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есть, как перестала следить? Дневник, тетради проверяю, по-моему, он приходит всегда в школу чист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аздраженно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что же выходит: я вам лгу, и от нечего делать вызвала вас в школу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собственно, что натворил сын? Он вообще мне все рассказыв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н дерзит учителям, срывает уроки. Вот вчера безобразничал на уроке черчения, на литературе стрелял из рогатки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знаете, К. М., дома он мне не дерз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у, знаете, мне лучше знать, как ваш сын ведет себя в школе. А если вы мне не верите, тогда мы с вами будем разговаривать в другом месте в присутствии админи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меня не пугайте этим. Саша ведет себя плохо на тех уроках, где неинтересно. Все ребята рассказывают, что на уроках черчения они ходят на головах, по литературе у них уже второй месяц пег постоянного учителя. А по географии у Саши у нового учителя одни двойки стоят. Сын говорит, что все их поставили не за знания, а за поведение – разве это справедливо? В прошлом году он у Л. И. по географии отличником был, в районной олимпиаде участвовал. А новый учитель к нему подхода не нашел, вот Саша и возненавидел географию! Так что наведите сначала у себя поряд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вы нам не делайте замечаний, лучше сына воспитыва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не грозите мне администрацией, я тоже могу пожаловаться на в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аком случае мне с вами больше не о чем разговаривать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отворачиваетс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ход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у и мамочка! Докажите ей что-нибуд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5:32Z</dcterms:created>
  <dc:creator>1</dc:creator>
  <dc:description/>
  <dc:language>en-US</dc:language>
  <cp:lastModifiedBy>SUOMI</cp:lastModifiedBy>
  <dcterms:modified xsi:type="dcterms:W3CDTF">2014-11-14T11:42:57Z</dcterms:modified>
  <cp:revision>14</cp:revision>
  <dc:subject/>
  <dc:title>«Роль семьи и школы в          развитии морального              самосознания  обучающихся». </dc:title>
</cp:coreProperties>
</file>