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00DA-9777-4315-897B-0557D264C4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3A9D-2FD8-4AE5-B3C2-64B43E7139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46E6-2C7B-4BE9-BBFE-25CB31CA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2EAB-B4E3-46E0-9CD7-553E39E4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903-CEF1-447C-90E6-7B337581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1A20-D8D7-491D-8286-1EC34547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BB8E-33C3-482B-9A6E-3AE19728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1F03-F774-4B2F-93F1-925D6825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4495-C9B0-4538-A8E8-CC3DF43D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F6FB-E4D8-40D2-93F2-51AC987A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E051-B19C-4AF4-AA01-61642EF9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DD7D-A93F-45B2-8982-623319C2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0D8B-F115-43D7-A162-3524244D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524-BD73-4064-B8CC-2CC95439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74CD-21F3-47B5-B05C-0A366617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9D35-F8EA-4FE7-995A-CEC4911A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F87B-24B5-4D5A-B7CC-A766A780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2685-5346-4F38-B399-EED02216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B9A5-B3CA-4223-97F5-F878F5D4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F85DC-4366-4A08-8CC3-25C03959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53D8D-7AD5-472F-BCDF-40BD7C6E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A58B1-1585-4D55-8136-C31B7224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9CECF-7BEC-4602-AA58-BFE2C89C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04C32-1F58-4179-80C0-E8C1E4C6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1335-A594-4BA1-ADC0-518121E3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5F2C4-17F9-4DCD-AEC0-2B255B0D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1C820-11E3-46E8-9A70-3096BC14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2B6C8-1BA8-4BB7-BD37-B769797B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E2496-1CDB-475A-B990-6E51490A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4E970-B873-413D-9A90-DB2AFF3A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765F4-279A-4B94-B087-91FAFF1A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A9B63-CAA8-4CB4-AA58-B2D8D106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3FAB7-2122-4674-92CC-0631C029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D11B5-5FF1-4D92-BCC2-AAC686B2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D3966-EC1C-41CA-A8D1-CAA3817F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0624-90D2-4BC9-BBBF-5B7613BD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14E3C-E64E-48C8-BAF0-CA94AC76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DCE0E-9661-4779-85DA-54D3580F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6C3A5-E5A4-48BD-9800-C21F93CC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D7485-BC1F-408E-92CB-369A394F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A2E9F-26A6-4D16-AC8F-EE2BD6A9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59D9D-FAB0-4258-AB59-383FDF47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FE24D-DD10-40B8-8A80-FA6E7D3B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F49A6-2F40-427C-96A1-D5AD345C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095AB-7C91-4D41-9494-CFBF1001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01B6E-A20C-4447-9709-416E56F2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269B-882B-4D55-BD71-E0B154CF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638DD-40DB-40A2-9785-B6E7EE29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C9BF6-FB19-4042-A8F2-CCB425A1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0D621-5FA1-46B8-8D94-D417D42A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56E92-E5B2-4ABD-89CA-90604A73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B5888-0354-4D74-8DE7-FEF4F897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47511-6A25-45E3-A6FF-E32AB586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27402-606E-4101-98CD-0BD472B3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5CFAF-61A8-414D-A541-21D42F2E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7AB52-AF4A-46C0-AA50-74E13DCF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981DC-7FFE-4B4D-8C99-B4687F5D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7BA-F126-46ED-8879-6000632A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76CAB-F3EB-45A3-8273-A4C9DFCD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E3A70-0588-4527-B5A3-D45DAFE1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32530-AC7A-4328-B851-383F0093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5C7B4-8E7B-49CD-9D00-8E254F79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DBD38-F567-46E3-AC68-EFA8BBB6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E1468-3171-415E-AC28-5A20E1D7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07CC5-A45E-4575-903D-80D97A2E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63450-A2F7-48AD-A978-17FD325A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BAE02-0E1E-418C-8FEA-646E5BFA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02017-F1F7-4F2C-A760-9BA61E93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F2E3-CD0A-4CA7-A2E3-117C2F3C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A614E-6F60-4351-A7E1-88A545B2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57E9C-D159-4FD1-BB51-6DFEE116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32ADE-210A-45C4-B393-6ECCEC55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495DC-5B78-4B2B-A49A-4FD0280C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62957-6543-47EC-9B12-705F002D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F229A-26DF-4D74-8334-462D233E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687FB-7D21-459E-8461-3C4941FC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49BD6-B651-49A2-BD62-E4952BCA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99B04-7A65-4E85-95B9-50645763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58CF4-41AA-42BE-B79E-A436907A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D1A1-884A-4DD2-A85D-5E3E23E2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12F5B-821D-4EF0-99B6-684A54C3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2693C-4263-4485-99A8-84B4CA0D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46530-C1B2-49D0-8C45-3E715835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0EBAA-C3AF-46B0-BD5F-11188A16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895EE-19AF-4B58-804B-E32270B8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77FA-F03C-496F-BA08-8127A10B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8759-704E-41D3-9C85-176CFFFC94C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CB6A-2774-4EF0-BF57-0FCBF7F04582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2096-55D8-46FB-89C9-0CD71CF1A8F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67A9-53F3-4B07-93DD-159CB59E88EF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9230-8F8F-4B9C-94FA-5E97271FE26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5031-6366-4B8F-8274-102322F1C1C0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8ECE-FDAB-44A8-9E45-6D5BFC16005A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89040" y="500040"/>
            <a:ext cx="7772400" cy="164628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231840" y="1871640"/>
            <a:ext cx="872964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строй,  тып нярвовай дзейнасці,  камунікатыўнасць, эмацыянальнасць, упэўненасць у сваіх сілах,  прафесіянальная  кампетэнтнасць,  уменне імправізаваць,  уменне арганізаваць,  уменне выбраць метады, формы навучання,  падабраць сродкі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8523360" cy="232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значыць месца ўрока ў тэме;  выдзяліць  задачу ўрока;  праграму, літаратуру; узнавіць матэрыял падручніка; выдзяліць галоўную ідэю ўрока; адабраць змест урока. метады, спосабы вывучэння, замацавыння   матэрыялу; дакладна ставіць задачу; сачыць за настроем вучняў;  эканоміць час;  подтрымліваць тэмп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нкрэтнасць пастаўленай мэты і  задачы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цікаўленасць настаўніка і вучн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ніковасць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Якасць матэрыялу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Фарміраванне ўмення і навык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азнастайнасць  метад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мацыянальная падача матэрыял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індывідуальная работ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Урок – гэта клетачка педагагічнага працэсу,  і ў ім, як сонца ў кроплі вады,  адлюстроўваюцца ўсе яго бакі”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ffffff"/>
                </a:solidFill>
                <a:latin typeface="Century Gothic"/>
              </a:rPr>
              <a:t>выяўленне ўзаемасувязі эфектыўнасці і якасці  ўрока і  вызначэнне шляхоў павышэння эфектыўнасці і якасці ўрока як формы вучэбнай дзейнасці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41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даследаваць шляхі і сродкі павышэння эфектыўнасці і якасці ўрок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крытэрыі эфектыўнага ўрока і выявіць супярэчнасці практык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вучыць практыку арганізацыі вучэбнай дзейнасці на ўроку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метады  і спосабы, якія садзейнічаюць павышэнню эфектыўнасці і якасці ўро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е метадычнага савета па падрыхтоўцы пытанняў, якія будуць разглядацца.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Фестываль педагагічнага майстэрства “ Супені майстэрства” 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Анкетаванне настаўнікаў.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і метадычных аб’яднанняў.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дрыхтоўка памяткі: “Псіхалагічныя аспекты ўрока”.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Работа творчай групы па падрыхтоўцы праекта рашэнняў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сіхолага педагагічны кансіліум “ Адаптацыя першакласнікаў на 1-й ступені агульнай сярэдняй адукацыі”.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Семінар-практыкум “Тэхналогія аналіза і самааналіза ўрока”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Інструктыўна-метадычныя кансультацыя для настаўнікаў-прадметнікаў  “ Шляхі павышэння эфектыўнасці і якасці ўрока”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7200" y="-165240"/>
            <a:ext cx="8229600" cy="1165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наліз выканання рашэнняў чэрвеньскага  педсавета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Даклад “Шляхі і сродкі павышэння эфектыўнасці і якасці ўрока як формы вучэбнай дзейнасці”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Намеснік дырэктара  Т.А.Жук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Работа творчых груп па праблеме педсавета: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трабаванні да сучаснага ўрока  ( Радзейка Т.В., кіраўнік  групы; члены групы: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Ярэміч І.Р.,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жыгар Г.С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2. Шляхі і сродкі павышэння эфектыўнасці і якасці ўрока як формы вучэбнай дзейнасці. (Рамушэвіч Н.А., кіраўнік  групы; члены групы:  Савіцкая М.В., Рыбак І.Г., Бязгодаў В.В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3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Камфортнасць навучання як адно з важнейшых умоў паспяховасці адукацыйнага працэсу. (Нядвецкая С.І., кіраўнік  групы; члены групы: Церашкова Н.К., Каханская С.В., Дулуб А.Я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4. Настаўнік на ўроку. Прафесійны вопыт, майстэрства, метадычная капілка  (Булай  К.З., кіраўнік  групы; члены групы:  Севашко Т.М., Пакачайла А.К., Цурына В.Ю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5. Псіхалагічныя і выхаваўчыя моманты на ўроку (Жданюк Л.М.- кіраўнік  групы;.члены групы:  Сычэўнік Н.Р.,  Паўтарак А.Т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6. Матэрыяльна-тэхнічная база ўрока. (  Сямак В.Э.-  кіраўнік  групы , члены групы: Адамцэвіч І.М., Сівалоўская Л. І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7. Правядзенне  майстар-класа.</a:t>
            </a: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8. Работа творчай групы па падрыхтоўцы праекта рашэнняў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двядзенне вынікаў:   праект рашэння педсавета: абмеркаванне і яго прыняцце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9. Рэфлексі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4552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это педагог, способный преобразовываться , способный создавать вокруг себя новое, производительная активность которого на каждом новом этапе становится совершенней и эффективней”- такім бачыць сучаснага педагога практык, настаўнік вышэйшай катэгорыі Пракапенка Ніна Іосіфаўн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ў перакладзе з  лацінскага – «эфектос» - выкананне дзеянняў, вынік, наступства нейкіх дзеянняў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8504280" cy="1888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настаўнік ажыццяўляе комплекс дзеянняў, рашае  псіхалагічныя , дыдактычныя, метадычныя , арганізацыйныя задачы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042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узровень паспяховасці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прадмета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тэмп работы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падрыхтаванасць вучняў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дысцыпліны,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Індывідуальныя асаблівасці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31:21Z</dcterms:created>
  <dc:creator>школа</dc:creator>
  <dc:description/>
  <dc:language>en-US</dc:language>
  <cp:lastModifiedBy>User</cp:lastModifiedBy>
  <dcterms:modified xsi:type="dcterms:W3CDTF">2012-11-12T09:18:57Z</dcterms:modified>
  <cp:revision>8</cp:revision>
  <dc:subject/>
  <dc:title>Педагагічны савет </dc:title>
</cp:coreProperties>
</file>