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7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683C4-46AB-4124-9A34-A83082A6F1D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4C7D2-B049-4894-8D2E-A0BE778F3138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6BCF6-B2E6-4FBA-9426-E8415E1FA0D3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597C0-E6AA-4C83-9B2B-87CFE77145F4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130B3-AD07-4444-9C0B-5A0CABDA5300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495DC-240F-4701-A619-EA999541A559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979BA-74AD-4E3E-A575-970B84D62207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08167-E66E-415B-8D0A-C72527C6704E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7DFDE-E8FE-4223-A58B-B1513BFDB5E0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9F007-43CA-4B59-947E-F12785399191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32964-E02C-455D-A2D4-4933CB5CA3C5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DBB88-94B9-4475-8FC8-B7080B8F9975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E4D6F-BB0D-45D2-8118-5815E11A06DB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2111A-3F04-4D9F-9697-C53247DBF4D3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D2878-838D-4EEC-B87E-4FC39DD8D590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12E5D-8769-4146-BBC9-CD7A91C6FB76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E66A8-9AD3-4884-9BEB-C5B685BA5EEF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84C64-05DF-4509-AC6F-18FA0BAA40A7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6C2C5-A7A1-46E7-AEB5-C1CF5A311E97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F58FE-BBAE-423B-B597-BD76D53EC5D7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E6645-BB68-46C1-A3FE-0695D724A851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97F89-6BB6-4FA4-9B62-66089BA1CEEB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80104-5D2E-40A5-8B17-97D1D006DC0F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7EC92-1394-4DEB-A842-097A626D1A1C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ACB28-23E7-4570-BE8C-0C9D35655CBD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C12F3-1F51-465D-B42A-9C7AECD168BF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EF85A-5C2C-4A31-BF42-6DC6766BCDC6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69AF2-EE63-4D3D-8F15-8758B2DF3554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04A4E-80B3-46D5-B003-5623F5321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EE3BF-7B9B-4680-BFC0-6B2B3313E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CE89F7-9E97-4ACE-9766-B1C2006BB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65879B-B822-4B94-B35B-42EB67A3A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E8686E-2DDC-4BA8-87F9-8DAB634B5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232079-F64F-4887-A7E7-189291671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55A4B9-D7E7-44DA-9ACE-D6B571E79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8FD3FD-D930-496B-86A5-B8407A793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DDA220-DC2B-4ED7-A9B3-A1558A44D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6C770D-5A80-45F0-9340-FCD3A54C7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BC7751-8675-456A-8D47-605D0FA90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DC29E6-BCA1-4228-BBF8-CC3733DDD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A9707-B271-4410-AE52-97B63B3E6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03BBE0-8D2F-4FC7-BE31-ED32F658E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AE5042-1B37-4D2E-8517-A0C56321C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ECF17E-2306-45E5-AA72-762B97E15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B30915-98D2-49E3-9439-6B4FF00A7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F25F99-1790-4867-8110-1DD0B184A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5105BB-8481-4A8A-BF8C-1DFA1829F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AABCCA-BA4C-492C-A145-875292733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960B76-049F-4C2C-AA89-BD68AD2BA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645319-8BE9-431C-88E3-EC17A6F2D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97AB3E-6735-432D-A306-59E5DB298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5B64F-6F7D-4F2E-A9C9-5454A631A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A296A5-C4EB-4FAB-ACB5-234E7BEFB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E7923C-13CA-4214-8D49-670DD5982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6CCCBA-01CB-43F9-BB88-146B7059A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B1FFD3-086B-482E-8A70-04DA4A27A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A3916E-F010-40E4-B158-751134E3B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147113-8042-4861-8833-F30B17BA2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626EEF-3C6D-4BE4-81AE-059F8437B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48ECB4-D0A9-4291-A9A2-A8005EDCF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1505A3-7BAA-4D55-9D74-0603DD2A7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C310A5-BD75-402D-95C2-3DF7777AC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3523C-62F2-4A5A-B7FF-BEBE6317E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6981F9-4642-493C-9F0C-2337B2C7D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4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03398D-5F1B-40B7-B517-D2A6A387D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9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0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1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3B5D0D-5C7F-4E79-8297-767CC97C3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BD9E54-DD2E-4892-A720-5DFAD04A2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229093-E9E7-40FC-ACA5-3A24ABC47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558649-CBE1-4285-9BAE-5F8AB3F68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F40280-22D1-4C62-ADCE-737FDFAAE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DD1026-3F76-478B-9D2A-25566CA46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4F2694-9944-4833-B487-18CC33617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DC6AB6-68E0-4741-B152-545EB23FD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674B8-5B04-42F4-91E4-453A5B11C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E1067E-97A1-474E-9F61-2ECAE5FA4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72AB30-0B20-40CE-BFE1-BF548633B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89FC62-3F06-4690-86D4-9BDA6341C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DD6AE3-4C8B-483D-A336-EAA01451D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3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4F0F92-BD2F-47CB-BEC8-85F9EA2AF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F1182-22BD-47EE-8085-2A8C20CAA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238D9-2225-4E46-BB45-69C8B98BA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BDBA9-E3AE-441F-B738-98211197C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42816-5D7B-4EBA-96B0-FC6AC4034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8E8A4-874E-46DB-8C0F-7EDF4B860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7D785-F364-440B-9C58-9479FF610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18EE0-66BF-4CA3-AACE-24DF88523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C3C52-2BEC-4FDB-837D-97F009CB5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6A83A-7C85-429C-A89C-65B1B634E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BEB0A-FA6E-49D5-B528-7614C1E4B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095C1-CE85-4332-BF2F-594AC3E8D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034B17-4592-483A-A611-06AA4269D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314BCE-7FDE-432D-943A-EB7C0A2B5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F6E20D-A592-4691-A22B-5EAACF856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931D49-8F4B-4E5D-8BD9-1E29503B0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680213-32FA-4B38-BE5C-7A1630EF0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51769-E699-45DE-A142-60B8CD4FC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67ABDF-98B7-4AC4-A542-A13F3A292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5543C2-7176-46D6-8942-960C40435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454F00-3AA9-46AD-A138-0A4A88B78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EADEED-A2A8-43EC-8AE6-3F790D60E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FDA7FC-992B-4D73-B398-ADD4ABA81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4B32A4-9263-4686-8279-6C604D98F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7BA9B2-9F24-4B75-9C63-443E89CBD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C0A2DB-CC2B-4440-8399-BD7819F13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6BB807-310D-4AE0-91C0-05C68BA20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09A423-F8D6-4C09-B43D-AC423F20F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1E8E1-C7F9-43A5-ABE5-9989BE1D7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525D43-A7A1-48D2-9F5F-B91C7C27B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2A1BF5-FE08-4D71-9BF6-E4ACB8AE7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4E1763-CD24-4F0A-B89A-29E7C76F8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BB1169-A70B-4D76-9FE0-3AB7B93C3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917680-22C1-4E04-B938-27B230C84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FCBB10-44E7-422C-84FF-A00712485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B9EE7A-EC30-48A1-A56E-DAF0499F2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2EA057-C3EC-47F5-AD3E-F25CD275A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96E758-9DED-4155-8DEA-DDF9C09F5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0128DC-514D-45A2-835C-8A9F8DE2E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CE8B3-7B23-4C17-B084-BA6FFD38A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E12442-C02A-4022-AE6E-6CCDF00FD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A0BDFD-A8CD-4525-9C11-260B05B41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594EEF-2F06-45B3-8772-548D42DFC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98E29D-81E8-41C5-825E-2E4BD68F5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EFA1E6-E709-4D04-BE1B-7DBB8DF47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123C7B-13B6-4FA3-9C4A-D8AD80338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F64817-1B0A-40A1-AC6C-A01A3853F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2EAE8B-1FB2-4509-974C-288B8041C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2097EA-4643-4A55-8C9B-1E17F4935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CD0152-777A-40D5-BACB-54098ED16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93002-1A37-4A62-962B-C5F56B605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C4A8C4-E985-49BB-AD5D-FB94EEA96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EA52E8-E54E-4D74-B1C5-D98264282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F19BC1-F043-492B-931B-FD608AB68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6F82CA-3427-4E34-A6E9-98188E5B2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FBBD7C-D531-4FA2-BE7A-BDE274184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B2E55B-F6C8-40B3-B585-394D2B4BE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C92EA2-17FB-41D2-83B2-181FFED64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7D99FC-7ADC-4B4C-A3F5-437FE9EFE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DB9D88-32A5-4265-8CA7-57B7C6E7A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13A31F-A77C-44DF-9256-6B3923864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5416D-8F72-4747-B958-5D8BB9241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553C87-DD9F-40AD-93C5-BF022DD9D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D2AFDC-E74C-4435-801F-ED98D3827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3566C4-753E-43A8-A119-4CEEA4D25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E425BB-B918-4455-9636-C4DEDA9FF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3ABBE8-DF85-4C6F-ABD7-52FF41E19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BD4CE1-D2DB-4054-8CAC-AA8E6E75A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6E66EC-F920-45A2-B304-3CD033751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CF0C8C-50C0-425E-80A8-856B9C367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DFBF83-0BA8-4D3D-A31F-F7EC11273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556DB2-5211-4702-8B2D-3713FF642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F7B50-9501-4496-A399-EB7DA554F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B4384E-8E5E-4E2F-9818-30B59317A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484386-0451-40F8-AB99-1BD976DF0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E6FA69-4A18-4DB1-A667-E422959DC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67EAE0-9394-4E36-B765-F74B24837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627904-76D8-41F3-A0EC-6AF5C4776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6DCFE0-4297-4B1B-ACF5-C1C2CA090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86CA9B-BBA3-468D-BF4E-BF68A95C3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0E7BFC-7501-4DCF-A330-22BB4898C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EBC501-6FCC-4473-8DD6-06E06390B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D3E39D-109D-43E1-AFBC-4F20E1C2A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95E3F-4EEB-4881-96AB-CDEEE9ECC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F6156A-4EA4-4D1F-A611-C615CDAC6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AA2AE7-A1A5-4194-B2FE-43C283C3B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BE58BC-51AC-414B-9532-41D1A7B02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4FC694-F2D5-4DCB-A995-370B56FE3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0527D8-9D77-4E53-8580-52923C86E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233AAA-5FB5-462E-B224-87CF0B765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0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CBCBB0-0CD3-48F3-836C-FCF92FFCC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AAE560-7DCF-4F90-9AD6-B4D0FB679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924535-9420-415C-B32C-FDF8F68AA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15CEC7-B2AB-4CB1-BF55-D3DA822C1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73.xml"/><Relationship Id="rId35" Type="http://schemas.openxmlformats.org/officeDocument/2006/relationships/slideLayout" Target="../slideLayouts/slideLayout74.xml"/><Relationship Id="rId36" Type="http://schemas.openxmlformats.org/officeDocument/2006/relationships/slideLayout" Target="../slideLayouts/slideLayout75.xml"/><Relationship Id="rId37" Type="http://schemas.openxmlformats.org/officeDocument/2006/relationships/slideLayout" Target="../slideLayouts/slideLayout76.xml"/><Relationship Id="rId38" Type="http://schemas.openxmlformats.org/officeDocument/2006/relationships/slideLayout" Target="../slideLayouts/slideLayout77.xml"/><Relationship Id="rId39" Type="http://schemas.openxmlformats.org/officeDocument/2006/relationships/slideLayout" Target="../slideLayouts/slideLayout78.xml"/><Relationship Id="rId40" Type="http://schemas.openxmlformats.org/officeDocument/2006/relationships/slideLayout" Target="../slideLayouts/slideLayout79.xml"/><Relationship Id="rId41" Type="http://schemas.openxmlformats.org/officeDocument/2006/relationships/slideLayout" Target="../slideLayouts/slideLayout80.xml"/><Relationship Id="rId42" Type="http://schemas.openxmlformats.org/officeDocument/2006/relationships/slideLayout" Target="../slideLayouts/slideLayout81.xml"/><Relationship Id="rId43" Type="http://schemas.openxmlformats.org/officeDocument/2006/relationships/slideLayout" Target="../slideLayouts/slideLayout82.xml"/><Relationship Id="rId44" Type="http://schemas.openxmlformats.org/officeDocument/2006/relationships/slideLayout" Target="../slideLayouts/slideLayout83.xml"/><Relationship Id="rId4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080" bIns="100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720" bIns="-97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040" bIns="140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47347-A38E-41AD-AFDB-A1905D33E8A0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grpSp>
        <p:nvGrpSpPr>
          <p:cNvPr id="54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54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5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5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55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55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55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55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55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55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</p:grpSp>
      </p:grpSp>
      <p:grpSp>
        <p:nvGrpSpPr>
          <p:cNvPr id="55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55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6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6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56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56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56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56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56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56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</p:grpSp>
      </p:grpSp>
      <p:sp>
        <p:nvSpPr>
          <p:cNvPr id="56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6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5222C-490B-461B-BA33-10A23B410818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1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612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613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614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</p:grpSp>
        <p:grpSp>
          <p:nvGrpSpPr>
            <p:cNvPr id="615" name="Group 6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616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617" name="Rectangle 8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</p:grpSp>
        <p:sp>
          <p:nvSpPr>
            <p:cNvPr id="618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19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20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 type="dt" idx="31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 type="ftr" idx="3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 type="sldNum" idx="33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1AD3C-7E48-43FE-A2C4-23AB94397617}" type="slidenum">
              <a:rPr b="0" lang="ru-RU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2" name="Picture 2" descr="titlemaster_med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 type="dt" idx="3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7" name="PlaceHolder 5"/>
          <p:cNvSpPr>
            <a:spLocks noGrp="1"/>
          </p:cNvSpPr>
          <p:nvPr>
            <p:ph type="sldNum" idx="3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00ADD-2B7A-4D45-9079-98750EDDD244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E3D5B-DF7C-4580-B76A-BB2AD8C1F23A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2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7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8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9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00F9F-FB07-4493-90D6-7B46AEED58F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Line 7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45" name="Oval 8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46" name="Oval 9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47" name="Oval 10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10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ftr" idx="11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sldNum" idx="12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32BD8-ACDF-40A2-A619-CCD29C753A2F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grpSp>
        <p:nvGrpSpPr>
          <p:cNvPr id="192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93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4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5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6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7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8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9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00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01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202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203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4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05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06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7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208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209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grpSp>
            <p:nvGrpSpPr>
              <p:cNvPr id="210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11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12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13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14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15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16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17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18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19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220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21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grpSp>
        <p:nvGrpSpPr>
          <p:cNvPr id="222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223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224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grpSp>
            <p:nvGrpSpPr>
              <p:cNvPr id="225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226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27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28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29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30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31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32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33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34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2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3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4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5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6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7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 type="dt" idx="13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 type="ftr" idx="14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 type="sldNum" idx="15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53C3D-FAB8-4CB9-9ECA-B95D393A8C54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9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320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pic>
          <p:nvPicPr>
            <p:cNvPr id="321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 type="dt" idx="16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 type="sldNum" idx="18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B1E67-1893-47FA-9C54-D84B753C9DD6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364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65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66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367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368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369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370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371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2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73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4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080" bIns="100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5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720" bIns="-97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6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040" bIns="140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7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8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379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0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1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2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3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4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5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6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387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388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9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0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1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2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3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4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5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6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7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8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9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0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1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2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3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4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5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6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07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08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09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10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11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12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13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14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15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16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17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 type="dt" idx="19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 type="ftr" idx="20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 type="sldNum" idx="21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7783C-7177-4636-BA68-F647B8EF2DC7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4"/>
    <p:sldLayoutId id="2147483728" r:id="rId35"/>
    <p:sldLayoutId id="2147483729" r:id="rId36"/>
    <p:sldLayoutId id="2147483730" r:id="rId37"/>
    <p:sldLayoutId id="2147483731" r:id="rId38"/>
    <p:sldLayoutId id="2147483732" r:id="rId39"/>
    <p:sldLayoutId id="2147483733" r:id="rId40"/>
    <p:sldLayoutId id="2147483734" r:id="rId41"/>
    <p:sldLayoutId id="2147483735" r:id="rId42"/>
    <p:sldLayoutId id="2147483736" r:id="rId43"/>
    <p:sldLayoutId id="2147483737" r:id="rId44"/>
    <p:sldLayoutId id="2147483738" r:id="rId4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60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 type="dt" idx="2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 type="ftr" idx="2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519BD-22D3-44B8-A0DA-FF71EDE5939E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Line 7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03" name="Oval 8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04" name="Oval 9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05" name="Oval 10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 type="dt" idx="25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 type="ftr" idx="26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 type="sldNum" idx="27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654F9-B9B7-4C25-A911-3D5D94D93C0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685800" y="691920"/>
            <a:ext cx="6966000" cy="38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7d47d"/>
                </a:solidFill>
                <a:latin typeface="Arial"/>
              </a:rPr>
              <a:t>«Роль семьи и школы в          развитии морального              самосознания  обучающихся».</a:t>
            </a: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 type="subTitle"/>
          </p:nvPr>
        </p:nvSpPr>
        <p:spPr>
          <a:xfrm>
            <a:off x="1979280" y="4941720"/>
            <a:ext cx="4105080" cy="69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январь 2014 года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СИТУАЦИЯ 3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100" spc="-1" strike="noStrike">
                <a:solidFill>
                  <a:srgbClr val="000000"/>
                </a:solidFill>
                <a:latin typeface="Arial"/>
              </a:rPr>
              <a:t>Мама ученика 7 класса пришла за консультацией к классному руководителю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Мать.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У моего сына в этом году вдруг стала заметно проявляться агрессивность по отношению к младшему брату, но и не только к нему, а и к своим друзьям. Ему хочется, как мне кажется, быть лидером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Наблюдаем с отцом, что агрессивность в отдельных случаях проявляется и в отношениях с нами. Мы считаем, что семья у нас благополучная, все вопросы решаем между собой и с детьми спокойно, доброжелательно. В чем причина такого поведения сына, не знаем. Помогите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34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6633"/>
                </a:solidFill>
                <a:latin typeface="Garamond"/>
              </a:rPr>
              <a:t>Ситуация 4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Учитель: Я вызвала Вас обсудить поведение Вашего сына. На школьной дискотеке он был замечен в нетрезвом виде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Мать: Не может быть…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Предложите разные варианты продолжения беседы и её результаты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1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6633"/>
                </a:solidFill>
                <a:latin typeface="Garamond"/>
              </a:rPr>
              <a:t>Ситуация 5</a:t>
            </a:r>
            <a:endParaRPr b="0" lang="en-US" sz="19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Учитель: Наталья Викторовна давайте поговорим о внешнем виде Вашей дочери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Мать: Вы считаете, что внешний вид Татьяны не приемлем для школы?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Учитель: Конечно.  Её внешний вид не соотносится с образом школьницы:пирсинг, которым она украсила лицо, блузки, которые не могут прикрыть определённые части тела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Мать: А я считаю, что это очень стильно. Сейчас вся молодёжь придерживается такого имиджа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Продолжите разговор с матерью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97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Правила эффективного взаимодействия </a:t>
            </a:r>
            <a:br>
              <a:rPr sz="2400"/>
            </a:b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                         классного руководителя с родителями.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837720" y="1915920"/>
            <a:ext cx="80074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одителям нужна поддержка, помощь и добрый совет. Если вы ими располагаете, создайте необходимые условия для общения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е беседуйте с родителями второпях, на бегу; если вы не располагаете временем, лучше договориться о встрече в другой раз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азговаривайте с родителями спокойным тоном, не старайтесь назидать и поучать – это вызывает раздражение и негативную реакцию со стороны родителей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мейте терпеливо слушать родителей, давайте возможность высказаться  по всем наболевшим вопросам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е спешите с выводами! Обдумайте хорошо то, что вы услышали от родителей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То, о чём родители вам поведали, не должно стать достоянием других родителей, учащихся и педагогов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Если есть профессиональная необходимость поделиться той информацией, которую сообщили родители, ещё с кем-то – родителей необходимо поставить об этом в известность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1087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Правила эффективного взаимодействия </a:t>
            </a:r>
            <a:br>
              <a:rPr sz="2000"/>
            </a:b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                         классного руководителя с родителями</a:t>
            </a: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.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900000" y="1341000"/>
            <a:ext cx="77868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Готовясь к встрече с семьёй учащегося, необходимо помнить, что любой родитель хочет услышать не только плохое, но и хорошее. Не следует начинать разговор со следующих фраз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- У вашего ребёнка совсем плохи дела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- Ваш ребёнок совсем перестал учиться, ничего не делает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- Вы задумайтесь, скоро экзамены, а ваш, ведь, не сдаст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еред началом разговора поблагодарите родителя за то,    что пришёл.                                 Выразите надежду, что совместными усилиями удастся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правиться с    возникшими трудностями. А потом уже излагайте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итуацию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 разговоре уместны следующие высказывания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Я понимаю, что трудно…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Я сама мама и знаю…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Это же Ваш ребёнок, никто не знает его лучше, чем Вы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икто не сможет помочь Вашему ребёнку, лучше, чем Вы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едложите родителям варианты решения проблемы и обсудите их все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ести беседу необходимо в направлении поиска путей решения проблемы, преодоления трудностей, т.е. не обсуждать, кто  виноват, а решать, что делать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аждая встреча с семьёй учащегося должна заканчиваться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конструктивными рекомендациями для родителей и самого учащегося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179280" y="333000"/>
            <a:ext cx="7477200" cy="754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Работа в группах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1182600" y="2111400"/>
            <a:ext cx="7772400" cy="40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редложите эффективные методы групповой работы с родителями и докажите их эффективность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2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Методы групповой работы с родителями.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971280" y="1484280"/>
            <a:ext cx="6678360" cy="46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Родительское собрание вместе с учениками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Презентация семей, их традиций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Ролевая игра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Пресс – конференция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Собрание -  спектакль, в котором участвуют дети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Родительский лекторий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Вечер вопросов и ответов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Диспут, дискуссия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Экскурсии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Праздники и т.д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Работа в группах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Какими качествами должен обладать учитель, чтобы его уважали дети и родители, прислушивались к его советам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Какими качествами должен обладать родитель, чтобы воспитывать моральные качества у своего ребёнка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Какие черты учителей и родителей мешают воспитанию детей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оставить советы для родителей по успешному взаимодействию со школой в вопросах воспитания и развития у детей моральных качеств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оставить советы для учителей по успешному взаимодействию с родителями в вопросах воспитания  и развития моральных качеств у детей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9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6633"/>
                </a:solidFill>
                <a:latin typeface="Times New Roman"/>
              </a:rPr>
              <a:t>Какими качествами должен обладать учитель, чтобы его уважали дети и родители, прислушивались к его советам</a:t>
            </a: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 </a:t>
            </a:r>
            <a:r>
              <a:rPr b="0" lang="ru-RU" sz="2100" spc="-1" strike="noStrike">
                <a:solidFill>
                  <a:srgbClr val="006633"/>
                </a:solidFill>
                <a:latin typeface="Garamond"/>
              </a:rPr>
              <a:t>(мнение детей)</a:t>
            </a:r>
            <a:br>
              <a:rPr sz="2100"/>
            </a:b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263520" y="1125000"/>
            <a:ext cx="7386480" cy="49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Справедливость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Строгость (в меру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Доброта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Дружелюбие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Коммуникабельность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Щедрость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Объективность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Отзывчивость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Уважение к мнению учеников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Целенаправленность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онимание того, что ученик – Человек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Любить общение с детьми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Знать свой предмет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Учитель – пример и идеал!!!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2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6633"/>
                </a:solidFill>
                <a:latin typeface="Times New Roman"/>
              </a:rPr>
              <a:t>Какими качествами должен обладать родитель, чтобы воспитывать моральные качества у своего ребёнка (мнение детей)</a:t>
            </a:r>
            <a:br>
              <a:rPr sz="2100"/>
            </a:b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263520" y="907560"/>
            <a:ext cx="7386480" cy="518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Доброта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Строгость (в меру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Терпение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Понимание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Справедливость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Ответственность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Терпимость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Решительность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Воспитанность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Мудрость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Коммуникабельность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Уравновешенность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Трудолюбие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Уметь прислушиваться к детям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Родитель должен быть другом своему ребёнку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49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263520" y="476280"/>
            <a:ext cx="7386480" cy="56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Семья и школа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- это берег и  море.  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На берегу, ребенок делает свои первые шаги, получает первые уроки жизни, а потом перед ним открывается необозримое море знаний, и курс в этом море прокладывает школа. Это не значит, что он должен совсем оторваться от берега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mic Sans MS"/>
              </a:rPr>
              <a:t>                              </a:t>
            </a:r>
            <a:r>
              <a:rPr b="0" i="1" lang="ru-RU" sz="3200" spc="-1" strike="noStrike">
                <a:solidFill>
                  <a:srgbClr val="ff0000"/>
                </a:solidFill>
                <a:latin typeface="Comic Sans MS"/>
              </a:rPr>
              <a:t>Л. А. Кассиль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1258920" y="765000"/>
            <a:ext cx="7477200" cy="78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ahoma"/>
              </a:rPr>
              <a:t>Что мешает учителю в воспитательном и учебном процессах</a:t>
            </a:r>
            <a:br>
              <a:rPr sz="2400"/>
            </a:br>
            <a:r>
              <a:rPr b="0" lang="ru-RU" sz="2400" spc="-1" strike="noStrike">
                <a:solidFill>
                  <a:srgbClr val="333399"/>
                </a:solidFill>
                <a:latin typeface="Tahoma"/>
              </a:rPr>
              <a:t>                                (мнение детей)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1116000" y="2060280"/>
            <a:ext cx="6534000" cy="403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есправедливост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еуравновешенность, вспыльчивост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етерпимость к мнению детей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Злоб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Грубост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редвзятое мнение об учениках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тарый взгляд на мир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еренос своих личных проблем на учеников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кандальност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е знание учебного предмет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965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Что мешает родителям правильно строить воспитательный процесс.</a:t>
            </a:r>
            <a:br>
              <a:rPr sz="2000"/>
            </a:b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 (мнение детей)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1547280" y="1916280"/>
            <a:ext cx="6102360" cy="417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епонимание детей и времени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Чрезмерная любовь к детям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еумение слушать детей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Высокомери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евоспитанност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есдержанност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Грубост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ервозность, истеричност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етерпимость к чужим ошибкам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Чрезмерная строгост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2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Ребёнка учит то, что его окружает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263520" y="907560"/>
            <a:ext cx="7386480" cy="518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Если ребёнка часто критикуют – он учится ненавидеть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Если ребёнку часто демонстрируют враждебность – он учится быть агрессивным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Если ребёнка часто высмеивают – он становится замкнутым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Если к ребёнку часто бывают снисходительны – он учится быть терпеливым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Если ребёнка часто подбадривают – он учится уверенности в себе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Если ребёнка часто хвалят – он учится быть благодарным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Если с ребёнком обычно честны – он учится быть справедливым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Если ребёнок живёт в атмосфере дружбы и чувствует себя нужным – он вырастет добрым и уверенным в себе!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c0039"/>
                </a:solidFill>
                <a:latin typeface="Arial"/>
              </a:rPr>
              <a:t>Стратегия успешного взаимодействия с семьей</a:t>
            </a:r>
            <a:r>
              <a:rPr b="0" lang="ru-RU" sz="3200" spc="-1" strike="noStrike">
                <a:solidFill>
                  <a:srgbClr val="8c003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ы должны помнить, что все семьи имеют сильные сторо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ы должны воспринимать ошибки и недостатки семьи  не как ошибки семьи, а как ошибки социальной системы в создании возможностей обучения и развитии компетентности  семь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ы должны развивать работу с семьями на основе всего положительного, что у них есть, а не преодолевать ее  недостатк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 вмешательстве в жизнь семьи мы не должны думать, что делаем это «для людей», а должны стремиться к тому, чтобы семья как можно меньше зависела от профессионалов (педагогов, психологов, социальных работников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ринципы взаимодействия семьи и школы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971640" y="1483920"/>
            <a:ext cx="738648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ринцип согласия – взаимная договорённость о поддержании благоприятных для развития ребёнка условий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ринцип сопряжения – последовательное соотнесение единых требований к ребёнку в школьной и семейной сфере его жизнедеятельности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ринцип сопереживания – взаимное выражение расположенности друг к другу, проявление доброжелательности и знаков внимания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ринцип сопричастности – взаимная практическая забота об улучшении условий жизнедеятельности ребёнка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ринцип содеянности – реальные совместные практические действия, содействующие счастливому развитию ребёнка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8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800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33"/>
                </a:solidFill>
                <a:latin typeface="Garamond"/>
              </a:rPr>
              <a:t>Удовлетворённость родителей жизнедеятельностью  ОУ</a:t>
            </a:r>
            <a:br>
              <a:rPr sz="2000"/>
            </a:br>
            <a:r>
              <a:rPr b="0" lang="ru-RU" sz="2000" spc="-1" strike="noStrike">
                <a:solidFill>
                  <a:srgbClr val="006633"/>
                </a:solidFill>
                <a:latin typeface="Garamond"/>
              </a:rPr>
              <a:t>(насколько ОУ воспитывает в детях следующие качества)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457200" y="836640"/>
            <a:ext cx="8229600" cy="529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чальная школа                               средняя шко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ккуратность                                            3,8                                                    3,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исциплинированность                                4,0                                                   3,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тветственность                                            4,3                                                   4,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оля                                                                3,8                                                    3,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Хорошие манеры поведения                        3,8                                                    3,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Жизнерадостность                                        4,0                                                    3,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разованность                                             4,3                                                   4,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Ум                                                                   3,9                                                   4,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ысокие жизненные запросы                      3,7                                                   3,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амостоятельность                                       4,0                                                   4,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Честность                                                       4,3                                                   4,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оброта                                                          4,0                                                   4,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Чуткость                                                         3,6                                                  3,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праведливость                                             3,9                                                  4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Терпение                                                         3,9                                                  3,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редний балл                                                 4,0                                                  3,9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007-08 уч. год                                              3,9                                                   3,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Вывод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: Родители удовлетворены работой школы по формированию у детей поведенческих, морально-психологических качеств (уровень удовлетворённости – более 3 баллов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Цветограмма педсовет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762" name=""/>
          <p:cNvGraphicFramePr/>
          <p:nvPr/>
        </p:nvGraphicFramePr>
        <p:xfrm>
          <a:off x="685800" y="1828800"/>
          <a:ext cx="7696080" cy="1168560"/>
        </p:xfrm>
        <a:graphic>
          <a:graphicData uri="http://schemas.openxmlformats.org/drawingml/2006/table">
            <a:tbl>
              <a:tblPr/>
              <a:tblGrid>
                <a:gridCol w="1924200"/>
                <a:gridCol w="1923840"/>
                <a:gridCol w="1924200"/>
                <a:gridCol w="1923840"/>
              </a:tblGrid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f1311"/>
                          </a:solidFill>
                          <a:latin typeface="Comic Sans MS"/>
                        </a:rPr>
                        <a:t>актуальность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f1311"/>
                          </a:solidFill>
                          <a:latin typeface="Comic Sans MS"/>
                        </a:rPr>
                        <a:t>новизна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f1311"/>
                          </a:solidFill>
                          <a:latin typeface="Comic Sans MS"/>
                        </a:rPr>
                        <a:t>полезность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f1311"/>
                          </a:solidFill>
                          <a:latin typeface="Comic Sans MS"/>
                        </a:rPr>
                        <a:t>интерес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63" name="Rectangle 25"/>
          <p:cNvSpPr/>
          <p:nvPr/>
        </p:nvSpPr>
        <p:spPr>
          <a:xfrm>
            <a:off x="611280" y="3355920"/>
            <a:ext cx="7921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Каждая группа должна оценить все параметры и закрасить графу цветным карандашом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Красный – высокая оценка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Синий – средняя оценка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Зелёный – низкая оценка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333399"/>
                </a:solidFill>
                <a:uFillTx/>
                <a:latin typeface="Tahoma"/>
              </a:rPr>
              <a:t>Решение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1. Принять выработанные принципы эффективного взаимодействия семьи и школы в деятельности по развитию личности ребенка за основу в своей деятельности каждому учителю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2.Продолжать проводить внеклассные и общешкольные мероприятия с участием родителей: родительские собрания, деловые игры, конкурсно-игровые программы и т. п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3.Создать копилку передовых педагогических находок в работе с родителям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Цель педсовета</a:t>
            </a:r>
            <a:r>
              <a:rPr b="0" lang="ru-RU" sz="2800" spc="-1" strike="noStrike">
                <a:solidFill>
                  <a:srgbClr val="333399"/>
                </a:solidFill>
                <a:latin typeface="Times New Roman"/>
              </a:rPr>
              <a:t>: поиск оптимальных форм совместной работы школы и семьи в деятельности по развитию ребёнка.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333399"/>
                </a:solidFill>
                <a:uFillTx/>
                <a:latin typeface="Tahoma"/>
              </a:rPr>
              <a:t>Задачи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Определить основные проблемы во взаимодействии семьи и школы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Обобщить и систематизировать теоретические сведения о формах и принципах взаимодействия семьи и школы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Разработать принципы эффективного взаимодействия семьи и школы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685440" y="-462960"/>
            <a:ext cx="6870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263520" y="549000"/>
            <a:ext cx="7386480" cy="55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уть взаимодействия семьи и школы заключается в заинтересованности обеих сторон в изучении личности ребенка, раскрытии и развитии скрытого в нем потенциала. В основе такого взаимодействия лежат принципы взаимного доверия и уважения, взаимной поддержки и помощи, терпения и терпимости по отношению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друг к другу</a:t>
            </a:r>
            <a:r>
              <a:rPr b="0" lang="ru-RU" sz="3200" spc="-1" strike="noStrike">
                <a:solidFill>
                  <a:srgbClr val="703d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ahoma"/>
              </a:rPr>
              <a:t>Что Вы ждёте от родителей своего класса? (опрос классных руководителей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заимопомощи, взаимопонимания в вопросах воспитания и обучения детей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овместной работы над вопросами успеваемости;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роявления интереса к успехам и неудачам ребёнка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ответственности за воспитание своих детей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омощи в организации внеклассных мероприятий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Как Вы думаете, что родители ждут от Вас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праведливого отношения к детям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доброты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чуткого, понимающего отношения к детям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тветственного, добросовестного отношения к своим обязанностям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оддержки детей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хорошего качества знаний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чтобы больше времени проводили с детьми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чтобы заставили и научили детей учиться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быть « второй мамой» со всеми прилагающими обязанностями (чтобы учителя полностью изолировали родителей от воспитания детей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79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Теоретическая часть педсовет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263520" y="1125000"/>
            <a:ext cx="7386480" cy="49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оль семьи в формировании нравственности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оль классного руководителя во взаимодействии семьи и школы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СИТУАЦИЯ 1 (работа в группах, обсуждение ситуаций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1258920" y="1412640"/>
            <a:ext cx="738648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(участники: учительница, мать, сын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500" spc="-1" strike="noStrike">
                <a:solidFill>
                  <a:srgbClr val="000000"/>
                </a:solidFill>
                <a:latin typeface="Arial"/>
              </a:rPr>
              <a:t>Мама пришла в школу по вызову учителя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Мать.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Здравствуйте, М. И., получила Вашу записку. Что случилось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Учительница </a:t>
            </a:r>
            <a:r>
              <a:rPr b="1" i="1" lang="ru-RU" sz="1500" spc="-1" strike="noStrike">
                <a:solidFill>
                  <a:srgbClr val="000000"/>
                </a:solidFill>
                <a:latin typeface="Arial"/>
              </a:rPr>
              <a:t>(ученику).</a:t>
            </a:r>
            <a:r>
              <a:rPr b="0" i="1" lang="ru-RU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Ну, рассказывай маме, что случилось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Ученик </a:t>
            </a:r>
            <a:r>
              <a:rPr b="1" i="1" lang="ru-RU" sz="1500" spc="-1" strike="noStrike">
                <a:solidFill>
                  <a:srgbClr val="000000"/>
                </a:solidFill>
                <a:latin typeface="Arial"/>
              </a:rPr>
              <a:t>молчит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Учительница.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Что молчишь? Рассказывай маме, как ты ведешь себя на уроках? За что тебя выгнали с ИЗО? Какую оценку ты получил сегодня по русскому языку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Ученик.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Да я не ..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Мать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. Ну как тебе не стыдно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Ученик.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Да это не я ..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Мать.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Сколько можно с гобой разговаривать на эту тему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Учительница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. И ведь никаких слов не понимает. Все учителя на него жалуются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Мать.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Что ты голову опустил? За свои поступки отвечать надо. Отвечай, сколько ты еще нервы мои трепать будешь? Что молчишь? Как ты намерен себя дальше вести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Учительница.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Пришел в школу, будь добр, учись!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Мать </a:t>
            </a:r>
            <a:r>
              <a:rPr b="1" i="1" lang="ru-RU" sz="1500" spc="-1" strike="noStrike">
                <a:solidFill>
                  <a:srgbClr val="000000"/>
                </a:solidFill>
                <a:latin typeface="Arial"/>
              </a:rPr>
              <a:t>(учителю).</a:t>
            </a:r>
            <a:r>
              <a:rPr b="0" i="1" lang="ru-RU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Как с ним еще бороться, ума не приложу!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Учительница.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Наверное, витамин “Р” давно не прописывали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Мать.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Ну все. Мое терпение закончилось, пусть с тобой теперь отец разговаривает. Он из тебя дурь-то выбьет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6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6633"/>
                </a:solidFill>
                <a:latin typeface="Garamond"/>
              </a:rPr>
              <a:t>СИТУАЦИЯ 2</a:t>
            </a:r>
            <a:br>
              <a:rPr sz="1900"/>
            </a:br>
            <a:endParaRPr b="0" lang="en-US" sz="19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539640" y="765000"/>
            <a:ext cx="777744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Учительница вызвала в школу маму Саши. Разговор состоялся в учительской во время перемен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читель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Вы совершенно перестали следить за сыном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ать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То есть, как перестала следить? Дневник, тетради проверяю, по-моему, он приходит всегда в школу чисты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читель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(раздраженно).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ак что же выходит: я вам лгу, и от нечего делать вызвала вас в школу?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ать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А собственно, что натворил сын? Он вообще мне все рассказывае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читель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Он дерзит учителям, срывает уроки. Вот вчера безобразничал на уроке черчения, на литературе стрелял из рогатки 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ать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Вы знаете, К. М., дома он мне не дерзи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читель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Ну, знаете, мне лучше знать, как ваш сын ведет себя в школе. А если вы мне не верите, тогда мы с вами будем разговаривать в другом месте в присутствии администраци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ать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А вы меня не пугайте этим. Саша ведет себя плохо на тех уроках, где неинтересно. Все ребята рассказывают, что на уроках черчения они ходят на головах, по литературе у них уже второй месяц пег постоянного учителя. А по географии у Саши у нового учителя одни двойки стоят. Сын говорит, что все их поставили не за знания, а за поведение – разве это справедливо? В прошлом году он у Л. И. по географии отличником был, в районной олимпиаде участвовал. А новый учитель к нему подхода не нашел, вот Саша и возненавидел географию! Так что наведите сначала у себя порядок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читель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А вы нам не делайте замечаний, лучше сына воспитывайте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ать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А вы не грозите мне администрацией, я тоже могу пожаловаться на вас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читель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В таком случае мне с вами больше не о чем разговаривать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(отворачивается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ать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уходи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читель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Ну и мамочка! Докажите ей что-нибудь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0T14:35:32Z</dcterms:created>
  <dc:creator>1</dc:creator>
  <dc:description/>
  <dc:language>en-US</dc:language>
  <cp:lastModifiedBy>SUOMI</cp:lastModifiedBy>
  <dcterms:modified xsi:type="dcterms:W3CDTF">2014-11-14T11:42:57Z</dcterms:modified>
  <cp:revision>14</cp:revision>
  <dc:subject/>
  <dc:title>«Роль семьи и школы в          развитии морального              самосознания  обучающихся». </dc:title>
</cp:coreProperties>
</file>