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6ABC-C483-43D2-959E-32B25CC81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4FA8-F388-4264-8F46-EDEF6FF6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2C0F-6FEA-4539-AF1A-B8333EF8E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50BD-869B-4F1F-B653-867427F52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AB6E-9298-4F6D-A332-BDBC5416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9604-05DD-4C6C-8EE7-31DF0BE3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10F0-6A64-4CDE-86B6-60E9468A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A70D-61EE-4BD2-81B1-A68625D5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3032-523C-46E2-AA9F-B7777C9D5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3137-7138-4B66-B3C6-9B266E48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EAF6-925A-4198-BE6C-16BF9317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2AEB-4696-4041-8333-633C886A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52D5-F42F-4EE4-82E3-0CC6E0BA11C8}" type="slidenum">
              <a:rPr b="0" lang="ru-R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етодический день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15 апреля 200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МОУ «СОШ № 13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и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ради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блем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проектив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модульного обуч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гровая технолог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Информационн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доровьесберегающи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ст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Технология развивающего обучения («Школа 2100»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Новая система  в образовании предполагает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Традиционные способы информации – устная и письменная речь, телефонная и радиосвязь уступают место компьютерным средствам обучения, использованию телекоммуникационных сетей глобального масштаб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Особая роль отводится духовному воспитанию личности, становлению нравственного облика ЧЕЛОВЕК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Намечается дальнейшая интеграция образовательных факторов: школы, семьи, микро – и макросоциум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Увеличивается роль науки в создании педагогических технологий, адекватных уровню общественного знания. В психолого-педагогическом плане основные тенденции совершенствования образовательных технологий характеризуются переходом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учения как функции запоминания к учению как процессу умственного развития, позволяющему использовать усвоенное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чисто ассоциативной, статической модели знаний к динамически структурированным системам умственных действий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ориентации на усредненного ученика к дифференцированным и индивидуализированным программам обучения;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т внешней мотивации учения к внутренней нравственно – волевой регуляции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 учителями школы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2009 го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3,91,85)"/>
                                          </p:val>
                                        </p:tav>
                                        <p:tav tm="50000">
                                          <p:val>
                                            <p:strVal val="rgb(1,124,-7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8840" y="1341360"/>
            <a:ext cx="38098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уровневой дифференциац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1.Повышается уровень мотивации учен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2.Кажый ребенок обучается на уровне его возможностей и способностей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3.Сильные учащиеся утверждаются в своих способностях, слабые – получают возможность испытывать учебный успех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27240" y="2011320"/>
            <a:ext cx="3490920" cy="34448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Игровые технологии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Формирование у учащихся интереса к учебной деятельности, удовлетворение потребности личности в самовыражении, самоутверждении. Расширение кругозора, развитие познавательной деятельности, формирование определенных умений и навыков, развитие общеучебных умений и навы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427640" y="4653000"/>
            <a:ext cx="2592360" cy="2016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ладение педагогическими технологиям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3811320"/>
            <a:ext cx="777240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Научно – исследовательски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3816360" cy="2809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20000" y="4869000"/>
            <a:ext cx="1800000" cy="16063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едагогическая технология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00280"/>
            <a:ext cx="77724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Технология проект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Формирование навыков проектной деятельности(знание алгоритма составления проектов). Работа по данной методике дает возможность развивать индивидуальные творческие способности учащихся, более осознанно подходить к профессиональному и социальному самоопределению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Проектировани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создание субъектом модели предстоящей деятельности, включающей представление о стадиях, этапах целенаправленного изменения объекта от исходного состояния к желаемому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ebd189"/>
                </a:solidFill>
                <a:latin typeface="Arial"/>
              </a:rPr>
              <a:t>Этапы процесса проектирования</a:t>
            </a:r>
            <a:endParaRPr b="0" lang="en-US" sz="41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Модел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Разработка целей (общей идеи) создания систем, процессов или ситуаций и основных путей их достиже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Проект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альнейшая разработка модели и доведение ее до уровня практического использовани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Конструирование.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Детализация созданного проекта для применения в конкретных условиях реальными участниками отношений и деятельности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88600" y="352440"/>
            <a:ext cx="73472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труктура проекта включает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пределение темы, цели, задач и актуальности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учно-методическое обоснование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ожидаемые результаты проект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механизмы выполнения проекта; исполнители, взаимодействия между ним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программа выполнения работ по проекту (описание этапов, используемых методов и способов решения, планируемые сроки выполнения)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6668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Без стремления к научной работе учитель попадает во власть трех демонов: механичности, рутинности, банальности. Он деревенеет, каменеет, опускаетс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eaeaea"/>
                </a:solidFill>
                <a:latin typeface="Arial"/>
              </a:rPr>
              <a:t>Адольф Дистервег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в работе учителей вызывают затруднения такие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педагогические технологии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ровневой дифференциации, личностно-ориентированного обучения, модульного обучения,, технология проектов, групповые технологии, научно-исследовательские, информационные технологии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Затруднения могут быть определе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ой осведомленностью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учителей о существовании указанных технологий и их сущности. Кроме того, такие затруднения могут быть вызваны 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  <a:ea typeface="Arial"/>
              </a:rPr>
              <a:t>низким техническим обеспечение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для проведения определенных технологий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Информационные технологии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 algn="just">
              <a:lnSpc>
                <a:spcPct val="80000"/>
              </a:lnSpc>
              <a:spcBef>
                <a:spcPts val="499"/>
              </a:spcBef>
              <a:spcAft>
                <a:spcPts val="17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учащихся работать с информаци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Развитие коммуникативных способностей,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Формирование умений принимать оптимальные реше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зменение и неограниченное обогащение содержания образования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Использование интегрированных курсов, доступ в интернет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76720" y="1776240"/>
            <a:ext cx="3745080" cy="3886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-69840" y="0"/>
            <a:ext cx="69840" cy="18097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aeaea"/>
                </a:solidFill>
                <a:latin typeface="Arial"/>
              </a:rPr>
              <a:t>ВОСПИТАТЕЛЬНЫЕ ТЕХНОЛОГИИ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32000" y="3284640"/>
            <a:ext cx="3672000" cy="2649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253600" y="1614960"/>
            <a:ext cx="4700160" cy="41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ЕХНОЛОГИЯ КОЛЛЕКТИВНОЙ ТВОРЧЕСКОЙ ДЕЯТЕЛЬНОСТИ И.П.ИВАНОВА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ПЕДАГОГИЧЕСКОЙ ПОДДЕРЖК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ВОСПИТАНИЯ В ПРОЦЕССЕ ОБУЧЕН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ТЕХНОЛОГИЯ ОРГАНИЗАЦИИ САМОВОСПИТАНИЯ 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ЗДОРОВЬЕСБЕРЕГАЮЩИЕ ТЕХНОЛОГИИ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ПРОЕКТНАЯ ТЕХНОЛОГИЯ</a:t>
            </a:r>
            <a:br>
              <a:rPr sz="2000"/>
            </a:b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технология личностно-ориентированного воспитания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074680" y="3500280"/>
            <a:ext cx="624492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0" lang="ru-RU" sz="8000" spc="-1" strike="noStrike">
                <a:solidFill>
                  <a:srgbClr val="eaeaea"/>
                </a:solidFill>
                <a:latin typeface="Arial"/>
              </a:rPr>
              <a:t>КТД</a:t>
            </a:r>
            <a:endParaRPr b="0" lang="en-US" sz="8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оллективное творческое дело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5091120" cy="3600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114560" y="352440"/>
            <a:ext cx="7676640" cy="88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ллективное творческое дело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26560" y="1341360"/>
            <a:ext cx="78598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Воспитательная технология, основанная  на проведении и подготовке любого мероприятия по принципам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Коллективности (все решения принимаются  и осуществляются совместно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Активного личностного участия (каждый имеет попробовать себя в каждом деле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ворческого подход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Times New Roman"/>
              </a:rPr>
              <a:t>Основная воспитательная задача – развитие личностных качеств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руктура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целеполаг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ое планирован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ая подготов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оведение дел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ллективный анализ по итогам (рефлексия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ррекц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bd189"/>
                </a:solidFill>
                <a:latin typeface="Times New Roman"/>
              </a:rPr>
              <a:t>Сравнительная таблица: </a:t>
            </a:r>
            <a:br>
              <a:rPr sz="2000"/>
            </a:b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«</a:t>
            </a:r>
            <a:r>
              <a:rPr b="0" lang="ru-RU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</a:rPr>
              <a:t>КТД классическое и КТД личностно-ориентированное»</a:t>
            </a: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557360"/>
          <a:ext cx="8507520" cy="5068440"/>
        </p:xfrm>
        <a:graphic>
          <a:graphicData uri="http://schemas.openxmlformats.org/drawingml/2006/table">
            <a:tbl>
              <a:tblPr/>
              <a:tblGrid>
                <a:gridCol w="1738440"/>
                <a:gridCol w="3168360"/>
                <a:gridCol w="3600720"/>
              </a:tblGrid>
              <a:tr h="80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по модели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ванова И.П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ТД личностно-ориентированное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целеполаг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Реализация общественно-значимых задач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при выбор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Дело как реализация задач личностного развития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ланирован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е 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вторство иде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индивидуальное авторство идей, умение представлять их в групп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ая подготовк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групповой работ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Акцент на принятие решений на добровольной основе и развитие творческих стратегий каждого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ое проведение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Только командное участие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Согласованность индивидуальной деятельности с групповой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Коллективный анализ по итогам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группового участия в организации дела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Оценка личностного участия, оценка своего потенциал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bd189"/>
                </a:solidFill>
                <a:latin typeface="Times New Roman"/>
              </a:rPr>
              <a:t>Механизм разработки коллективного творческого дела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013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Определение цели. Мобилизация ресур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едставление советом основной идеи дела. Коллективное обсуждение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Разработка плана с указанием конкретных исполнителей и срок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Контроль за выполнением плана(руководитель совета дела)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Проведение дела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-429480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eaeaea"/>
                </a:solidFill>
                <a:latin typeface="Times New Roman"/>
              </a:rPr>
              <a:t>Анализ КТД(сбор, анкетирование, стенгазеты, линейки и т.д.). Внесение изменений в чередующиеся творческие задания. Планирование нового КТД.       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42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Метод «Мозгового штурма»( «мозговой атаки», коллективной генерации идей)</a:t>
            </a: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8560" y="1096920"/>
            <a:ext cx="747540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метод, позволяющий при минимальных затратах времени найти множество решений, выдвигаемых участниками спонтанно, для поставленной проблем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        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Разработан А. Осборном в 1953 г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bd189"/>
                </a:solidFill>
                <a:uFillTx/>
                <a:latin typeface="Arial"/>
              </a:rPr>
              <a:t>Правила проведения</a:t>
            </a:r>
            <a:r>
              <a:rPr b="0" lang="ru-RU" sz="2400" spc="-1" strike="noStrike">
                <a:solidFill>
                  <a:srgbClr val="ebd18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Существует запрет на критику идей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Идеи оцениваются после штурма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 первую очередь приветствуются идеи оригинальные, высказанные экспромто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Предпочтения отдаются комбинированным и усовершенствованным идея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Высказанные идеи не имеют авторов, так как идея могла ранее «мысленно принадлежать» любому из участников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11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Знакомство с инновационными технологиям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овышение качества проведения учебных занятий на основе внедрения новых технологи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Выявление, обобщение и распространение опыта творчески работающих учителе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00"/>
                            </p:stCondLst>
                            <p:childTnLst>
                              <p:par>
                                <p:cTn id="5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Формы КТД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портив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Познав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Обществен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Эстетически-развлекательные КТД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659640" y="1844640"/>
            <a:ext cx="1800000" cy="133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516720" y="46530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332000" y="4581360"/>
            <a:ext cx="1819080" cy="1533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122480" y="36036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Arial"/>
              </a:rPr>
              <a:t>Механизм анализа КТД</a:t>
            </a:r>
            <a:r>
              <a:rPr b="0" lang="ru-RU" sz="3600" spc="-1" strike="noStrike">
                <a:solidFill>
                  <a:srgbClr val="ff6600"/>
                </a:solidFill>
                <a:latin typeface="Arial"/>
              </a:rPr>
              <a:t> </a:t>
            </a:r>
            <a:br>
              <a:rPr sz="3600"/>
            </a:br>
            <a:r>
              <a:rPr b="0" lang="ru-RU" sz="2000" spc="-1" strike="noStrike">
                <a:solidFill>
                  <a:srgbClr val="000054"/>
                </a:solidFill>
                <a:latin typeface="Arial"/>
              </a:rPr>
              <a:t>(акцент на рефлексию воспитанником собственной деятельности)</a:t>
            </a:r>
            <a:endParaRPr b="0" lang="en-US" sz="2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900000" y="1883880"/>
            <a:ext cx="367200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следовательность 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ервым дает анализ и оценку дела участник КТД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тем – участники группы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вершают анализ педагог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ffff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05480" y="1827360"/>
            <a:ext cx="4287600" cy="36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имерные вопросы анализа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хорошего удалос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ак это меня лично продвинуло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получила творческая группа? Каковы основные результаты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мне следует изменить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ожелания всем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Что делать дальше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673280" y="416160"/>
            <a:ext cx="6830640" cy="97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Основные условия воспитательной результативности КТД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71640" y="1628280"/>
            <a:ext cx="74851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жизненно-практической  и воспитательной направленност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Творческий характер каждого дела: поиск лучших решений жизненно важной задачи на всех стадиях организации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Times New Roman"/>
              </a:rPr>
              <a:t>Единство отдельных стадий организации каждого дела: стадии предварительной работы, коллективного планирования, подготовки, проведения, подведения итогов и ближайшего последействия</a:t>
            </a: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 основе представленных на педсовете материалов можно утверждать, что эффективность педагогического труда неразрывно связана с работой по созданию новой образовательной среды, основными принципами которой становятся субъект – субъектные отношения педагога и учащихся в учебном процессе. С целью успешного продолжения работы педсовет выносит решение: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Решение педсовета: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052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1.Запланировать и провести семинар по теме «Здоровьесберегающие технологии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2.Организовать в рамках школы передового опыта систему открытых уроков по теме «Внедрение инновационных технологий в учебно-воспитательный процесс»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3.На ШМО изучить ресурсные возможности внедрения в практику работы инновационных технологий с целью совершенствования педагогической деятельност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4. В учебной деятельности 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местить акценты в методиках и технологиях образовательной деятельности в сторону формирования оптимальных способов самостоятельной деятельности школьников. Формировать у них практические навыки самообразования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величить время на самостоятельную работу(проектирование, исследовательская и экспериментальная деятельность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силить дифференциацию и индивидуализацию образовательного процесса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139680"/>
            <a:ext cx="740736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Современные педагогические технологии и их роль в образовательном процессе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960360"/>
            <a:ext cx="6400800" cy="16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пасибо за сотрудничество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d189"/>
                </a:solidFill>
                <a:latin typeface="Arial"/>
              </a:rPr>
              <a:t>План проведения методического дня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е уроки: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1.Баландина И.С. -7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2.Кудрявцева Ю.В. – 6а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eaeaea"/>
                </a:solidFill>
                <a:latin typeface="Arial"/>
              </a:rPr>
              <a:t>3.Молодецкая Д.А.- 8б кл.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Открытый классный час – 8классы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 u="sng">
                <a:solidFill>
                  <a:srgbClr val="eaeaea"/>
                </a:solidFill>
                <a:uFillTx/>
                <a:latin typeface="Arial"/>
              </a:rPr>
              <a:t>Педсовет – подведение итогов</a:t>
            </a:r>
            <a:endParaRPr b="0" lang="en-US" sz="35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52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Технология обучен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(педагогическая технология) – новое (с 50-х годов) направление в педагогической науке, которое занимается конструированием оптимальных обучающих систем, проектированием учебных процессов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-325800" algn="just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разовательная технология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– это процессная система совместной деятельности учащихся и учителя по проектированию, организации, ориентированию и корректированию образовательного процесса с целью достижения конкретного результата при обеспечении комфортных условий участникам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33920" y="2819520"/>
            <a:ext cx="2361960" cy="1066680"/>
          </a:xfrm>
          <a:prstGeom prst="roundRect">
            <a:avLst>
              <a:gd name="adj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Педагогическа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54"/>
                </a:solidFill>
                <a:latin typeface="Arial Narrow"/>
              </a:rPr>
              <a:t>технолог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304920"/>
            <a:ext cx="3200400" cy="1600200"/>
          </a:xfrm>
          <a:prstGeom prst="wedgeRoundRectCallout">
            <a:avLst>
              <a:gd name="adj1" fmla="val 36310"/>
              <a:gd name="adj2" fmla="val 9811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М.В. Кларин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ая совокупность и порядок функционирования всех личностных, инструментальных и методических средств, используемых для достижения педагогических целей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1981080"/>
            <a:ext cx="2362320" cy="2895840"/>
          </a:xfrm>
          <a:prstGeom prst="wedgeRoundRectCallout">
            <a:avLst>
              <a:gd name="adj1" fmla="val 68347"/>
              <a:gd name="adj2" fmla="val -13046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Г.Ю. Ксенозова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Такое построение деятельности педагога, в котором все входящие в него действия представлены в определенной целостности и последовательности, а выполнение предполагает достижение необходимого результата и имеет вероятностный прогнозируемый характер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5029200"/>
            <a:ext cx="3124440" cy="1600200"/>
          </a:xfrm>
          <a:prstGeom prst="wedgeRoundRectCallout">
            <a:avLst>
              <a:gd name="adj1" fmla="val 67379"/>
              <a:gd name="adj2" fmla="val -112898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П. Беспаль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овокупность средств и методов воспроизведения процессов обучения и воспитания, позволяющих успешно реализовать поставленные образовательные цели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228600"/>
            <a:ext cx="3810240" cy="1828800"/>
          </a:xfrm>
          <a:prstGeom prst="wedgeRoundRectCallout">
            <a:avLst>
              <a:gd name="adj1" fmla="val -33500"/>
              <a:gd name="adj2" fmla="val 86893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М. Монахо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Продуманная во всех деталях модель педагогической деятельности, включающей в себя проектирование, организацию и проведение учебного процесса с безусловным обеспечением комфортных условий для учащихся и учител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53080" y="2286000"/>
            <a:ext cx="2286000" cy="2971800"/>
          </a:xfrm>
          <a:prstGeom prst="wedgeRoundRectCallout">
            <a:avLst>
              <a:gd name="adj1" fmla="val -70000"/>
              <a:gd name="adj2" fmla="val -17041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В.В. Гузеев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Это упорядоченная совокупность действий, операций и процедур, инструментально обеспечивающих достижения прогнозируемого результата в изменяющихся условиях образовательно-воспитательного процесса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5410080"/>
            <a:ext cx="4038480" cy="1447920"/>
          </a:xfrm>
          <a:prstGeom prst="wedgeRoundRectCallout">
            <a:avLst>
              <a:gd name="adj1" fmla="val -37615"/>
              <a:gd name="adj2" fmla="val -154495"/>
              <a:gd name="adj3" fmla="val 16667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54"/>
                </a:solidFill>
                <a:uFillTx/>
                <a:latin typeface="Arial Narrow"/>
              </a:rPr>
              <a:t>ЮНЕСКО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54"/>
                </a:solidFill>
                <a:latin typeface="Arial Narrow"/>
              </a:rPr>
              <a:t>«Системный метод создания, применения и определения всего процесса преподавания и усвоения, ставящий своей задачей оптимизацию форм образования»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Общепедагогическая технология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характеризует целостный образовательный процесс в данном учебном заведении, регионе. В этом случае педагогическая технология отражает комплексную педагогическую систему: в нее включается совокупность целей, содержания, средств и методов управления, алгоритм деятельности субъектов и объектов процесс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На </a:t>
            </a: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частнометодическом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 (предметном) уровне педагогическая технология охватывает отдельные направления, аспекты педагогической системы, соответствующие, например, частным методикам, то есть совокупности методов и средств для реализации определенного содержания обучения и воспитания в рамках одного предмета, класса, учителя (методики преподавания предметов, методика компенсирующего обучения, методика работы руководителя, учителя, воспитателя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bd189"/>
                </a:solidFill>
                <a:latin typeface="Arial"/>
              </a:rPr>
              <a:t>Три уровня педагогических технологий 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5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Локально-модульный</a:t>
            </a:r>
            <a:r>
              <a:rPr b="0" lang="ru-RU" sz="3000" spc="-1" strike="noStrike">
                <a:solidFill>
                  <a:srgbClr val="eaeaea"/>
                </a:solidFill>
                <a:latin typeface="Arial"/>
                <a:ea typeface="Times New Roman"/>
              </a:rPr>
              <a:t> уровень технологии относится к отдельным частям учебно-воспитательного процесса: технология отдельных видов деятельности, технология формирования понятий, воспитания отдельных личностных качеств, технология урока, отдельных мероприятий, технология усвоения новых знаний, технология повторения и контроля материала, технология самостоятельной работы и др.</a:t>
            </a:r>
            <a:endParaRPr b="0" lang="en-US" sz="3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лебова Н.Н.</cp:lastModifiedBy>
  <dcterms:modified xsi:type="dcterms:W3CDTF">2009-04-14T10:38:42Z</dcterms:modified>
  <cp:revision>22</cp:revision>
  <dc:subject/>
  <dc:title>PowerPoint Presentation</dc:title>
</cp:coreProperties>
</file>