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6658-B36D-4172-A761-E5F3A79C3E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235E-FECA-44C1-BE4F-7C62E36218E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7B46-AE24-4E22-AD38-9CFD700D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DDD-F812-4F9D-85E5-B0495E55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1350-17F5-4DFE-ADF2-382DF404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00F6-DEBB-41B1-8973-85D5BC04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74A7-FEE1-44DE-A516-B3F975D62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F081-40DC-4A10-AE68-9063C58F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EF39-B23F-48CA-B936-C0CFCEDA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AE42-7E17-45E8-9AD3-3C52CCC86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4E7F-ACFB-4B52-8A55-0A926912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64082-01CC-4F4B-B54F-24902D8A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AA1D9-CAB5-4B84-9822-94CDCD73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3EC6-D315-47FE-81E8-5AD1DA0F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EC2-BE27-4AAC-A858-22185697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9181-3FFA-4935-AF44-F32439CF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B1817-4790-49DB-BA0C-6E38AADE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96A7-ED28-4DFA-AC13-A7F17C83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FA72-4B27-4DF1-A2C2-AE8439B09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B3CB-6109-4495-AEF7-EEB6F4A3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82E41-C2DE-4772-A89C-58A1802D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9BE58-8725-4BDF-95C9-C5C845D2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D2739-85E2-4EC8-8DE0-037668EA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4ECF9-EB1F-40D9-AFC5-61EAF516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ED5-83F2-49C7-B2E1-988EB94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C3D2-9302-4A8B-8F1D-C9ACC07E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C8C36-ADF7-4E14-9F20-D3225253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52B3A-1F8F-4E3F-B40A-6688CD0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8972-7D23-4C7C-9F5D-90C166FB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750CB-C420-4328-A686-A059F796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B5241-E3A2-4CC1-AA9D-AE0EA35E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58C5C-F55B-497A-A044-096736BD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BBA5-6457-4092-AE6B-D2C3DD5D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E293F-E8A9-4A8E-8246-B527AC3C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32B7-9ACB-496B-B5C8-E68C2780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AEB-8352-44A4-BA7E-B7E2F4F4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AC0A-B6D4-4C2E-920A-DA6FCC06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23014-DB04-4812-95DA-ADCBD96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2A39-E02A-41F7-942A-D087F9B5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DABC-8D68-4AC0-A736-3A7FF72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87B7-21A5-404D-9F50-71A869C0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7034-EF49-4B60-9A1F-94E715DE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6EED9-5E7D-492C-BFEF-D2EEC4C0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757E-ECE4-482A-805A-C08C3F98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AA399-E29E-4235-ACA0-581812F8F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EDE98-4F86-42D6-B28A-B7E8E616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242-17C7-4D05-834F-32199836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389B-BAFA-4F94-AA07-3694FC1E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786B-FFA5-4500-BE0C-9CF47F59D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2BFB-A36E-408F-BFBB-D100A0E7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A9B0-3BB2-41D1-842F-486EA013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C6961-81D3-4C5B-9E9D-21F49061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6AAC2-7280-43B6-8247-02D6A5B1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0F46F-C62F-49EA-90A5-BAAB774B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81258-81CF-4E5A-BF75-F81F19EC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4E775-5126-499F-9DCA-EA1A6522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8781A-FE84-4106-8F9A-5A8D2AC1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CDAF-B8DC-456C-9494-49E11D67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1C186-5F37-40F5-BED4-AABB08B3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18A19-D813-43AE-A679-37279E61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C9CC9-8685-4CDD-9398-CA9D32B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49956-FC36-4884-9B41-34C079837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911E-D76C-420F-8A50-A5E7345A7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EC54-A90C-4DCF-9FA3-A094A254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509A9-B7EA-494A-9A43-4A11D6D3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FB9EC-3119-4C84-928E-F6BEA7E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0BF89-21E8-40B9-BB50-F834F86A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4804-3BB4-4600-B8FD-4C239223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D08-69A6-4243-89B7-87D1C29B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84C3C-68F6-4410-84FB-3F105351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E13F-264D-424B-A4CE-68399977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23B4D-29DA-4121-8893-6EFA21F0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62F83-EB38-484E-A2FF-392828C49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9AC38-2980-457E-B2B8-2EBA4A77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136C-0B2F-43C6-A3FE-DF007B99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FD274-F166-4EF2-A847-174B95E8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3B699-359A-4E74-955E-95ECC88B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A8202-02EE-45EE-8500-0FDD2E47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C9199-8A14-47DD-8EC3-DE5BD3CC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A32-4AFC-4EFF-A32B-E572736D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933D6-CBDF-4AA3-BE55-06691BB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C436C-2094-47F8-8E07-B4F10ACB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B14D7-5662-4FF2-B0E7-367B3BE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E5FF7-AF0D-4127-BEE7-3EFE254F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12A64-8730-49A5-914F-89166566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F11-0E8D-4ED7-AA16-70BB10CF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6BFA-B62F-475A-B02C-B647B1CD497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209A6-2F70-4E2F-8AA5-7363E4ABA71A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8D19-DA65-465E-B599-2F387A944836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2B11-3E2D-47ED-A7DA-5F39E606F325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B45D-1EEC-4F93-8019-1A6BD82A029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1909-0F4C-4F7C-9F01-B2508EB569B9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66DE-79AD-48C5-B400-8E99A4D56B6A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Заголовок 1" descr=""/>
          <p:cNvPicPr/>
          <p:nvPr/>
        </p:nvPicPr>
        <p:blipFill>
          <a:blip r:embed="rId1"/>
          <a:stretch/>
        </p:blipFill>
        <p:spPr>
          <a:xfrm>
            <a:off x="689040" y="500040"/>
            <a:ext cx="7772400" cy="1646280"/>
          </a:xfrm>
          <a:prstGeom prst="rect">
            <a:avLst/>
          </a:prstGeom>
          <a:ln w="0">
            <a:noFill/>
          </a:ln>
        </p:spPr>
      </p:pic>
      <p:pic>
        <p:nvPicPr>
          <p:cNvPr id="309" name="Подзаголовок 2" descr=""/>
          <p:cNvPicPr/>
          <p:nvPr/>
        </p:nvPicPr>
        <p:blipFill>
          <a:blip r:embed="rId2"/>
          <a:stretch/>
        </p:blipFill>
        <p:spPr>
          <a:xfrm>
            <a:off x="231840" y="1871640"/>
            <a:ext cx="872964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настрой,  тып нярвовай дзейнасці,  камунікатыўнасць, эмацыянальнасць, упэўненасць у сваіх сілах,  прафесіянальная  кампетэнтнасць,  уменне імправізаваць,  уменне арганізаваць,  уменне выбраць метады, формы навучання,  падабраць сродкі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8523360" cy="23288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значыць месца ўрока ў тэме;  выдзяліць  задачу ўрока;  праграму, літаратуру; узнавіць матэрыял падручніка; выдзяліць галоўную ідэю ўрока; адабраць змест урока. метады, спосабы вывучэння, замацавыння   матэрыялу; дакладна ставіць задачу; сачыць за настроем вучняў;  эканоміць час;  подтрымліваць тэмп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6430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канкрэтнасць пастаўленай мэты і  задачы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Зацікаўленасць настаўніка і вучня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ыніковасць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Якасць матэрыялу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Фарміраванне ўмення і навык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Разнастайнасць  метадаў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эмацыянальная падача матэрыял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індывідуальная работа;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11840" indent="-351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1" lang="be-BY" sz="4400" spc="-1" strike="noStrike">
                <a:solidFill>
                  <a:srgbClr val="ffffff"/>
                </a:solidFill>
                <a:latin typeface="Century Gothic"/>
              </a:rPr>
              <a:t>Урок – гэта клетачка педагагічнага працэсу,  і ў ім, як сонца ў кроплі вады,  адлюстроўваюцца ўсе яго бакі”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116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ffffff"/>
                </a:solidFill>
                <a:latin typeface="Century Gothic"/>
              </a:rPr>
              <a:t>выяўленне ўзаемасувязі эфектыўнасці і якасці  ўрока і  вызначэнне шляхоў павышэння эфектыўнасці і якасці ўрока як формы вучэбнай дзейнасці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34160" indent="-37116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Заголовок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5411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даследаваць шляхі і сродкі павышэння эфектыўнасці і якасці ўрок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крытэрыі эфектыўнага ўрока і выявіць супярэчнасці практыкі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вучыць практыку арганізацыі вучэбнай дзейнасці на ўроку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2800" spc="-1" strike="noStrike">
                <a:solidFill>
                  <a:srgbClr val="ffffff"/>
                </a:solidFill>
                <a:latin typeface="Century Gothic"/>
              </a:rPr>
              <a:t>вызначыць метады  і спосабы, якія садзейнічаюць павышэнню эфектыўнасці і якасці ўро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е метадычнага савета па падрыхтоўцы пытанняў, якія будуць разглядацца.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Фестываль педагагічнага майстэрства “ Супені майстэрства” 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Анкетаванне настаўнікаў.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седжанні метадычных аб’яднанняў.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адрыхтоўка памяткі: “Псіхалагічныя аспекты ўрока”.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Работа творчай групы па падрыхтоўцы праекта рашэнняў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Псіхолага педагагічны кансіліум “ Адаптацыя першакласнікаў на 1-й ступені агульнай сярэдняй адукацыі”.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Семінар-практыкум “Тэхналогія аналіза і самааналіза ўрока”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Інструктыўна-метадычныя кансультацыя для настаўнікаў-прадметнікаў  “ Шляхі павышэння эфектыўнасці і якасці ўрока”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9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       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Заголовок 1" descr=""/>
          <p:cNvPicPr/>
          <p:nvPr/>
        </p:nvPicPr>
        <p:blipFill>
          <a:blip r:embed="rId1"/>
          <a:stretch/>
        </p:blipFill>
        <p:spPr>
          <a:xfrm>
            <a:off x="457200" y="-165240"/>
            <a:ext cx="8229600" cy="11653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78552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наліз выканання рашэнняў чэрвеньскага  педсавета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Даклад “Шляхі і сродкі павышэння эфектыўнасці і якасці ўрока як формы вучэбнай дзейнасці”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Намеснік дырэктара  Т.А.Жук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Работа творчых груп па праблеме педсавета: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1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трабаванні да сучаснага ўрока  ( Радзейка Т.В., кіраўнік  групы; члены групы: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Ярэміч І.Р.,</a:t>
            </a:r>
            <a:r>
              <a:rPr b="0" lang="be-BY" sz="11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Ажыгар Г.С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2. Шляхі і сродкі павышэння эфектыўнасці і якасці ўрока як формы вучэбнай дзейнасці. (Рамушэвіч Н.А., кіраўнік  групы; члены групы:  Савіцкая М.В., Рыбак І.Г., Бязгодаў В.В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Century Gothic"/>
              </a:rPr>
              <a:t>3. </a:t>
            </a: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Камфортнасць навучання як адно з важнейшых умоў паспяховасці адукацыйнага працэсу. (Нядвецкая С.І., кіраўнік  групы; члены групы: Церашкова Н.К., Каханская С.В., Дулуб А.Я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4. Настаўнік на ўроку. Прафесійны вопыт, майстэрства, метадычная капілка  (Булай  К.З., кіраўнік  групы; члены групы:  Севашко Т.М., Пакачайла А.К., Цурына В.Ю.);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5. Псіхалагічныя і выхаваўчыя моманты на ўроку (Жданюк Л.М.- кіраўнік  групы;.члены групы:  Сычэўнік Н.Р.,  Паўтарак А.Т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6. Матэрыяльна-тэхнічная база ўрока. (  Сямак В.Э.-  кіраўнік  групы , члены групы: Адамцэвіч І.М., Сівалоўская Л. І.)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7. Правядзенне  майстар-класа.</a:t>
            </a:r>
            <a:r>
              <a:rPr b="0" lang="be-BY" sz="1300" spc="-1" strike="noStrike">
                <a:solidFill>
                  <a:srgbClr val="ffffff"/>
                </a:solidFill>
                <a:latin typeface="Century Gothic"/>
              </a:rPr>
              <a:t>  </a:t>
            </a:r>
            <a:endParaRPr b="0" lang="en-US" sz="1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8. Работа творчай групы па падрыхтоўцы праекта рашэнняў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Падвядзенне вынікаў:   праект рашэння педсавета: абмеркаванне і яго прыняцце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500" spc="-1" strike="noStrike">
                <a:solidFill>
                  <a:srgbClr val="ffffff"/>
                </a:solidFill>
                <a:latin typeface="Century Gothic"/>
              </a:rPr>
              <a:t>9. Рэфлексія.</a:t>
            </a:r>
            <a:endParaRPr b="0" lang="en-US" sz="15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34552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be-BY" sz="3000" spc="-1" strike="noStrike">
                <a:solidFill>
                  <a:srgbClr val="ffffff"/>
                </a:solidFill>
                <a:latin typeface="Century Gothic"/>
              </a:rPr>
              <a:t>это педагог, способный преобразовываться , способный создавать вокруг себя новое, производительная активность которого на каждом новом этапе становится совершенней и эффективней”- такім бачыць сучаснага педагога практык, настаўнік вышэйшай катэгорыі Пракапенка Ніна Іосіфаўна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ў перакладзе з  лацінскага – «эфектос» - выкананне дзеянняў, вынік, наступства нейкіх дзеянняў</a:t>
            </a: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Заголовок 1" descr=""/>
          <p:cNvPicPr/>
          <p:nvPr/>
        </p:nvPicPr>
        <p:blipFill>
          <a:blip r:embed="rId1"/>
          <a:stretch/>
        </p:blipFill>
        <p:spPr>
          <a:xfrm>
            <a:off x="182520" y="92160"/>
            <a:ext cx="8504280" cy="1888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настаўнік ажыццяўляе комплекс дзеянняў, рашае  псіхалагічныя , дыдактычныя, метадычныя , арганізацыйныя задачы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Заголовок 1" descr=""/>
          <p:cNvPicPr/>
          <p:nvPr/>
        </p:nvPicPr>
        <p:blipFill>
          <a:blip r:embed="rId1"/>
          <a:stretch/>
        </p:blipFill>
        <p:spPr>
          <a:xfrm>
            <a:off x="182520" y="268200"/>
            <a:ext cx="85042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узровень паспяховасці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прадмета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тэмп работы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падрыхтаванасць вучняў,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адносіны да дысцыпліны,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entury Gothic"/>
              </a:rPr>
              <a:t>Індывідуальныя асаблівасці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17:31:21Z</dcterms:created>
  <dc:creator>школа</dc:creator>
  <dc:description/>
  <dc:language>en-US</dc:language>
  <cp:lastModifiedBy>User</cp:lastModifiedBy>
  <dcterms:modified xsi:type="dcterms:W3CDTF">2012-11-12T09:18:57Z</dcterms:modified>
  <cp:revision>8</cp:revision>
  <dc:subject/>
  <dc:title>Педагагічны савет </dc:title>
</cp:coreProperties>
</file>