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589B-A844-475E-B21B-729E35187E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1290-F989-4C42-ABE9-CA6002821F8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E5EBB-9BF3-4833-AD5A-05DAE9D18905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C674-608E-4C82-BA0E-9364965D0A9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97D1-C487-4ACF-A709-222E26F3DFB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396-69B3-4FB9-A3E5-D072EE1EC17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4260-F560-4450-B1B1-0B797823124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81B9-D681-4A4E-841F-3728A8C4B29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7110-34FA-4CF3-9A04-FBF750CF5C2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C182-9CA9-45EA-A78C-CFBFAD165698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5EF4-7815-4C19-9361-E1BF015E67AB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F7C7-B332-4375-BB3A-2C4435C41FF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54D1-BB6B-407A-B555-70BC1F9E788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A9B1-43F3-4AFB-B54D-0B36F7E7D6FC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668F-42AC-4454-BB77-3C5F778DA53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A69C-A379-4BD8-8368-316B382D10CA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95A0-A3F9-4C55-A39B-DB7585797349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BBE6-CF0B-4D23-B42B-6F808A4BE1C2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C1EE-4947-4BAF-963C-916BAC9BEA6D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5C93-33B1-4941-A189-080B6B51777E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1841-CCD7-410E-8C71-F49292028FD6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8DE3-E931-42FA-AE98-07C21A7C0E5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88D1-1D34-4AF6-8029-ACDCAD199C1F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61B5-1DB6-4410-98A9-B457D01D952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8DBF-4703-448A-86A9-360BD9C0A31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2897-5145-4F2B-8758-71CA30740480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A58D-21BB-4C68-AB9C-E8B66D7648D7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F1FB-0452-4DA3-B330-56F8D9353F53}" type="slidenum">
              <a:rPr b="0" lang="ru-RU" sz="12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DFD-3D92-46EE-94A1-EAF9D4B8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BB2-AA1F-4E97-9B45-7436C8E8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56760-773A-4CDA-A660-53DFFB7D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7591A-3E22-4327-BF4A-46370F61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86D5EE-E50C-443D-BB0F-AC39851F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5A02C-23BE-4F1E-BA05-216D9882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0F46F-3943-4376-A001-69E28312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8D64C-0A47-466B-90AB-B87CD370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E276D-3517-4A8C-9BE3-120DE8D4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ECFEF-D49F-4BE8-8030-A2E74C845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AA280-3B0E-45F0-87C9-7471DD6E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BC1B9-D8C9-4E6C-8BF8-5320C2406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9191-C2F8-44AD-B304-09FF1E86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2B02E-4A96-448D-8EF7-9CF804AF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20349-35F8-425F-B940-F435E11D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A2D365-7FFD-4F0A-AE2E-6FC044AA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A7F6E-F9F1-46AC-9080-133EEAF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977C5-B084-4853-BB16-88FCCFCD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5456A-0620-452E-853B-949325BF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C4E47-623A-4720-AAD2-57DE8FB6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456EA-871C-4F07-80DA-99C6A089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0C35A-4538-4BA2-AD9B-C1D8EFB0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5A3C5-8E05-42C4-BD20-95329C16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297-C2F3-46FF-8991-F7BC8D17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2ECB4-ABB2-4AC9-BC54-6AB652D8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CB1D9-F4E7-4000-9176-CE23A104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5D7EA9-DF5E-416B-B183-69211451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8171D-6D79-46DA-9FD7-8EFB88DC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E75C3-56B7-4BBE-8A85-8678307A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8F970-0F94-46B3-9105-5F99BAE0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01E7A-84C2-4ED9-AAB3-D97CE2A8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DEB29-988E-4AB4-84B9-E393C4A5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66EBFB-A2BF-4E21-A80F-41E56936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BBEA4-DFA3-4A6D-9944-148B0E34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0AE9-F4CB-4262-873B-757BD351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9B8B4-2C29-4AB3-A173-51948022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10069-02DE-4AB0-ADEB-9D6C8FD4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6A0C3-7CAD-46B6-8B96-F6C10C9D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41F008-129C-4EC2-917B-218704D9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762AA-2F8C-42C9-9573-CC92A042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4D336-3C93-498A-B8E3-E0B4887D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A9C92-F98D-4F64-8C06-3C01E575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E48417-2141-4EC4-A69E-C57724FF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620BC-394E-4191-9321-F28CDB75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B45E4F-30D2-45D9-A1EC-980B114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9C04-A16C-447B-92AA-3EA0CD41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4AD065-5A41-4051-B7A1-8F214F81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5AAAE-8C29-4B5D-BDF2-86F612E5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291EB-4530-4FBE-8B2C-2A20712D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A4444-A556-4D16-8C39-C881286E1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BD996-7F15-4AB1-9507-3741E6E7A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1BEE-73B8-45E8-B7C2-52AE22A2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3B4F-2542-47BD-8467-5D53E7A4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AA65-28BF-469F-9E86-BA28825A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2D91-8469-4B49-9972-AA06F716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807A-3816-4730-B14D-0673724A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93CE-EFD5-4894-BB11-267C4AAF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62B1-2766-4BE1-BF89-83BEB21C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567A-242E-4562-9253-C590C736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7BFC-9EF4-4084-8461-43C42087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593D-EA84-46BE-BB8E-BF1C7CD0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5CC9-BED1-41F9-BC34-63D38B0C3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68306-0DCE-4D5B-BD27-B4D27FBB2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1945-8FEB-4F89-8240-F780EEE5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39B5-541F-4957-9560-F7359B84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4BDB8-90E9-4723-8CE2-B60549DE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4F0EC-A99F-4F27-BA15-B8F68AE1E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827A-FB55-449C-B426-38EEFB7D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FAF68-8AAE-4A26-8D8C-8FC3493F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AFBDD-E74C-470E-8672-AF8DA92A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08D5-94C9-4AC8-8CB4-956020A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8FAB5-AA78-4C17-AD3D-93C6A254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AEE1-663F-45E3-893B-F78C57B8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9F64F-858A-4AC8-845C-51435CE1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AE86-9BA4-4B23-8D93-4AF488F6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02B12-8F41-4B4A-87A9-00BC5DDA0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9D147-566C-4B28-88F8-471C337F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97584-5839-4360-AEB0-1A0E4BE5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3C7F-DABB-41CD-BF39-A8FBBD51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58899-5684-44D3-92FF-F1BBECB9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B2D12-FCD2-42E5-89B3-F5E64748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68908-9F64-4ADB-83BC-CAB883C4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F8287-D6FB-4C9D-87B2-8055471F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615F8-0155-4BC9-93CD-88DF3D4D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BF8B0-B5B1-42DC-B770-72374F21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A295C-35E9-4A62-982A-185964A4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C6D4-CF95-470E-BB48-128DA199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236E-8811-455B-B74D-4D06D5CC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62F38-0ACE-4BFF-B1CC-06E30277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125B-9293-45D5-8BE3-D7E36645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AAF4E-0610-40D6-9DF8-90F3B443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3B417-9D2C-41B2-89ED-0FA44724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496F0-E9F1-4B83-BF55-F54E2CFC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CE2A3-BD13-4B40-97E0-5C47605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6FEDC-42E9-4DEE-9452-3F0223C2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00589-B826-4178-B74F-A082BB76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6AC4F-A81A-4CB5-9662-A4A9D5B9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C22F8-5138-4DCC-A70E-E4C1DEA1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54BDA-5B44-4C14-BB57-77185538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771A8-BBD9-4E67-BA51-27A931CFC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76AF-A516-4198-AFF7-F3FE731B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936EC-780A-406C-9E1A-CD472A481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A1F16-7770-4EC2-8A11-DFD71567F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1E8E9-D628-4CC0-80A0-41631F24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6EB4F-F28F-49FE-9FB8-ACE7704E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1C9CF-D7B2-4D5E-85FD-329B5650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2A9A3-4DF9-467C-8E8E-D858FAE3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1CF8E-FCFD-41CB-85CF-1EA4AF15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5235B-37E5-4CD2-A528-66C924AC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F4997-F5A5-44FC-BB87-4613085B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E630A-C9CF-4D65-8A1A-B7B17C3D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946D-A686-40EB-9786-81100D05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1C621-147F-4B4C-8600-9F20E1C6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78AAC-FB0C-4DC0-AE0E-7C4A2691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8CDD4-519C-4C86-9EBC-21155B85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8BA5D-7612-44D2-8FD1-8E2B30FD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FDE76-8841-49CB-8B44-A6E1EECD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5AF3D-9667-4466-87AD-24CB0F6C7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85142-B08B-4EF4-B277-6EE9539A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44925-8BFF-4E5E-8E16-8C3FBE20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7AAE1-42AC-43FF-9D26-91C9FA56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B7881-F39E-4211-AB17-77983BF8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AF0-C403-4BF1-9A82-171D0736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611D6-6E5B-498D-A441-2E2C13A7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FB81B-E1BC-448E-B2CE-2945D5EB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74486-AD91-444A-B12B-60EC4600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676E0-C7E7-425B-97D5-803704B77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BE96BD-85AD-411E-BE43-CF47B9845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F899D-46FA-4438-835D-36BBB887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DEBE9-923E-4482-8F46-FD5D2A9A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963DD-ED0F-4845-B95B-F5D99951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B7022-6582-4AA6-830D-BEAAB753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2AEEA-0639-430F-ACD2-4400C134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4E7-9FD9-4393-B86C-BB87E76F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B592D-46E0-42FF-A057-156E4724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775CC-27C0-477C-BAF3-46472243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D8E2B-8B9A-4663-9982-26433BAE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BEA04-D646-4DB9-9AB1-F34423A9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DC9FD-6978-4294-AFB5-8175C0AE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34A92-D82E-45E9-9E3C-883120D9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58163-7A12-4998-9FDC-AA01F4F2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B0B74-3DA8-4B3E-8AEE-17EF6ABB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63967F-7D81-4FF5-8714-6D638F52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11F78-C4C6-4845-ABBA-9E7B109B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73.xml"/><Relationship Id="rId35" Type="http://schemas.openxmlformats.org/officeDocument/2006/relationships/slideLayout" Target="../slideLayouts/slideLayout74.xml"/><Relationship Id="rId36" Type="http://schemas.openxmlformats.org/officeDocument/2006/relationships/slideLayout" Target="../slideLayouts/slideLayout75.xml"/><Relationship Id="rId37" Type="http://schemas.openxmlformats.org/officeDocument/2006/relationships/slideLayout" Target="../slideLayouts/slideLayout76.xml"/><Relationship Id="rId38" Type="http://schemas.openxmlformats.org/officeDocument/2006/relationships/slideLayout" Target="../slideLayouts/slideLayout77.xml"/><Relationship Id="rId39" Type="http://schemas.openxmlformats.org/officeDocument/2006/relationships/slideLayout" Target="../slideLayouts/slideLayout78.xml"/><Relationship Id="rId40" Type="http://schemas.openxmlformats.org/officeDocument/2006/relationships/slideLayout" Target="../slideLayouts/slideLayout79.xml"/><Relationship Id="rId41" Type="http://schemas.openxmlformats.org/officeDocument/2006/relationships/slideLayout" Target="../slideLayouts/slideLayout80.xml"/><Relationship Id="rId42" Type="http://schemas.openxmlformats.org/officeDocument/2006/relationships/slideLayout" Target="../slideLayouts/slideLayout81.xml"/><Relationship Id="rId43" Type="http://schemas.openxmlformats.org/officeDocument/2006/relationships/slideLayout" Target="../slideLayouts/slideLayout82.xml"/><Relationship Id="rId44" Type="http://schemas.openxmlformats.org/officeDocument/2006/relationships/slideLayout" Target="../slideLayouts/slideLayout83.xml"/><Relationship Id="rId4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AB8E-4F44-46F7-BD85-171AB2F72BF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54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4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5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5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5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5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56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6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56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56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5464-BCDF-4DA3-B947-5E40D0D93AB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612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613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4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616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617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sp>
          <p:nvSpPr>
            <p:cNvPr id="618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9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0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19DE-5627-4E17-8915-0E77A7FBF9A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9B7A-5357-4A52-9A23-6655E158310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FE5D-D408-4488-9A29-2C58C929627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7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8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9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9FF0-F445-4230-87A0-6780533502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6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00C9-2240-4145-B632-DB800A7AD6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2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grpSp>
            <p:nvGrpSpPr>
              <p:cNvPr id="2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f1311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7447-2856-4F10-8024-E71C6A32987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320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pic>
          <p:nvPicPr>
            <p:cNvPr id="321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C5D9-C3F5-486F-A112-D7E9E4C5A7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6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36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6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6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1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3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7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8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0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1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C022-976F-4909-A797-32D2CB209EA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4"/>
    <p:sldLayoutId id="2147483728" r:id="rId35"/>
    <p:sldLayoutId id="2147483729" r:id="rId36"/>
    <p:sldLayoutId id="2147483730" r:id="rId37"/>
    <p:sldLayoutId id="2147483731" r:id="rId38"/>
    <p:sldLayoutId id="2147483732" r:id="rId39"/>
    <p:sldLayoutId id="2147483733" r:id="rId40"/>
    <p:sldLayoutId id="2147483734" r:id="rId41"/>
    <p:sldLayoutId id="2147483735" r:id="rId42"/>
    <p:sldLayoutId id="2147483736" r:id="rId43"/>
    <p:sldLayoutId id="2147483737" r:id="rId44"/>
    <p:sldLayoutId id="2147483738" r:id="rId4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B30A-9755-4B88-9174-6C25CDF22E5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3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25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26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27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5240-5CEB-4E16-BD12-A990C4E387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«Роль семьи и школы в          развитии морального              самосознания  обучающихся».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январь 2014 год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ИТУАЦИЯ 3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ама ученика 7 класса пришла за консультацией к классному руководит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 моего сына в этом году вдруг стала заметно проявляться агрессивность по отношению к младшему брату, но и не только к нему, а и к своим друзьям. Ему хочется, как мне кажется, быть лиде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блюдаем с отцом, что агрессивность в отдельных случаях проявляется и в отношениях с нами. Мы считаем, что семья у нас благополучная, все вопросы решаем между собой и с детьми спокойно, доброжелательно. В чем причина такого поведения сына, не знаем. Помогит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Ситуация 4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Я вызвала Вас обсудить поведение Вашего сына. На школьной дискотеке он был замечен в нетрезвом вид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Не может быть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едложите разные варианты продолжения беседы и её результат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5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Наталья Викторовна давайте поговорим о внешнем виде Вашей дочер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Вы считаете, что внешний вид Татьяны не приемлем для школ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читель: Конечно.  Её внешний вид не соотносится с образом школьницы:пирсинг, которым она украсила лицо, блузки, которые не могут прикрыть определённые части те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ать: А я считаю, что это очень стильно. Сейчас вся молодёжь придерживается такого имидж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должите разговор с матерью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7720" y="1915920"/>
            <a:ext cx="8007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 спешите с выводами! Обдумайте хорошо то, что вы услышали от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есть профессиональная необходимость поделиться той информацией, которую сообщили родители, ещё с кем-то – родителей необходимо поставить об этом в известность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 вашего ребёнка совсем плохи дел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аш ребёнок совсем перестал учиться, ничего не делае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ы задумайтесь, скоро экзамены, а ваш, ведь, не сдас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 началом разговора поблагодарите родителя за то,    что пришёл.                                 Выразите надежду, что совместными усилиями удаст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правиться с    возникшими трудностями. А потом уже излагайт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туацию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разговоре уместны следующие высказы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понимаю, что трудно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 сама мама и знаю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 же Ваш ребёнок, никто не знает его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кто не сможет помочь Вашему ребёнку, лучше, чем В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ложите родителям варианты решения проблемы и обсудите их вс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ая встреча с семьёй учащегося должна заканчиватьс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нструктивными рекомендациями для родителей и самого учащегося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74772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182600" y="2111400"/>
            <a:ext cx="777240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ложите эффективные методы групповой работы с родителями и докажите их эффективность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Методы групповой работы с родителями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667836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ое собрание вместе с ученикам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зентация семей, их традиц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левая игр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сс – конференц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рание -  спектакль, в котором участвуют дет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одительский лектори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ечер вопросов и отве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испут, дискусси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Экскурс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аздники и т.д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абота в группа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учитель, чтобы его уважали дети и родители, прислушивались к его совет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ми качествами должен обладать родитель, чтобы воспитывать моральные качества у своего ребёнк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черты учителей и родителей мешают воспитанию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родителей по успешному взаимодействию со школой в вопросах воспитания и развития у детей моральных каче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ить советы для учителей по успешному взаимодействию с родителями в вопросах воспитания  и развития моральных качеств у де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учитель, чтобы его уважали дети и родители, прислушивались к его советам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ружелюб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Щедр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бъектив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тзывчив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важение к мнению учен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Целенаправленност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е того, что ученик –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юбить общение с деть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нать свой предм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читель – пример и идеал!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Times New Roman"/>
              </a:rPr>
              <a:t>Какими качествами должен обладать родитель, чтобы воспитывать моральные качества у своего ребёнка (мнение детей)</a:t>
            </a: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бро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трогость (в меру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е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ниман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праведлив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ветств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ерпим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оспита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Мудр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оммуникабель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равновешеннос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удолюби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меть прислушиваться к детя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ь должен быть другом своему ребёнк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емья и школ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это берег и  море.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Л. А. Кассил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477200" cy="782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Что мешает учителю в воспитательном и учебном процессах</a:t>
            </a:r>
            <a:br>
              <a:rPr sz="24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                                (мнение детей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65340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праведл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равновешенность, вспыльчив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мнению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лоб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взятое мнение об ученика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рый взгляд на ми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нос своих личных проблем на ученик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ндаль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знание учебного предме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6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то мешает родителям правильно строить воспитательный процесс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(мнение детей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547280" y="1916280"/>
            <a:ext cx="610236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понимание детей и времен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любовь к детя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умение слушать дете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сокомер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воспит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сдержа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уб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рвозность, истерич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терпимость к чужим ошибка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резмерная строг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ебёнка учит то, что его окружает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c0039"/>
                </a:solidFill>
                <a:latin typeface="Arial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Удовлетворённость родителей жизнедеятельностью  ОУ</a:t>
            </a:r>
            <a:br>
              <a:rPr sz="2000"/>
            </a:br>
            <a:r>
              <a:rPr b="0" lang="ru-RU" sz="2000" spc="-1" strike="noStrike">
                <a:solidFill>
                  <a:srgbClr val="006633"/>
                </a:solidFill>
                <a:latin typeface="Garamond"/>
              </a:rPr>
              <a:t>(насколько ОУ воспитывает в детях следующие качества)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школа                               средня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куратность                                            3,8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сциплинированность                                4,0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ь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ля                                                                3,8 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Хорошие манеры поведения                        3,8  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ерадостность                                        4,0                                                    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разованность                                             4,3                                                   4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м                                                                   3,9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сокие жизненные запросы                      3,7                                                   3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амостоятельность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стность                                                       4,3                                                   4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брота                                                          4,0                                                   4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уткость                                                         3,6                                                  3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раведливость                                             3,9                                                  4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рпение                                                         3,9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ий балл                                                 4,0                                                  3,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07-08 уч. год                                              3,9                                                   3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: Родители удовлетворены работой школы по формированию у детей поведенческих, морально-психологических качеств (уровень удовлетворённости – более 3 балл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Цветограмма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2" name=""/>
          <p:cNvGraphicFramePr/>
          <p:nvPr/>
        </p:nvGraphicFramePr>
        <p:xfrm>
          <a:off x="685800" y="1828800"/>
          <a:ext cx="7696080" cy="1168560"/>
        </p:xfrm>
        <a:graphic>
          <a:graphicData uri="http://schemas.openxmlformats.org/drawingml/2006/table">
            <a:tbl>
              <a:tblPr/>
              <a:tblGrid>
                <a:gridCol w="1924200"/>
                <a:gridCol w="1923840"/>
                <a:gridCol w="1924200"/>
                <a:gridCol w="192384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актуаль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новизна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полезность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f1311"/>
                          </a:solidFill>
                          <a:latin typeface="Comic Sans MS"/>
                        </a:rPr>
                        <a:t>интерес</a:t>
                      </a: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3" name="Rectangle 25"/>
          <p:cNvSpPr/>
          <p:nvPr/>
        </p:nvSpPr>
        <p:spPr>
          <a:xfrm>
            <a:off x="611280" y="335592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аждая группа должна оценить все параметры и закрасить графу цветным карандашом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Красный – высо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иний – средня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елёный – низкая оцен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333399"/>
                </a:solidFill>
                <a:uFillTx/>
                <a:latin typeface="Tahoma"/>
              </a:rPr>
              <a:t>Решение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Принять выработанные принципы эффективного взаимодействия семьи и школы в деятельности по развитию личности ребенка за основу в своей деятельности каждому учител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Продолжать проводить внеклассные и общешкольные мероприятия с участием родителей: родительские собрания, деловые игры, конкурсно-игровые программы и т. п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Создать копилку передовых педагогических находок в работе с родит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Цель педсовета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: поиск оптимальных форм совместной работы школы и семьи в деятельности по развитию ребёнк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99"/>
                </a:solidFill>
                <a:uFillTx/>
                <a:latin typeface="Tahoma"/>
              </a:rPr>
              <a:t>Задач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пределить основные проблемы во взаимодействии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общить и систематизировать теоретические сведения о формах и принципах взаимодействия семьи и школы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ать принципы эффективного взаимодействия семьи и шко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-46296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263520" y="549000"/>
            <a:ext cx="7386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руг к другу</a:t>
            </a:r>
            <a:r>
              <a:rPr b="0" lang="ru-RU" sz="3200" spc="-1" strike="noStrike">
                <a:solidFill>
                  <a:srgbClr val="703d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Что Вы ждёте от родителей своего класса? (опрос классных руководителей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заимопомощи, взаимопонимания в вопросах воспитания и обучения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вместной работы над вопросами успеваемости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явления интереса к успехам и неудачам ребён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ветственности за воспитание своих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мощи в организации внеклассных мероприяти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ак Вы думаете, что родители ждут от Вас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раведливо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бр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уткого, понимающего отношения к де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го, добросовестного отношения к своим обязанностя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ддержки дет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хорошего качества зн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больше времени проводили с детьм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заставили и научили детей учиться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Теоретическая часть педсов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семьи в формировании нравственност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ль классного руководителя во взаимодействии семьи и школ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ИТУАЦИЯ 1 (работа в группах, обсуждение ситуаци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8920" y="1412640"/>
            <a:ext cx="73864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(участники: учительница, мать, сы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Мама пришла в школу по вызову учител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Здравствуйте, М. И., получила Вашу записку.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енику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у, рассказывай маме, что случилос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молчи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молчишь? Рассказывай маме, как ты ведешь себя на уроках? За что тебя выгнали с ИЗО? Какую оценку ты получил сегодня по русскому язык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я не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. Ну как тебе не стыдно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еник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Да это не я 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колько можно с гобой разговаривать на эту тем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И ведь никаких слов не понимает. Все учителя на него жалуют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Что ты голову опустил? За свои поступки отвечать надо. Отвечай, сколько ты еще нервы мои трепать будешь? Что молчишь? Как ты намерен себя дальше вести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Пришел в школу, будь добр, учись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 </a:t>
            </a: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(учителю).</a:t>
            </a: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Как с ним еще бороться, ума не приложу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чительница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аверное, витамин “Р” давно не прописывал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Ну все. Мое терпение закончилось, пусть с тобой теперь отец разговаривает. Он из тебя дурь-то выбьет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6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СИТУАЦИЯ 2</a:t>
            </a: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9640" y="765000"/>
            <a:ext cx="77774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чительница вызвала в школу маму Саши. Разговор состоялся в учительской во время пере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совершенно перестали следить за сыном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есть, как перестала следить? Дневник, тетради проверяю, по-моему, он приходит всегда в школу чист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раздраженно)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 что же выходит: я вам лгу, и от нечего делать вызвала вас в школу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собственно, что натворил сын? Он вообще мне все рассказыв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н дерзит учителям, срывает уроки. Вот вчера безобразничал на уроке черчения, на литературе стрелял из рогатки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ы знаете, К. М., дома он мне не дерз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у, знаете, мне лучше знать, как ваш сын ведет себя в школе. А если вы мне не верите, тогда мы с вами будем разговаривать в другом месте в присутствии админист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меня не пугайте этим. Саша ведет себя плохо на тех уроках, где неинтересно. Все ребята рассказывают, что на уроках черчения они ходят на головах, по литературе у них уже второй месяц пег постоянного учителя. А по географии у Саши у нового учителя одни двойки стоят. Сын говорит, что все их поставили не за знания, а за поведение – разве это справедливо? В прошлом году он у Л. И. по географии отличником был, в районной олимпиаде участвовал. А новый учитель к нему подхода не нашел, вот Саша и возненавидел географию! Так что наведите сначала у себя поряд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А вы нам не делайте замечаний, лучше сына воспитывайт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А вы не грозите мне администрацией, я тоже могу пожаловаться на в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таком случае мне с вами больше не о чем разговаривать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отворачивается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а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ходи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у и мамочка! Докажите ей что-нибуд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SUOMI</cp:lastModifiedBy>
  <dcterms:modified xsi:type="dcterms:W3CDTF">2014-11-14T11:42:57Z</dcterms:modified>
  <cp:revision>14</cp:revision>
  <dc:subject/>
  <dc:title>«Роль семьи и школы в          развитии морального              самосознания  обучающихся». </dc:title>
</cp:coreProperties>
</file>