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056E-45FC-4CBB-B8AF-7E9934AC02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F5C0-8CAD-4ADA-BD3D-AADDC3915B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4628-8C99-40B3-B99B-0BE26D4A8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02F2-344A-44F5-8240-A3E6EA9D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EB37-D4F2-4A4A-8EC9-101F5607F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3B77-368C-42A4-9854-45F9D7D0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14B4-B247-4889-ACBD-56EBEDE9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AC6A-856A-4AA6-83A4-C1F831DE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C515-3423-4930-87E4-9FAD334A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CCF0-7736-481C-90A8-9DAC72EE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680F-1816-4A3D-A6FD-55F7BEE0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5DBA-06E1-476F-9250-888DA330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9E98-8F46-4B2C-A49C-C3CC4D58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6F1D-5800-4A0E-8F9A-0F20BCD0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7200-0812-4EA8-B45E-1CC9D396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4C3C-01B2-4C07-9F57-39A8976C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1C29-008F-494C-959B-227FA36F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40DE-3A6A-438D-ACE9-B0C394BBE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61CA-7721-400A-8FDC-1EE1AAA0B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28696-8B84-4057-B01D-343B45954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EFB82-65B6-4879-A279-424C46C6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7C852-25CF-464E-909B-3939B540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40919-3B5B-404F-A3F6-0BA3E09F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D35A9-5F27-4AF6-A9CD-D82ABB71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FF20-EE74-4A44-8738-1B9B91C6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9C2AE-C299-4A5A-8640-7A49E607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6FDF0-EE4F-4C9F-B631-99D15F04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49938-CD8F-4301-9126-7DB2502D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6D8D1-D6B9-480A-A489-63E3230E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9A147-B63D-4657-9CD1-118F1629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55AEB-43C3-4338-91A8-55E3551CC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BEFA2-E509-4735-835E-5191A41B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F4F1B-2ADD-4248-BC46-1958F3E1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6B545-13E3-45EA-867A-E042B2FE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85252-F894-429C-B690-7F95D7BB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319B-65E0-4926-8E37-405FDF7A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BFC99-B927-4FEC-B311-F4C51158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330AB-7BF3-4425-BA6E-3649162C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C8FBF-7249-4AC4-B07C-5814C969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9D663-1A52-43EB-832C-8D56568A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EF2AC-72A1-4ECA-B3AB-B781A439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E2DB9-563C-48B5-B459-A035471D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D9805-AE71-49FA-B531-C4A369BB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4BF8D-0407-417B-B78C-F7F6C65A8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80090-0333-4BC1-A8F8-178DBA4CE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FC45E-21F9-48A0-906C-204093691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C0EA-5D84-458A-8F80-484D9C84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7E7AC-C770-4C84-9460-27631B6A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DE570-8FF8-41D1-96AE-C9C7CC57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8174A-EA03-4CDF-A5D8-AB83C96A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8215D-2691-4F9E-9FE8-60651C0C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DAFFD-ABF6-4359-BE81-4800412C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78950-FA67-4D18-B7DB-920E3936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8EA82-372A-4643-8B7C-CD44D06A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E96C0-905C-4927-97AC-0C99B713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26370-2A8E-464B-ACF0-2EFFC68E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FFD1D-FD42-41F4-A575-7990890A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BEA2-39F0-45BF-9DB9-7D6006DE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27000-422A-43D5-8CCA-ABA4534F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DA8FF-5A12-429E-AFCB-C09949571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A0305-E7D9-4372-A0EF-12FC1AFC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5CC71-7001-4C52-B665-B6C22A2C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4F9BD-6CFE-4EB6-839E-6FFB3E56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3ADA1-EA89-46EB-A990-D8BDABBB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E2D50-CCE9-441C-BEC2-85CC031C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26FDB-660D-4378-8AB4-83DBEE23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43313-78B8-4AC6-BD48-2089BBEF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37CF9-1832-436C-98B4-BB1A1BB4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6705-BBB7-42B9-9F02-CE34EB1F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A9E2C-C13F-47F6-8209-4153AA84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78287-20C2-4900-AAE8-D5BB4C398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1CA1B-FEC0-4A53-8A60-7DCBD6A57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98EEF-2E6A-4C92-B351-AFBCACD9E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DC7A8-1E92-497B-926E-BEC9EA72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486CF2-B246-4D29-85BB-712B085C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A122C-A9ED-4947-8E26-CFB35CA4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FDC5F-FDAE-4C77-A391-A4A15799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A8CCC-D1F7-45A5-8A63-88D2E1C4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94CF6-DF92-46C7-AF52-01028414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98C3-FE37-4194-8A8B-481075DD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38134-04BC-4CC3-B523-164E88B7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3F646-E917-44F2-87E3-FB4DA614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CBB44-0495-427E-91EA-5B85F59D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DD1F4-C749-4478-A52B-155963462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7E920-F30D-4BD3-8EAB-E430963ED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313A-D595-4AB4-B2EF-B10625D4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8A81-6EE3-4D5B-A138-5CB6D6CB6F37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8AD9-4400-4D14-895B-87DFBCB50879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EA06-6413-403F-A73E-0728D74F873B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BABD-DD06-4E3B-B7D8-0B2520250017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D28E-AEA9-411E-A872-FC34DD21534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85DA-6D75-40C1-889C-E92E3DBED03B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3E17-1386-489C-A04A-866B3BFFA813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689040" y="500040"/>
            <a:ext cx="7772400" cy="1646280"/>
          </a:xfrm>
          <a:prstGeom prst="rect">
            <a:avLst/>
          </a:prstGeom>
          <a:ln w="0">
            <a:noFill/>
          </a:ln>
        </p:spPr>
      </p:pic>
      <p:pic>
        <p:nvPicPr>
          <p:cNvPr id="309" name="Подзаголовок 2" descr=""/>
          <p:cNvPicPr/>
          <p:nvPr/>
        </p:nvPicPr>
        <p:blipFill>
          <a:blip r:embed="rId2"/>
          <a:stretch/>
        </p:blipFill>
        <p:spPr>
          <a:xfrm>
            <a:off x="231840" y="1871640"/>
            <a:ext cx="872964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настрой,  тып нярвовай дзейнасці,  камунікатыўнасць, эмацыянальнасць, упэўненасць у сваіх сілах,  прафесіянальная  кампетэнтнасць,  уменне імправізаваць,  уменне арганізаваць,  уменне выбраць метады, формы навучання,  падабраць сродкі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182520" y="12600"/>
            <a:ext cx="8523360" cy="23288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значыць месца ўрока ў тэме;  выдзяліць  задачу ўрока;  праграму, літаратуру; узнавіць матэрыял падручніка; выдзяліць галоўную ідэю ўрока; адабраць змест урока. метады, спосабы вывучэння, замацавыння   матэрыялу; дакладна ставіць задачу; сачыць за настроем вучняў;  эканоміць час;  подтрымліваць тэмп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64304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канкрэтнасць пастаўленай мэты і  задачы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Зацікаўленасць настаўніка і вучня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ніковасць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Якасць матэрыялу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Фарміраванне ўмення і навык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Разнастайнасць  метад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эмацыянальная падача матэрыял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індывідуальная работ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Урок – гэта клетачка педагагічнага працэсу,  і ў ім, як сонца ў кроплі вады,  адлюстроўваюцца ўсе яго бакі”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400" spc="-1" strike="noStrike">
                <a:solidFill>
                  <a:srgbClr val="ffffff"/>
                </a:solidFill>
                <a:latin typeface="Century Gothic"/>
              </a:rPr>
              <a:t>выяўленне ўзаемасувязі эфектыўнасці і якасці  ўрока і  вызначэнне шляхоў павышэння эфектыўнасці і якасці ўрока як формы вучэбнай дзейнасці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541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даследаваць шляхі і сродкі павышэння эфектыўнасці і якасці ўрока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крытэрыі эфектыўнага ўрока і выявіць супярэчнасці практыкі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вучыць практыку арганізацыі вучэбнай дзейнасці на ўроку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метады  і спосабы, якія садзейнічаюць павышэнню эфектыўнасці і якасці ўрок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627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е метадычнага савета па падрыхтоўцы пытанняў, якія будуць разглядацца.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Фестываль педагагічнага майстэрства “ Супені майстэрства” 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Анкетаванне настаўнікаў.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і метадычных аб’яднанняў.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дрыхтоўка памяткі: “Псіхалагічныя аспекты ўрока”.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Работа творчай групы па падрыхтоўцы праекта рашэнняў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сіхолага педагагічны кансіліум “ Адаптацыя першакласнікаў на 1-й ступені агульнай сярэдняй адукацыі”.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Семінар-практыкум “Тэхналогія аналіза і самааналіза ўрока”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Інструктыўна-метадычныя кансультацыя для настаўнікаў-прадметнікаў  “ Шляхі павышэння эфектыўнасці і якасці ўрока”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Заголовок 1" descr=""/>
          <p:cNvPicPr/>
          <p:nvPr/>
        </p:nvPicPr>
        <p:blipFill>
          <a:blip r:embed="rId1"/>
          <a:stretch/>
        </p:blipFill>
        <p:spPr>
          <a:xfrm>
            <a:off x="457200" y="-165240"/>
            <a:ext cx="8229600" cy="11653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78552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наліз выканання рашэнняў чэрвеньскага  педсавета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Даклад “Шляхі і сродкі павышэння эфектыўнасці і якасці ўрока як формы вучэбнай дзейнасці”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Намеснік дырэктара  Т.А.Жук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            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Работа творчых груп па праблеме педсавета: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1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трабаванні да сучаснага ўрока  ( Радзейка Т.В., кіраўнік  групы; члены групы: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Ярэміч І.Р.,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жыгар Г.С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2. Шляхі і сродкі павышэння эфектыўнасці і якасці ўрока як формы вучэбнай дзейнасці. (Рамушэвіч Н.А., кіраўнік  групы; члены групы:  Савіцкая М.В., Рыбак І.Г., Бязгодаў В.В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3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Камфортнасць навучання як адно з важнейшых умоў паспяховасці адукацыйнага працэсу. (Нядвецкая С.І., кіраўнік  групы; члены групы: Церашкова Н.К., Каханская С.В., Дулуб А.Я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4. Настаўнік на ўроку. Прафесійны вопыт, майстэрства, метадычная капілка  (Булай  К.З., кіраўнік  групы; члены групы:  Севашко Т.М., Пакачайла А.К., Цурына В.Ю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5. Псіхалагічныя і выхаваўчыя моманты на ўроку (Жданюк Л.М.- кіраўнік  групы;.члены групы:  Сычэўнік Н.Р.,  Паўтарак А.Т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6. Матэрыяльна-тэхнічная база ўрока. (  Сямак В.Э.-  кіраўнік  групы , члены групы: Адамцэвіч І.М., Сівалоўская Л. І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7. Правядзенне  майстар-класа.</a:t>
            </a: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8. Работа творчай групы па падрыхтоўцы праекта рашэнняў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двядзенне вынікаў:   праект рашэння педсавета: абмеркаванне і яго прыняцце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9. Рэфлексія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8345520" cy="13953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это педагог, способный преобразовываться , способный создавать вокруг себя новое, производительная активность которого на каждом новом этапе становится совершенней и эффективней”- такім бачыць сучаснага педагога практык, настаўнік вышэйшай катэгорыі Пракапенка Ніна Іосіфаўна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ў перакладзе з  лацінскага – «эфектос» - выкананне дзеянняў, вынік, наступства нейкіх дзеянняў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82520" y="92160"/>
            <a:ext cx="8504280" cy="1888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настаўнік ажыццяўляе комплекс дзеянняў, рашае  псіхалагічныя , дыдактычныя, метадычныя , арганізацыйныя задачы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182520" y="268200"/>
            <a:ext cx="850428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узровень паспяховасці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прадмета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тэмп работы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падрыхтаванасць вучняў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дысцыпліны,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Індывідуальныя асаблівасці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17:31:21Z</dcterms:created>
  <dc:creator>школа</dc:creator>
  <dc:description/>
  <dc:language>en-US</dc:language>
  <cp:lastModifiedBy>User</cp:lastModifiedBy>
  <dcterms:modified xsi:type="dcterms:W3CDTF">2012-11-12T09:18:57Z</dcterms:modified>
  <cp:revision>8</cp:revision>
  <dc:subject/>
  <dc:title>Педагагічны савет </dc:title>
</cp:coreProperties>
</file>