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9278-E507-4C11-9C07-E65648E90B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8766-5D7D-43CE-B3B3-C162EB3D20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4A1F-E3D7-40EE-9278-05E291396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A2DA-69A5-4CDA-880B-0B08E6B9A6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8675-5970-4D27-8CCC-8A94C4A342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0545-8D93-49FB-B10E-5EC5356CD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EE7D-9B10-41C1-8324-DBE6921842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3400-15C6-4FD4-942D-B645DA2ABA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FB18-DDAA-4302-81AF-98A4255A2A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6B0-E7D4-4B97-A5BD-BDE1D424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406-475F-4C6D-834A-3483498D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BA4-835C-4B55-95AB-9D755566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D62-FC4B-4299-96C7-F22056A1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879D-1400-4B29-8C36-8913992F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ECDD-8F86-4B7B-9469-D529335D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285C-5F5E-4477-B37C-53EFDA7D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7F44-346A-4E66-9678-57B42073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24A6-16E5-41AF-8047-502CA354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577A-7664-4A07-9010-211094FA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5C1D-8672-464D-BBA3-4673CDEA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893E-6513-4994-8B24-5BCEFC2E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CDE5-6641-4729-B4D1-5C02651A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0DFB-7827-4BB1-8DC6-698E3254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E55E-7A00-4D6F-8BE6-58790F8D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CB46-1255-45FB-94E0-FED8BFD0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5185-D00F-4F39-8E6F-06A73B3F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E1D-2F97-4E98-9D5D-4FDF6FE0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38B-14FF-4C56-96D4-C044DA56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9F8C-7376-41D5-8CAC-08D39D0C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105-FF5E-43BD-9143-1B53074B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69E-C560-46B2-81E7-27E1D3D1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842-A2BB-4AAF-8BAA-D2EC1CCB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B4E-971B-48E0-A3A8-EBED11F7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16A5-BEA9-49B4-A485-E2FDFB4514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55B0-623A-47D2-9A61-1E1A815CB43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u99.mybb.ru/uploads/000a/5a/3f/2687-4-f.jpg" TargetMode="External"/><Relationship Id="rId3" Type="http://schemas.openxmlformats.org/officeDocument/2006/relationships/hyperlink" Target="http://www.die-stadtredaktion.de/wp-content/uploads/2013/02/vhs-Presse_Familienprogramm-kindermikroskop_Fotolia-Klein.jpg" TargetMode="External"/><Relationship Id="rId4" Type="http://schemas.openxmlformats.org/officeDocument/2006/relationships/hyperlink" Target="http://franuk.com/images/stories/news/2011/02/ekz290508_0.jpg" TargetMode="External"/><Relationship Id="rId5" Type="http://schemas.openxmlformats.org/officeDocument/2006/relationships/hyperlink" Target="http://i029.radikal.ru/1109/%201a/08ff2c9ad2c4.jpg" TargetMode="External"/><Relationship Id="rId6" Type="http://schemas.openxmlformats.org/officeDocument/2006/relationships/hyperlink" Target="http://900igr.net/datai/okruzhajuschij-mir/Dvizhenie-zhivotnykh/0004-003-Dvizhenie-prostejshikh.png" TargetMode="External"/><Relationship Id="rId7" Type="http://schemas.openxmlformats.org/officeDocument/2006/relationships/hyperlink" Target="http://www.makuha.ru/world/Bio/img/ani-001-3.jpg" TargetMode="External"/><Relationship Id="rId8" Type="http://schemas.openxmlformats.org/officeDocument/2006/relationships/hyperlink" Target="http://oldboy.icnet.ru/SITE_2103/MY_SITE/My_rast/Rubus_caesius/BIG/Rubus_caesius_2.jpg" TargetMode="External"/><Relationship Id="rId9" Type="http://schemas.openxmlformats.org/officeDocument/2006/relationships/hyperlink" Target="http://quran-m.com/pp/data/559/486px-Folla_Roseira_004eue.jp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Arial"/>
              </a:rPr>
              <a:t>Активизация познавательного интереса  учащихся к урокам биолог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78920" y="2997000"/>
            <a:ext cx="87138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Авто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Данилова Юлия Валерьев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заместитель директора по учебно-воспитательной работе, учитель биологи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Arial"/>
              </a:rPr>
              <a:t>МБОУ «Средняя общеобразовательная школа №1» муниципального образования «Островский рай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289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 – конкурс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сократический прие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 клас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а ученика доказывают, первый эвглена зеленая - это растение, второй эвглена зеленая - это животн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3"/>
          <a:stretch/>
        </p:blipFill>
        <p:spPr>
          <a:xfrm>
            <a:off x="3419640" y="1700280"/>
            <a:ext cx="551160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рячий стул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садится перед классом. Остальные задают ему вопросы по домашнему зад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бинете у врача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дин ученик изображает пациента, который с жалобами обращается к «врачу». «Врач» задает вопросы, ставит диагноз и дает рекоменд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родная мудрость (пословицы, поговорки, приметы)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Объясните выражение: «Долго жуешь – долго живешь». Установи последователь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2195640" y="1728720"/>
            <a:ext cx="3809880" cy="4762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98100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исьмо Незнайки. </a:t>
            </a:r>
            <a:r>
              <a:rPr b="0" i="1" lang="en-US" sz="2800" spc="-1" strike="noStrike">
                <a:solidFill>
                  <a:srgbClr val="0070c0"/>
                </a:solidFill>
                <a:latin typeface="Arial"/>
              </a:rPr>
              <a:t>Найдите и исправьте ошибки в текст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87480" y="1728720"/>
            <a:ext cx="864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се живые организмы должны питаться. Животные, которые питаются другими животными - паразиты. Соками организма хозяина питаются хищники, а растениями растительноядные животные. Вещества, которые образуются в живом организме, называют питательными. Питание животных и человека, следовательно, жизнь на Земле зависят от вирусов. Растения могут образовывать  органические вещества из воды и углекислого газа. Синий цвет - цвет жизни. В клетках листьев растений есть особое вещество синего цвета - хлороформ. Растениям для жизни, кроме органических веществ необходимы минеральные соли. Их поставляет цвет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адпись 2"/>
          <p:cNvSpPr/>
          <p:nvPr/>
        </p:nvSpPr>
        <p:spPr>
          <a:xfrm>
            <a:off x="203040" y="1758960"/>
            <a:ext cx="864108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аразиты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Соками организма хозяина питаются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ищни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, а растениями растительноядные животные. Вещества, которые образуются в живом организме, называю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питательны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Питание животных и человека, следовательно, жизнь на Земле зависят от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 виру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 могут образовывать органические вещества из воды и углекислого газа.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 - цвет жизни. В клетках листьев растений есть особое вещество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синег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цвета -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хлорофор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Растениям для жизни, кроме органических веществ необходимы минеральные соли. Их поставляет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Calibri"/>
              </a:rPr>
              <a:t>цвето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Надпись 2"/>
          <p:cNvSpPr/>
          <p:nvPr/>
        </p:nvSpPr>
        <p:spPr>
          <a:xfrm>
            <a:off x="92160" y="1735200"/>
            <a:ext cx="8751960" cy="47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5 класс «Как питаются разные живые организмы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Все живые организмы должны питаться. Животные, которые питаются другими животными – хищники. Соками организма хозяина питаются паразиты, а растениями растительноядные животные. Вещества, которые образуются в живом организме, называют органическими. Питание животных и человека, следовательно, жизнь на Земле зависят от растений. Растения могут образовывать органические вещества из воды и углекислого газа. Зеленый цвет - цвет жизни. В клетках листьев растений есть особое вещество зеленого цвета - хлорофилл. Растениям для жизни, кроме органических веществ необходимы минеральные соли. Их поставляет корен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ы это не значило?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На картинке, слайде изображение. Дать исчерпывающий 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2"/>
          <a:stretch/>
        </p:blipFill>
        <p:spPr>
          <a:xfrm>
            <a:off x="961920" y="2421000"/>
            <a:ext cx="6667560" cy="24573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1763640" y="5276880"/>
            <a:ext cx="586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7 класс. На картинке размножение амеб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360" y="1722240"/>
            <a:ext cx="77752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чи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класс. В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гиена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ология – наука 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томия – наука 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годня на уроке мы познакомимся с науками, изучающими человека, их методами исследования. Проверим правильность ваших предпо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читайте зашифрованную тему ур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класс. Как питаются парази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2 1 2 5 6 3 7   (1-Р, 2-А, 3-Т, 4-П, 5-З, 6-И, 7-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10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10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36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1000"/>
                                        <p:tgtEl>
                                          <p:spTgt spid="1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722600"/>
            <a:ext cx="9036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етий лишний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Тренировка логического мышления. Проанализируйте ряд слов и назовите то слово, которое не соответствует всем другим. Свой выбор обоснуйте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6 класс. Разнообразие и значение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Плоды: слива, горох, абрикос, перси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71280" y="3573360"/>
            <a:ext cx="9072720" cy="2224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2"/>
          <p:cNvSpPr/>
          <p:nvPr/>
        </p:nvSpPr>
        <p:spPr>
          <a:xfrm>
            <a:off x="1476360" y="544500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твет: горох, так как многосемянной плод, а остальные односемянные. Сегодня на уроке мы познакомимся с разнообразием и значением плод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социация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</a:rPr>
              <a:t>Перед уроком написать ассоциации со словом………. и поместить их на до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тавь пропущенные слова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(с неизвестными для учащихся термин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ок «Определение пола и наследование признаков, сцепленных с полом» (9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щее число, размеры и форму хромосом, характерное для того или иного вида организмов -…….. .Во все соматических клетках человека имеется …. хромосом. Неполовые хромосомы называют …….. . Пару различающихся хромосом, неодинаковых у мужчины и женщины, называют …… хромосомами. Их обозначают …. и ...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1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10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24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Загад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класс. Царство гриб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виду он похож на зонтик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олько меньше во сто кра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ль гроза на горизон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бывает очень ра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дождик и тепл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н считает повезл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формируйте тему нашего урок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4140360" y="1916280"/>
            <a:ext cx="46828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1000"/>
                                        <p:tgtEl>
                                          <p:spTgt spid="1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иятия и способствующие пробуждению интереса к изучаемому материалу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722240"/>
            <a:ext cx="9036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ерите ли вы, что…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(прием новизн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Занимательная информация по теме. Далее работа с учебником и другими источниками информации в поисках правильных ответов на поставленный вопро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Урок «Моногибридное скрещивание» (9 клас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Верите ли Вы, что у праворуких родителей может 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родиться ребенок левша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зговая атака (штурм)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Напиши все, что ты знаешь по этой тем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упповая атака.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 Я думаю так...(прием создания проблемной ситу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 биоло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 Опорно-двигательная система.(8 клас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я, из автобуса мужчина, поскользнувшись, повредил ногу. Нога в районе голеностопного сустава припухла, посинела. Сустав потерял подвижность. Какой диагноз поставит врач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3829320" cy="24973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5037480" y="5886360"/>
            <a:ext cx="4201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вих голеностопного суст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Мысль в пода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– это зеркало общей и педагогической культуры учителя, мерило его интеллектуального богатства, показатель его кругозора и эруд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MCj04398190000[1]"/>
          <p:cNvPicPr/>
          <p:nvPr/>
        </p:nvPicPr>
        <p:blipFill>
          <a:blip r:embed="rId2"/>
          <a:stretch/>
        </p:blipFill>
        <p:spPr>
          <a:xfrm>
            <a:off x="6000840" y="3571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36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 – эксперимент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исследователь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 класс. Урок «Закономерности работы головного мозга»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мотрите на  картинку, что Вы види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А теперь попробуйте найти лошадь на той, же карт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Чем объяснить это явление? ( законом взаимной индук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643280" y="1557360"/>
            <a:ext cx="3964320" cy="4319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2104920" y="4260960"/>
            <a:ext cx="158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ягуш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осмысления (усвоения) изучаемого материала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14130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marL="92520" indent="-92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бота с учебник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оздания проблемной ситу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 класс. Прочитайте текст учебной статьи, составьте схему «Птицы по  дальности перемещен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Прямая со стрелкой 2"/>
          <p:cNvCxnSpPr/>
          <p:nvPr/>
        </p:nvCxnSpPr>
        <p:spPr>
          <a:xfrm flipH="1">
            <a:off x="2267640" y="2708280"/>
            <a:ext cx="57564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5" name="Прямая со стрелкой 5"/>
          <p:cNvCxnSpPr>
            <a:stCxn id="213" idx="2"/>
          </p:cNvCxnSpPr>
          <p:nvPr/>
        </p:nvCxnSpPr>
        <p:spPr>
          <a:xfrm>
            <a:off x="4571640" y="2708280"/>
            <a:ext cx="108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6" name="Прямая со стрелкой 7"/>
          <p:cNvCxnSpPr/>
          <p:nvPr/>
        </p:nvCxnSpPr>
        <p:spPr>
          <a:xfrm>
            <a:off x="6300360" y="2708280"/>
            <a:ext cx="6483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17" name="Овал 8"/>
          <p:cNvGrpSpPr/>
          <p:nvPr/>
        </p:nvGrpSpPr>
        <p:grpSpPr>
          <a:xfrm>
            <a:off x="103320" y="3243240"/>
            <a:ext cx="3030480" cy="1054080"/>
            <a:chOff x="103320" y="3243240"/>
            <a:chExt cx="3030480" cy="1054080"/>
          </a:xfrm>
        </p:grpSpPr>
        <p:pic>
          <p:nvPicPr>
            <p:cNvPr id="218" name="Овал 8" descr=""/>
            <p:cNvPicPr/>
            <p:nvPr/>
          </p:nvPicPr>
          <p:blipFill>
            <a:blip r:embed="rId2"/>
            <a:stretch/>
          </p:blipFill>
          <p:spPr>
            <a:xfrm>
              <a:off x="10332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015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оседл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Овал 13"/>
          <p:cNvGrpSpPr/>
          <p:nvPr/>
        </p:nvGrpSpPr>
        <p:grpSpPr>
          <a:xfrm>
            <a:off x="3060720" y="3333600"/>
            <a:ext cx="3022560" cy="1055880"/>
            <a:chOff x="3060720" y="3333600"/>
            <a:chExt cx="3022560" cy="1055880"/>
          </a:xfrm>
        </p:grpSpPr>
        <p:pic>
          <p:nvPicPr>
            <p:cNvPr id="221" name="Овал 13" descr=""/>
            <p:cNvPicPr/>
            <p:nvPr/>
          </p:nvPicPr>
          <p:blipFill>
            <a:blip r:embed="rId3"/>
            <a:stretch/>
          </p:blipFill>
          <p:spPr>
            <a:xfrm>
              <a:off x="3060720" y="3333600"/>
              <a:ext cx="302256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54280" y="3511440"/>
              <a:ext cx="203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кочующ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Овал 14"/>
          <p:cNvGrpSpPr/>
          <p:nvPr/>
        </p:nvGrpSpPr>
        <p:grpSpPr>
          <a:xfrm>
            <a:off x="6168960" y="3243240"/>
            <a:ext cx="3030480" cy="1054080"/>
            <a:chOff x="6168960" y="3243240"/>
            <a:chExt cx="3030480" cy="1054080"/>
          </a:xfrm>
        </p:grpSpPr>
        <p:pic>
          <p:nvPicPr>
            <p:cNvPr id="224" name="Овал 14" descr=""/>
            <p:cNvPicPr/>
            <p:nvPr/>
          </p:nvPicPr>
          <p:blipFill>
            <a:blip r:embed="rId4"/>
            <a:stretch/>
          </p:blipFill>
          <p:spPr>
            <a:xfrm>
              <a:off x="6168960" y="3243240"/>
              <a:ext cx="303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665760" y="3419640"/>
              <a:ext cx="203688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ерелет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6" name="Прямая со стрелкой 10"/>
          <p:cNvCxnSpPr/>
          <p:nvPr/>
        </p:nvCxnSpPr>
        <p:spPr>
          <a:xfrm flipH="1">
            <a:off x="53928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7" name="Прямая со стрелкой 12"/>
          <p:cNvCxnSpPr/>
          <p:nvPr/>
        </p:nvCxnSpPr>
        <p:spPr>
          <a:xfrm>
            <a:off x="1618920" y="4290840"/>
            <a:ext cx="108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8" name="Прямая со стрелкой 17"/>
          <p:cNvCxnSpPr/>
          <p:nvPr/>
        </p:nvCxnSpPr>
        <p:spPr>
          <a:xfrm>
            <a:off x="2268360" y="4290840"/>
            <a:ext cx="216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9" name="Прямая со стрелкой 19"/>
          <p:cNvCxnSpPr/>
          <p:nvPr/>
        </p:nvCxnSpPr>
        <p:spPr>
          <a:xfrm flipH="1">
            <a:off x="3924000" y="4471560"/>
            <a:ext cx="72000" cy="397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0" name="Прямая со стрелкой 21"/>
          <p:cNvCxnSpPr/>
          <p:nvPr/>
        </p:nvCxnSpPr>
        <p:spPr>
          <a:xfrm>
            <a:off x="4712760" y="4236840"/>
            <a:ext cx="1080" cy="1081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1" name="Прямая со стрелкой 23"/>
          <p:cNvCxnSpPr/>
          <p:nvPr/>
        </p:nvCxnSpPr>
        <p:spPr>
          <a:xfrm>
            <a:off x="5364000" y="4471920"/>
            <a:ext cx="14544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2" name="Прямая со стрелкой 26"/>
          <p:cNvCxnSpPr/>
          <p:nvPr/>
        </p:nvCxnSpPr>
        <p:spPr>
          <a:xfrm flipH="1">
            <a:off x="6624360" y="4290840"/>
            <a:ext cx="108720" cy="36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3" name="Прямая со стрелкой 28"/>
          <p:cNvCxnSpPr/>
          <p:nvPr/>
        </p:nvCxnSpPr>
        <p:spPr>
          <a:xfrm>
            <a:off x="7524360" y="4290480"/>
            <a:ext cx="1080" cy="9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34" name="Прямая со стрелкой 30"/>
          <p:cNvCxnSpPr/>
          <p:nvPr/>
        </p:nvCxnSpPr>
        <p:spPr>
          <a:xfrm>
            <a:off x="8388000" y="4290480"/>
            <a:ext cx="144720" cy="345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35" name="TextBox 50176"/>
          <p:cNvSpPr/>
          <p:nvPr/>
        </p:nvSpPr>
        <p:spPr>
          <a:xfrm>
            <a:off x="71640" y="4662360"/>
            <a:ext cx="106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ро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0177"/>
          <p:cNvSpPr/>
          <p:nvPr/>
        </p:nvSpPr>
        <p:spPr>
          <a:xfrm>
            <a:off x="1076760" y="4708440"/>
            <a:ext cx="10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з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луб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178"/>
          <p:cNvSpPr/>
          <p:nvPr/>
        </p:nvSpPr>
        <p:spPr>
          <a:xfrm>
            <a:off x="2038320" y="466236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ородско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б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42"/>
          <p:cNvSpPr/>
          <p:nvPr/>
        </p:nvSpPr>
        <p:spPr>
          <a:xfrm>
            <a:off x="3496320" y="495936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ра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3"/>
          <p:cNvSpPr/>
          <p:nvPr/>
        </p:nvSpPr>
        <p:spPr>
          <a:xfrm>
            <a:off x="4284000" y="5262480"/>
            <a:ext cx="110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ра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4"/>
          <p:cNvSpPr/>
          <p:nvPr/>
        </p:nvSpPr>
        <p:spPr>
          <a:xfrm>
            <a:off x="5055120" y="4797360"/>
            <a:ext cx="118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егир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5"/>
          <p:cNvSpPr/>
          <p:nvPr/>
        </p:nvSpPr>
        <p:spPr>
          <a:xfrm>
            <a:off x="6136200" y="4751280"/>
            <a:ext cx="112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ебе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46"/>
          <p:cNvSpPr/>
          <p:nvPr/>
        </p:nvSpPr>
        <p:spPr>
          <a:xfrm>
            <a:off x="7147440" y="526248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асточ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47"/>
          <p:cNvSpPr/>
          <p:nvPr/>
        </p:nvSpPr>
        <p:spPr>
          <a:xfrm>
            <a:off x="8065440" y="4708440"/>
            <a:ext cx="106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волг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9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83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87" nodeType="after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ст как инструмент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50920" y="1628640"/>
          <a:ext cx="8642160" cy="49374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88108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изучении нового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 закреплении материал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этапе домашнего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9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предлагается выбрать правильное утверждение и доказать правоту своего вы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еся предварительно работают с текстом учебника, затем предлагается тестовое задание с последующей дискуссией по тем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мся необходимо самостоятельно составить тест, с использованием изученных терминов и понят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гадай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Требования к составлению кроссвор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Схема 1" descr=""/>
          <p:cNvPicPr/>
          <p:nvPr/>
        </p:nvPicPr>
        <p:blipFill>
          <a:blip r:embed="rId2"/>
          <a:stretch/>
        </p:blipFill>
        <p:spPr>
          <a:xfrm>
            <a:off x="1219320" y="2273400"/>
            <a:ext cx="742464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0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Прием работы с кроссвордами – составление вопросов к решенному кроссворду</a:t>
            </a:r>
            <a:br>
              <a:rPr sz="2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Arial"/>
              </a:rPr>
              <a:t>Возможные вопрос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Клетки с толстыми оболочками, которые образуют длинные трубки, находящиеся в древеси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Плотный, самый широкий слой, находящийся под ко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 узких длинных клеток с тонкими оболочками, за счёт которых происходит рост стебля в толщин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Маленькие бугор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 отверстиями, находящие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робке, через котор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исходит газообме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5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Слой, входящий в соста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ы, состоящий из ситовидных трубок и толстостенных волоко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2"/>
          <a:srcRect l="410" t="0" r="2159" b="0"/>
          <a:stretch/>
        </p:blipFill>
        <p:spPr>
          <a:xfrm>
            <a:off x="4395960" y="3933720"/>
            <a:ext cx="4730400" cy="2552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5292720" y="39337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395960" y="459756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4856040" y="537372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5292720" y="5681520"/>
            <a:ext cx="28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2"/>
          <p:cNvSpPr/>
          <p:nvPr/>
        </p:nvSpPr>
        <p:spPr>
          <a:xfrm>
            <a:off x="4138560" y="4994280"/>
            <a:ext cx="28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3"/>
          <a:stretch/>
        </p:blipFill>
        <p:spPr>
          <a:xfrm>
            <a:off x="-1440" y="1612800"/>
            <a:ext cx="42289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16" presetSubtype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2" dur="10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0" y="16495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«Чудо – дерево». На обратной стороне листьев задания или занимательные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"/>
          <p:cNvSpPr/>
          <p:nvPr/>
        </p:nvSpPr>
        <p:spPr>
          <a:xfrm>
            <a:off x="1122480" y="3984480"/>
            <a:ext cx="503280" cy="1944720"/>
          </a:xfrm>
          <a:prstGeom prst="rect">
            <a:avLst/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Капля 3"/>
          <p:cNvSpPr/>
          <p:nvPr/>
        </p:nvSpPr>
        <p:spPr>
          <a:xfrm rot="11685600">
            <a:off x="1793880" y="31608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Капля 5"/>
          <p:cNvSpPr/>
          <p:nvPr/>
        </p:nvSpPr>
        <p:spPr>
          <a:xfrm rot="11685600">
            <a:off x="1936800" y="4278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Капля 6"/>
          <p:cNvSpPr/>
          <p:nvPr/>
        </p:nvSpPr>
        <p:spPr>
          <a:xfrm rot="5400000">
            <a:off x="109440" y="307008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Капля 7"/>
          <p:cNvSpPr/>
          <p:nvPr/>
        </p:nvSpPr>
        <p:spPr>
          <a:xfrm rot="8087400">
            <a:off x="931680" y="248724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Капля 8"/>
          <p:cNvSpPr/>
          <p:nvPr/>
        </p:nvSpPr>
        <p:spPr>
          <a:xfrm rot="4810200">
            <a:off x="37800" y="415620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0" y="457200"/>
                </a:moveTo>
                <a:cubicBezTo>
                  <a:pt x="0" y="204695"/>
                  <a:pt x="204695" y="0"/>
                  <a:pt x="457200" y="0"/>
                </a:cubicBezTo>
                <a:lnTo>
                  <a:pt x="914400" y="0"/>
                </a:lnTo>
                <a:lnTo>
                  <a:pt x="914400" y="457200"/>
                </a:ln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Капля 9"/>
          <p:cNvSpPr/>
          <p:nvPr/>
        </p:nvSpPr>
        <p:spPr>
          <a:xfrm rot="12182400">
            <a:off x="4263840" y="2141280"/>
            <a:ext cx="4452840" cy="4113000"/>
          </a:xfrm>
          <a:custGeom>
            <a:avLst/>
            <a:gdLst/>
            <a:ahLst/>
            <a:rect l="l" t="t" r="r" b="b"/>
            <a:pathLst>
              <a:path w="4452938" h="4113212">
                <a:moveTo>
                  <a:pt x="0" y="2056606"/>
                </a:moveTo>
                <a:cubicBezTo>
                  <a:pt x="0" y="920774"/>
                  <a:pt x="996824" y="0"/>
                  <a:pt x="2226469" y="0"/>
                </a:cubicBezTo>
                <a:cubicBezTo>
                  <a:pt x="3591836" y="0"/>
                  <a:pt x="4957204" y="-575665"/>
                  <a:pt x="6322571" y="-1726994"/>
                </a:cubicBezTo>
                <a:cubicBezTo>
                  <a:pt x="5076149" y="-465794"/>
                  <a:pt x="4452938" y="795406"/>
                  <a:pt x="4452938" y="2056606"/>
                </a:cubicBezTo>
                <a:cubicBezTo>
                  <a:pt x="4452938" y="3192438"/>
                  <a:pt x="3456114" y="4113212"/>
                  <a:pt x="2226469" y="4113212"/>
                </a:cubicBezTo>
                <a:cubicBezTo>
                  <a:pt x="996824" y="4113212"/>
                  <a:pt x="0" y="3192438"/>
                  <a:pt x="0" y="20566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452840" y="343044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ъясните выражение: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Человека без осанки не быва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0" y="6122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8 класс. Обобщающий урок по теме «Опорно-двигательная систем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укцион «Кто больше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 – нет, дай отве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мини – викторина). Это репродуктивный метод. Задаются вопросы на утверждения по диагонали, по периметру, через одного, зигзаг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ереводч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ыбор учеников термины на карточках, прикрепленные к магнитной доске. Дать определени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тий ли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0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2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08000" y="14130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  <a:ea typeface="Times New Roman"/>
              </a:rPr>
              <a:t> (Прием моделирования, прием схематиза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).Изучение внутреннего строения. Из набора карточек выбрать карточки с названиями органов пищеварения (кровеносной, нервной) системы и разложить в нужной последова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2160" y="3344760"/>
            <a:ext cx="814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Arial"/>
              </a:rPr>
              <a:t>7 класс. Дождевой червь</a:t>
            </a:r>
            <a:r>
              <a:rPr b="0" lang="ru-RU" sz="22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тановите последовательность органов пищеварительной системы дождевого черв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01520" y="4114800"/>
            <a:ext cx="78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т, пищевод, кишка, «сердца», анальное отверстие, глотка, зоб, желудок, дыхаль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2"/>
          <a:stretch/>
        </p:blipFill>
        <p:spPr>
          <a:xfrm>
            <a:off x="-7920" y="4883040"/>
            <a:ext cx="6030720" cy="10670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"/>
          <p:cNvPicPr/>
          <p:nvPr/>
        </p:nvPicPr>
        <p:blipFill>
          <a:blip r:embed="rId3"/>
          <a:stretch/>
        </p:blipFill>
        <p:spPr>
          <a:xfrm>
            <a:off x="4199040" y="5230800"/>
            <a:ext cx="4867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nodeType="clickEffect" fill="hold">
                      <p:stCondLst>
                        <p:cond delay="0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1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1004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воспроизведения полученных зн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1052640"/>
            <a:ext cx="9198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Чьи детки на этой ветке?»</a:t>
            </a: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70c0"/>
                </a:solidFill>
                <a:latin typeface="Arial"/>
              </a:rPr>
              <a:t>(Прием натурализац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ается набор побегов, цветков, листьев, плодов. Задание: собрать все одного вида (семейства) (6 класс Семейства цветковых растений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3" descr=""/>
          <p:cNvPicPr/>
          <p:nvPr/>
        </p:nvPicPr>
        <p:blipFill>
          <a:blip r:embed="rId2"/>
          <a:stretch/>
        </p:blipFill>
        <p:spPr>
          <a:xfrm>
            <a:off x="527040" y="2590920"/>
            <a:ext cx="1473120" cy="12398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"/>
          <p:cNvPicPr/>
          <p:nvPr/>
        </p:nvPicPr>
        <p:blipFill>
          <a:blip r:embed="rId3"/>
          <a:stretch/>
        </p:blipFill>
        <p:spPr>
          <a:xfrm>
            <a:off x="73080" y="3790800"/>
            <a:ext cx="2481120" cy="30607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5" descr=""/>
          <p:cNvPicPr/>
          <p:nvPr/>
        </p:nvPicPr>
        <p:blipFill>
          <a:blip r:embed="rId4"/>
          <a:stretch/>
        </p:blipFill>
        <p:spPr>
          <a:xfrm>
            <a:off x="6108840" y="2205000"/>
            <a:ext cx="2827080" cy="212076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6" descr=""/>
          <p:cNvPicPr/>
          <p:nvPr/>
        </p:nvPicPr>
        <p:blipFill>
          <a:blip r:embed="rId5"/>
          <a:stretch/>
        </p:blipFill>
        <p:spPr>
          <a:xfrm>
            <a:off x="6532560" y="4591080"/>
            <a:ext cx="1981080" cy="1962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"/>
          <p:cNvPicPr/>
          <p:nvPr/>
        </p:nvPicPr>
        <p:blipFill>
          <a:blip r:embed="rId6"/>
          <a:stretch/>
        </p:blipFill>
        <p:spPr>
          <a:xfrm>
            <a:off x="2752560" y="4206960"/>
            <a:ext cx="3160800" cy="23698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9" descr=""/>
          <p:cNvPicPr/>
          <p:nvPr/>
        </p:nvPicPr>
        <p:blipFill>
          <a:blip r:embed="rId7"/>
          <a:stretch/>
        </p:blipFill>
        <p:spPr>
          <a:xfrm>
            <a:off x="2846520" y="2389320"/>
            <a:ext cx="2639880" cy="16398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"/>
          <p:cNvPicPr/>
          <p:nvPr/>
        </p:nvPicPr>
        <p:blipFill>
          <a:blip r:embed="rId8"/>
          <a:stretch/>
        </p:blipFill>
        <p:spPr>
          <a:xfrm>
            <a:off x="2389320" y="1484280"/>
            <a:ext cx="3524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0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1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8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8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9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804 L 0.00087 0.33063 E">
                                      <p:cBhvr>
                                        <p:cTn id="899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04920" y="914400"/>
            <a:ext cx="8305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2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280" y="5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2004840"/>
          <a:ext cx="8229600" cy="4646880"/>
        </p:xfrm>
        <a:graphic>
          <a:graphicData uri="http://schemas.openxmlformats.org/drawingml/2006/table">
            <a:tbl>
              <a:tblPr/>
              <a:tblGrid>
                <a:gridCol w="360360"/>
                <a:gridCol w="444240"/>
                <a:gridCol w="500040"/>
                <a:gridCol w="403560"/>
                <a:gridCol w="363240"/>
                <a:gridCol w="476280"/>
                <a:gridCol w="403200"/>
                <a:gridCol w="480960"/>
                <a:gridCol w="455760"/>
                <a:gridCol w="442800"/>
                <a:gridCol w="536760"/>
                <a:gridCol w="419040"/>
                <a:gridCol w="466920"/>
                <a:gridCol w="448920"/>
                <a:gridCol w="403560"/>
                <a:gridCol w="384120"/>
                <a:gridCol w="419040"/>
                <a:gridCol w="438120"/>
                <a:gridCol w="382680"/>
              </a:tblGrid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18"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ВЫ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КОПАЕМЫ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8556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720" rIns="63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720" marR="63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0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2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106640" y="34128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Активизация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57200" y="19051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обучающей деятельности 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257800" y="16765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952880" y="19051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ктивизация деятельности уче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28600" y="4267080"/>
            <a:ext cx="320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ффективные методические приёмы организации учебно-познавательной деятельност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4929120" y="44290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организация, самоконтроль, твор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"/>
          <p:cNvSpPr/>
          <p:nvPr/>
        </p:nvSpPr>
        <p:spPr>
          <a:xfrm flipH="1" flipV="1">
            <a:off x="6248520" y="2786040"/>
            <a:ext cx="46080" cy="157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4"/>
          <p:cNvSpPr/>
          <p:nvPr/>
        </p:nvSpPr>
        <p:spPr>
          <a:xfrm flipH="1">
            <a:off x="2437920" y="990720"/>
            <a:ext cx="17528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7"/>
          <p:cNvSpPr/>
          <p:nvPr/>
        </p:nvSpPr>
        <p:spPr>
          <a:xfrm>
            <a:off x="4495680" y="990720"/>
            <a:ext cx="16765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1295280" y="2971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 flipV="1">
            <a:off x="1219320" y="2895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304920" y="914400"/>
            <a:ext cx="83055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кроссворд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После завершения изучения темы проводится «Базар кроссвордов»(головоломок, ребусов и т.п., составленных ученикам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чини сказку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прием символиз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елай опыт или наблюдение.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На следующем уроке ученики демонстрируют и объясняют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7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5"/>
          <p:cNvSpPr/>
          <p:nvPr/>
        </p:nvSpPr>
        <p:spPr>
          <a:xfrm>
            <a:off x="304920" y="304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домашнего зад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304920" y="914400"/>
            <a:ext cx="8305560" cy="56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 вопросы одноклассни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 чем различие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Что назыв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будет если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Верно ли, что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вы думаете, что...      Когд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ясните почему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Какой... Гд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умай над вопросом 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(эвристический при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8 класс. Урок «Работа мышц» Почему появляется болезненное состояние мышц после их работы без предварительной трениров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958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66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10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70" nodeType="afterEffect" fill="hold" presetClass="entr" presetID="2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08000" y="1773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ух К.Е. Активизация деятельности учащихся при обучении биологии // Биология в школе. – М.: 2007, - №2. – с.44-50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рзоев С.С. Активизация познавательного интереса учащихся. // Биология в школе. – М., 2007, - №6. – с.35-3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Шамаридина Т.В. Формируем учебно-познавательную компетентность учащихся //Директор школы. – М., 2007 - №4. –  С. 57 - 62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8366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://mou99.mybb.ru/uploads/000a/5a/3f/2687-4-f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3"/>
              </a:rPr>
              <a:t>http://www.die-stadtredaktion.de/wp-content/uploads/2013/02/vhs-Presse_Familienprogramm-kindermikroskop_Fotolia-Klein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4"/>
              </a:rPr>
              <a:t>http://franuk.com/images/stories/news/2011/02/ekz290508_0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5"/>
              </a:rPr>
              <a:t>http://i029.radikal.ru/1109/ 1a/08ff2c9ad2c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6"/>
              </a:rPr>
              <a:t>http://900igr.net/datai/okruzhajuschij-mir/Dvizhenie-zhivotnykh/0004-003-Dvizhenie-prostejshikh.p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7"/>
              </a:rPr>
              <a:t>http://www.makuha.ru/world/Bio/img/ani-001-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8"/>
              </a:rPr>
              <a:t>http://oldboy.icnet.ru/SITE_2103/MY_SITE/My_rast/Rubus_caesius/BIG/Rubus_caesius_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9"/>
              </a:rPr>
              <a:t>http://quran-m.com/pp/data/559/486px-Folla_Roseira_004eue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fotoregion.ru/data/media/2/100_239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1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http://biologymoscow.ucoz.ru/illustracii/botanika/vyshie/razn/111poperechniyi_Srez_Drevesnogo_Steblya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just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Графические материал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50560" y="1052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adovos.ru/wp-content/uploads/2012/06/cvetok-tomata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44.radikal.ru/i104/1107/fb/7d8647e2b3d2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img-fotki.yandex.ru/get/4522/51176788.6c/0_686bf_e4b28b2f_X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.svitmam.ua/photo/0/0/327/327263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board.agrobiznes.com.ua/photos/2011/08/4479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hulinar.ru/wp-content/uploads/2011/11/abr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artgide.com/uploads/posts/ref/b9976ca8a4931aab6857df40995a6804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www.mushrooms-online.ru/img/Boletus_pinicola_90.jp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61.radikal.ru/i173/1205/a5/35c6b2729908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cindysworld.net/froghorse.gi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15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://school.xvatit.com/images/0/01/20.07-6.jpg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571920" y="357120"/>
            <a:ext cx="266688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ив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42920" y="642960"/>
            <a:ext cx="3124080" cy="137376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зитивные эмоциональные реа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019240" y="2514600"/>
            <a:ext cx="579276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Познавательный интерес уче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62120" y="5105520"/>
            <a:ext cx="2514600" cy="9471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просы учит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357880" y="5072040"/>
            <a:ext cx="3429000" cy="13737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тение дополнитель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5"/>
          <p:cNvSpPr/>
          <p:nvPr/>
        </p:nvSpPr>
        <p:spPr>
          <a:xfrm>
            <a:off x="1676520" y="1981080"/>
            <a:ext cx="807840" cy="4572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8"/>
          <p:cNvSpPr/>
          <p:nvPr/>
        </p:nvSpPr>
        <p:spPr>
          <a:xfrm>
            <a:off x="48769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9"/>
          <p:cNvSpPr/>
          <p:nvPr/>
        </p:nvSpPr>
        <p:spPr>
          <a:xfrm>
            <a:off x="4952880" y="914400"/>
            <a:ext cx="0" cy="1523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 flipH="1">
            <a:off x="6248520" y="1523880"/>
            <a:ext cx="1371600" cy="91440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2"/>
          <p:cNvSpPr/>
          <p:nvPr/>
        </p:nvSpPr>
        <p:spPr>
          <a:xfrm flipV="1">
            <a:off x="2063880" y="3860640"/>
            <a:ext cx="1212840" cy="124488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3"/>
          <p:cNvSpPr/>
          <p:nvPr/>
        </p:nvSpPr>
        <p:spPr>
          <a:xfrm flipH="1" flipV="1">
            <a:off x="5940360" y="3860640"/>
            <a:ext cx="1146240" cy="1092240"/>
          </a:xfrm>
          <a:prstGeom prst="line">
            <a:avLst/>
          </a:prstGeom>
          <a:ln w="284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357960" y="928800"/>
            <a:ext cx="2514600" cy="520560"/>
          </a:xfrm>
          <a:prstGeom prst="rect">
            <a:avLst/>
          </a:prstGeom>
          <a:solidFill>
            <a:srgbClr val="1f497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Уровни развития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Arial"/>
              </a:rPr>
              <a:t>познавательного интереса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Равнобедренный треугольник 3"/>
          <p:cNvGrpSpPr/>
          <p:nvPr/>
        </p:nvGrpSpPr>
        <p:grpSpPr>
          <a:xfrm>
            <a:off x="523800" y="1755720"/>
            <a:ext cx="3633840" cy="4353120"/>
            <a:chOff x="523800" y="1755720"/>
            <a:chExt cx="3633840" cy="4353120"/>
          </a:xfrm>
        </p:grpSpPr>
        <p:pic>
          <p:nvPicPr>
            <p:cNvPr id="119" name="Равнобедренный треугольник 3" descr=""/>
            <p:cNvPicPr/>
            <p:nvPr/>
          </p:nvPicPr>
          <p:blipFill>
            <a:blip r:embed="rId2"/>
            <a:stretch/>
          </p:blipFill>
          <p:spPr>
            <a:xfrm>
              <a:off x="523800" y="1755720"/>
              <a:ext cx="363384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4"/>
            <p:cNvSpPr/>
            <p:nvPr/>
          </p:nvSpPr>
          <p:spPr>
            <a:xfrm>
              <a:off x="1400040" y="3933720"/>
              <a:ext cx="180036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2268360" y="4906800"/>
            <a:ext cx="6212160" cy="1212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4"/>
          <a:stretch/>
        </p:blipFill>
        <p:spPr>
          <a:xfrm>
            <a:off x="2268360" y="3645000"/>
            <a:ext cx="6181920" cy="1212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5"/>
          <a:stretch/>
        </p:blipFill>
        <p:spPr>
          <a:xfrm>
            <a:off x="2274840" y="2349360"/>
            <a:ext cx="61819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Arial"/>
              </a:rPr>
              <a:t>Пути развития познавательного интере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Прямоугольник 1"/>
          <p:cNvGrpSpPr/>
          <p:nvPr/>
        </p:nvGrpSpPr>
        <p:grpSpPr>
          <a:xfrm>
            <a:off x="237960" y="1689120"/>
            <a:ext cx="3376800" cy="1541520"/>
            <a:chOff x="237960" y="1689120"/>
            <a:chExt cx="3376800" cy="1541520"/>
          </a:xfrm>
        </p:grpSpPr>
        <p:pic>
          <p:nvPicPr>
            <p:cNvPr id="126" name="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237960" y="168912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50920" y="1700280"/>
              <a:ext cx="33494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содержание биологических знан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Прямоугольник 4"/>
          <p:cNvGrpSpPr/>
          <p:nvPr/>
        </p:nvGrpSpPr>
        <p:grpSpPr>
          <a:xfrm>
            <a:off x="2828880" y="3340080"/>
            <a:ext cx="3376800" cy="1542960"/>
            <a:chOff x="2828880" y="3340080"/>
            <a:chExt cx="3376800" cy="1542960"/>
          </a:xfrm>
        </p:grpSpPr>
        <p:pic>
          <p:nvPicPr>
            <p:cNvPr id="129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2828880" y="3340080"/>
              <a:ext cx="33768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3280" y="3357720"/>
              <a:ext cx="3349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деятельность учеников на уроке, во внеурочной и внеклассной работ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Прямоугольник 5"/>
          <p:cNvGrpSpPr/>
          <p:nvPr/>
        </p:nvGrpSpPr>
        <p:grpSpPr>
          <a:xfrm>
            <a:off x="5657760" y="1616040"/>
            <a:ext cx="3376800" cy="1541520"/>
            <a:chOff x="5657760" y="1616040"/>
            <a:chExt cx="3376800" cy="1541520"/>
          </a:xfrm>
        </p:grpSpPr>
        <p:pic>
          <p:nvPicPr>
            <p:cNvPr id="132" name="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5657760" y="1616040"/>
              <a:ext cx="337680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70720" y="1628640"/>
              <a:ext cx="33494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через отношения учитель-ученик и ученик-учени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798560" cy="203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7" descr=""/>
          <p:cNvPicPr/>
          <p:nvPr/>
        </p:nvPicPr>
        <p:blipFill>
          <a:blip r:embed="rId6"/>
          <a:stretch/>
        </p:blipFill>
        <p:spPr>
          <a:xfrm>
            <a:off x="3025800" y="4902120"/>
            <a:ext cx="2852640" cy="1901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6" name="Picture 8" descr=""/>
          <p:cNvPicPr/>
          <p:nvPr/>
        </p:nvPicPr>
        <p:blipFill>
          <a:blip r:embed="rId7"/>
          <a:stretch/>
        </p:blipFill>
        <p:spPr>
          <a:xfrm>
            <a:off x="6516720" y="3392640"/>
            <a:ext cx="2263680" cy="169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6"/>
          <p:cNvSpPr/>
          <p:nvPr/>
        </p:nvSpPr>
        <p:spPr>
          <a:xfrm>
            <a:off x="380880" y="1143000"/>
            <a:ext cx="83822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70c0"/>
                </a:solidFill>
                <a:latin typeface="Arial"/>
              </a:rPr>
              <a:t>Методический прием</a:t>
            </a: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дельное действие учителя или ученика, входящее в состав мет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Oval 13"/>
          <p:cNvGrpSpPr/>
          <p:nvPr/>
        </p:nvGrpSpPr>
        <p:grpSpPr>
          <a:xfrm>
            <a:off x="6114960" y="1255680"/>
            <a:ext cx="3071880" cy="2077920"/>
            <a:chOff x="6114960" y="1255680"/>
            <a:chExt cx="3071880" cy="2077920"/>
          </a:xfrm>
        </p:grpSpPr>
        <p:pic>
          <p:nvPicPr>
            <p:cNvPr id="139" name="Oval 13" descr=""/>
            <p:cNvPicPr/>
            <p:nvPr/>
          </p:nvPicPr>
          <p:blipFill>
            <a:blip r:embed="rId2"/>
            <a:stretch/>
          </p:blipFill>
          <p:spPr>
            <a:xfrm>
              <a:off x="6114960" y="1255680"/>
              <a:ext cx="3071880" cy="20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3"/>
            <p:cNvSpPr/>
            <p:nvPr/>
          </p:nvSpPr>
          <p:spPr>
            <a:xfrm>
              <a:off x="6546960" y="1542960"/>
              <a:ext cx="1885680" cy="11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Oval 4"/>
          <p:cNvGrpSpPr/>
          <p:nvPr/>
        </p:nvGrpSpPr>
        <p:grpSpPr>
          <a:xfrm>
            <a:off x="2359080" y="219240"/>
            <a:ext cx="4181400" cy="1542960"/>
            <a:chOff x="2359080" y="219240"/>
            <a:chExt cx="4181400" cy="1542960"/>
          </a:xfrm>
        </p:grpSpPr>
        <p:pic>
          <p:nvPicPr>
            <p:cNvPr id="142" name="Oval 4" descr=""/>
            <p:cNvPicPr/>
            <p:nvPr/>
          </p:nvPicPr>
          <p:blipFill>
            <a:blip r:embed="rId3"/>
            <a:stretch/>
          </p:blipFill>
          <p:spPr>
            <a:xfrm>
              <a:off x="2359080" y="219240"/>
              <a:ext cx="418140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2952720" y="426960"/>
              <a:ext cx="266688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5"/>
          <p:cNvSpPr/>
          <p:nvPr/>
        </p:nvSpPr>
        <p:spPr>
          <a:xfrm>
            <a:off x="3657600" y="838080"/>
            <a:ext cx="1752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048120" y="609480"/>
            <a:ext cx="304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емонстрационны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Oval 7"/>
          <p:cNvGrpSpPr/>
          <p:nvPr/>
        </p:nvGrpSpPr>
        <p:grpSpPr>
          <a:xfrm>
            <a:off x="3005280" y="1785960"/>
            <a:ext cx="3151080" cy="3535200"/>
            <a:chOff x="3005280" y="1785960"/>
            <a:chExt cx="3151080" cy="3535200"/>
          </a:xfrm>
        </p:grpSpPr>
        <p:pic>
          <p:nvPicPr>
            <p:cNvPr id="147" name="Oval 7" descr=""/>
            <p:cNvPicPr/>
            <p:nvPr/>
          </p:nvPicPr>
          <p:blipFill>
            <a:blip r:embed="rId4"/>
            <a:stretch/>
          </p:blipFill>
          <p:spPr>
            <a:xfrm>
              <a:off x="3005280" y="1785960"/>
              <a:ext cx="315108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11"/>
            <p:cNvSpPr/>
            <p:nvPr/>
          </p:nvSpPr>
          <p:spPr>
            <a:xfrm>
              <a:off x="3449520" y="2286000"/>
              <a:ext cx="194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3352680" y="2286000"/>
            <a:ext cx="22989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Методические приемы, активизирующие восприятие содержания учебного материа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Oval 9"/>
          <p:cNvGrpSpPr/>
          <p:nvPr/>
        </p:nvGrpSpPr>
        <p:grpSpPr>
          <a:xfrm>
            <a:off x="6053040" y="3498840"/>
            <a:ext cx="2998800" cy="1841400"/>
            <a:chOff x="6053040" y="3498840"/>
            <a:chExt cx="2998800" cy="1841400"/>
          </a:xfrm>
        </p:grpSpPr>
        <p:pic>
          <p:nvPicPr>
            <p:cNvPr id="151" name="Oval 9" descr=""/>
            <p:cNvPicPr/>
            <p:nvPr/>
          </p:nvPicPr>
          <p:blipFill>
            <a:blip r:embed="rId5"/>
            <a:stretch/>
          </p:blipFill>
          <p:spPr>
            <a:xfrm>
              <a:off x="6053040" y="3498840"/>
              <a:ext cx="29988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5"/>
            <p:cNvSpPr/>
            <p:nvPr/>
          </p:nvSpPr>
          <p:spPr>
            <a:xfrm>
              <a:off x="6475320" y="3753000"/>
              <a:ext cx="18320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Text Box 10"/>
          <p:cNvGrpSpPr/>
          <p:nvPr/>
        </p:nvGrpSpPr>
        <p:grpSpPr>
          <a:xfrm>
            <a:off x="6381720" y="1847880"/>
            <a:ext cx="2347920" cy="987480"/>
            <a:chOff x="6381720" y="1847880"/>
            <a:chExt cx="2347920" cy="987480"/>
          </a:xfrm>
        </p:grpSpPr>
        <p:pic>
          <p:nvPicPr>
            <p:cNvPr id="154" name="Text Box 10" descr=""/>
            <p:cNvPicPr/>
            <p:nvPr/>
          </p:nvPicPr>
          <p:blipFill>
            <a:blip r:embed="rId6"/>
            <a:stretch/>
          </p:blipFill>
          <p:spPr>
            <a:xfrm>
              <a:off x="6381720" y="1847880"/>
              <a:ext cx="2347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8"/>
            <p:cNvSpPr/>
            <p:nvPr/>
          </p:nvSpPr>
          <p:spPr>
            <a:xfrm>
              <a:off x="6477120" y="1917720"/>
              <a:ext cx="1828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Логическ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Oval 11"/>
          <p:cNvGrpSpPr/>
          <p:nvPr/>
        </p:nvGrpSpPr>
        <p:grpSpPr>
          <a:xfrm>
            <a:off x="-6480" y="2090880"/>
            <a:ext cx="2998800" cy="1815840"/>
            <a:chOff x="-6480" y="2090880"/>
            <a:chExt cx="2998800" cy="1815840"/>
          </a:xfrm>
        </p:grpSpPr>
        <p:pic>
          <p:nvPicPr>
            <p:cNvPr id="157" name="Oval 11" descr=""/>
            <p:cNvPicPr/>
            <p:nvPr/>
          </p:nvPicPr>
          <p:blipFill>
            <a:blip r:embed="rId7"/>
            <a:stretch/>
          </p:blipFill>
          <p:spPr>
            <a:xfrm>
              <a:off x="-6480" y="2090880"/>
              <a:ext cx="2998800" cy="18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21"/>
            <p:cNvSpPr/>
            <p:nvPr/>
          </p:nvSpPr>
          <p:spPr>
            <a:xfrm>
              <a:off x="417600" y="2340000"/>
              <a:ext cx="18320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Text Box 12"/>
          <p:cNvSpPr/>
          <p:nvPr/>
        </p:nvSpPr>
        <p:spPr>
          <a:xfrm>
            <a:off x="228600" y="259092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ругие при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6313320" y="1236600"/>
            <a:ext cx="2286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389640" y="404496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рафическ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0" y="3429000"/>
            <a:ext cx="266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Новизн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228600" y="388620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емантиз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914400" y="4419720"/>
            <a:ext cx="228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инам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1447920" y="49528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Создания проблемной ситу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3200400" y="5791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Значим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2"/>
          <p:cNvSpPr/>
          <p:nvPr/>
        </p:nvSpPr>
        <p:spPr>
          <a:xfrm flipH="1">
            <a:off x="2666520" y="2895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3"/>
          <p:cNvSpPr/>
          <p:nvPr/>
        </p:nvSpPr>
        <p:spPr>
          <a:xfrm flipV="1">
            <a:off x="4324320" y="1371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4"/>
          <p:cNvSpPr/>
          <p:nvPr/>
        </p:nvSpPr>
        <p:spPr>
          <a:xfrm flipV="1">
            <a:off x="5562720" y="2133720"/>
            <a:ext cx="5331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5867280" y="37339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8000" y="-152280"/>
            <a:ext cx="90360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Приемы на этапе проверки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домашнего задания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1125000"/>
            <a:ext cx="91440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ушай, не зевай!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Одновременно 3 ученика перед классом поднимают свою карточку, если вопрос - утверждение учителя кажется им правильны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 не звенит колокольчик или Оратор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Сообщение,  подготовленное учеником, звучит в течение 1 минуты. За одну минуту надо сказать много и интерес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 мне, я тебе. </a:t>
            </a:r>
            <a:r>
              <a:rPr b="0" i="1" lang="ru-RU" sz="2800" spc="-1" strike="noStrike">
                <a:solidFill>
                  <a:srgbClr val="0070c0"/>
                </a:solidFill>
                <a:latin typeface="Arial"/>
              </a:rPr>
              <a:t>Вопросы по домашнему зада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5:24:41Z</dcterms:created>
  <dc:creator>Valued Acer Customer</dc:creator>
  <dc:description/>
  <dc:language>en-US</dc:language>
  <cp:lastModifiedBy>Мама</cp:lastModifiedBy>
  <dcterms:modified xsi:type="dcterms:W3CDTF">2013-07-25T20:31:55Z</dcterms:modified>
  <cp:revision>85</cp:revision>
  <dc:subject/>
  <dc:title>Активизация познавательного интереса и эмоционального отношения учащихся к урокам биологии</dc:title>
</cp:coreProperties>
</file>