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78C5-3E66-4A38-BBEB-EEA04A3A65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256B-F86D-4B67-AE94-7FEDD91312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A2CD-65A2-413B-9A8D-A7A0E42E00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6716-F9BB-4CFF-BEF4-F148374DBF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E86C-3BBA-48DA-B35E-9F1BF4DF10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D866-852D-44E6-A1FF-134494B6E1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0DF7-F508-4630-B4A4-36DAF699A8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C68B-74FC-49D6-AD22-EBFF112D4A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237C-998F-4230-A992-4A750AB80B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AB6-324B-47B2-8670-53829D97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263-B3EC-403A-8D3D-197B6E65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E9C-4B99-4052-B380-A1FFF8D3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E7D-F092-4E2A-86E8-0F835023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1686-B6CF-492D-821E-B5D28274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DB83-26F9-4E39-B320-8747E885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A56B-1783-4675-89BA-C04D34DD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8F8B-8917-4DB5-840A-558670EA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24AC-C309-4EF2-940F-0B41248E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36E0-50AA-426E-852A-0E56EC0D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C77F-332E-4C35-8A94-1B634168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785-D1AE-4956-AB8B-83554937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BF2E-9099-4F47-85A6-D545B25F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4F22-AC23-4744-B41F-5522B9A7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AEB7-3FF9-48D7-950F-D6D6C3F1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DA17-C304-4264-8EAB-122D0302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4560-5C34-415E-884D-0B77C084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BCE-EC3B-4E8A-9333-D4270A52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05C-CF6A-46A0-AE69-A39D878D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DAD-D39E-49DA-A876-C89D7BA7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72C-0CFA-4825-B6A2-866D8336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A5E-13FE-4500-8A30-5A3068C2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9F2-8D24-4014-88EC-0C446190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7E7-1FD8-43CC-948B-6900270F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1EB4-B825-484A-ADC5-A3D3381F52F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36DE-82E7-41D1-9D54-A6E05617E0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u99.mybb.ru/uploads/000a/5a/3f/2687-4-f.jpg" TargetMode="External"/><Relationship Id="rId3" Type="http://schemas.openxmlformats.org/officeDocument/2006/relationships/hyperlink" Target="http://www.die-stadtredaktion.de/wp-content/uploads/2013/02/vhs-Presse_Familienprogramm-kindermikroskop_Fotolia-Klein.jpg" TargetMode="External"/><Relationship Id="rId4" Type="http://schemas.openxmlformats.org/officeDocument/2006/relationships/hyperlink" Target="http://franuk.com/images/stories/news/2011/02/ekz290508_0.jpg" TargetMode="External"/><Relationship Id="rId5" Type="http://schemas.openxmlformats.org/officeDocument/2006/relationships/hyperlink" Target="http://i029.radikal.ru/1109/%201a/08ff2c9ad2c4.jpg" TargetMode="External"/><Relationship Id="rId6" Type="http://schemas.openxmlformats.org/officeDocument/2006/relationships/hyperlink" Target="http://900igr.net/datai/okruzhajuschij-mir/Dvizhenie-zhivotnykh/0004-003-Dvizhenie-prostejshikh.png" TargetMode="External"/><Relationship Id="rId7" Type="http://schemas.openxmlformats.org/officeDocument/2006/relationships/hyperlink" Target="http://www.makuha.ru/world/Bio/img/ani-001-3.jpg" TargetMode="External"/><Relationship Id="rId8" Type="http://schemas.openxmlformats.org/officeDocument/2006/relationships/hyperlink" Target="http://oldboy.icnet.ru/SITE_2103/MY_SITE/My_rast/Rubus_caesius/BIG/Rubus_caesius_2.jpg" TargetMode="External"/><Relationship Id="rId9" Type="http://schemas.openxmlformats.org/officeDocument/2006/relationships/hyperlink" Target="http://quran-m.com/pp/data/559/486px-Folla_Roseira_004eue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"/>
              </a:rPr>
              <a:t>Активизация познавательного интереса  учащихся к урокам биолог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920" y="299700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Данилова Юлия Валерь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заместитель директора по учебно-воспитательной работе, учитель би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МБОУ «Средняя общеобразовательная школа №1» муниципального образования «Островский рай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 – конкурс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сократический прие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клас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ученика доказывают, первый эвглена зеленая - это растение, второй эвглена зеленая - это живот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3"/>
          <a:stretch/>
        </p:blipFill>
        <p:spPr>
          <a:xfrm>
            <a:off x="3419640" y="1700280"/>
            <a:ext cx="5511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стул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садится перед классом. Остальные задают ему вопросы по домашнему зад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бинете у врача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изображает пациента, который с жалобами обращается к «врачу». «Врач» задает вопросы, ставит диагноз и дает рекоменд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одная мудрость (пословицы, поговорки, приметы)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бъясните выражение: «Долго жуешь – долго живешь». Установи последова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195640" y="1728720"/>
            <a:ext cx="380988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81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ьмо Незнайки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Найдите и исправьте ошибки в текст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87480" y="1728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живые организмы должны питаться. Животные, которые питаются другими животными - паразиты. Соками организма хозяина питаются хищники, а растениями растительноядные животные. Вещества, которые образуются в живом организме, называют питательными. Питание животных и человека, следовательно, жизнь на Земле зависят от вирусов. Растения могут образовывать  органические вещества из воды и углекислого газа. Синий цвет - цвет жизни. В клетках листьев растений есть особое вещество синего цвета - хлороформ. Растениям для жизни, кроме органических веществ необходимы минеральные соли. Их поставляет цве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адпись 2"/>
          <p:cNvSpPr/>
          <p:nvPr/>
        </p:nvSpPr>
        <p:spPr>
          <a:xfrm>
            <a:off x="203040" y="1758960"/>
            <a:ext cx="864108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аразиты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Соками организма хозяина питаются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ищни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, а растениями растительноядные животные. Вещества, которые образуются в живом организме, называю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итательны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Питание животных и человека, следовательно, жизнь на Земле зависят от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 виру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 могут образовывать органические вещества из воды и углекислого газа.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 - цвет жизни. В клетках листьев растений есть особое вещество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а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лорофор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м для жизни, кроме органических веществ необходимы минеральные соли. Их поставляе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цвет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адпись 2"/>
          <p:cNvSpPr/>
          <p:nvPr/>
        </p:nvSpPr>
        <p:spPr>
          <a:xfrm>
            <a:off x="92160" y="1735200"/>
            <a:ext cx="875196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– хищники. Соками организма хозяина питаются паразиты, а растениями растительноядные животные. Вещества, которые образуются в живом организме, называют органическими. Питание животных и человека, следовательно, жизнь на Земле зависят от растений. Растения могут образовывать органические вещества из воды и углекислого газа. Зеленый цвет - цвет жизни. В клетках листьев растений есть особое вещество зеленого цвета - хлорофилл. Растениям для жизни, кроме органических веществ необходимы минеральные соли. Их поставляет корен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ы это не значило?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На картинке, слайде изображение. Дать исчерпывающий 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2"/>
          <a:stretch/>
        </p:blipFill>
        <p:spPr>
          <a:xfrm>
            <a:off x="961920" y="2421000"/>
            <a:ext cx="6667560" cy="2457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763640" y="5276880"/>
            <a:ext cx="586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7 класс. На картинке размножение аме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722240"/>
            <a:ext cx="77752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.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гия – наука 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томия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 на уроке мы познакомимся с науками, изучающими человека, их методами исследования. Проверим правильность ваших предпо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йте зашифрованную тему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. Как питаются 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2 1 2 5 6 3 7   (1-Р, 2-А, 3-Т, 4-П, 5-З, 6-И, 7-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722600"/>
            <a:ext cx="9036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тий лишний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Тренировка логического мышления. Проанализируйте ряд слов и назовите то слово, которое не соответствует всем другим. Свой выбор обоснуйте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6 класс. Разнообразие и значение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Плоды: слива, горох, абрикос, перс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71280" y="3573360"/>
            <a:ext cx="9072720" cy="2224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2"/>
          <p:cNvSpPr/>
          <p:nvPr/>
        </p:nvSpPr>
        <p:spPr>
          <a:xfrm>
            <a:off x="1476360" y="544500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вет: горох, так как многосемянной плод, а остальные односемянные. Сегодня на уроке мы познакомимся с разнообразием и значением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социация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Перед уроком написать ассоциации со словом………. и поместить их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 пропущенные слова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с неизвестными для учащихся термин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«Определение пола и наследование признаков, сцепленных с полом» (9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число, размеры и форму хромосом, характерное для того или иного вида организмов -…….. .Во все соматических клетках человека имеется …. хромосом. Неполовые хромосомы называют …….. . Пару различающихся хромосом, неодинаковых у мужчины и женщины, называют …… хромосомами. Их обозначают …. и ...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ад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. Царство гри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виду он похож на зонти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лько меньше во сто кра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ь гроза на горизо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бывает очень р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дождик и тепл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считает повезл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формируйте тему нашего у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68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ите ли вы, что…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прием новизн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Занимательная информация по теме. Далее работа с учебником и другими источниками информации в поисках правильных ответов на поставленный вопро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рок «Моногибридное скрещивание» (9 клас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Верите ли Вы, что у праворуких родителей может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родиться ребенок левш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овая атака (штурм)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Напиши все, что ты знаешь по этой т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овая атака.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 Я думаю так...(прием создания проблемной ситу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биоло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Опорно-двигательная система.(8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я, из автобуса мужчина, поскользнувшись, повредил ногу. Нога в районе голеностопного сустава припухла, посинела. Сустав потерял подвижность. Какой диагноз поставит вра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187280" y="3832200"/>
            <a:ext cx="3829320" cy="2497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5037480" y="5886360"/>
            <a:ext cx="42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их голеностопного суст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ысль в пода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– это зеркало общей и педагогической культуры учителя, мерило его интеллектуального богатства, показатель его кругозора и эруд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Cj04398190000[1]"/>
          <p:cNvPicPr/>
          <p:nvPr/>
        </p:nvPicPr>
        <p:blipFill>
          <a:blip r:embed="rId2"/>
          <a:stretch/>
        </p:blipFill>
        <p:spPr>
          <a:xfrm>
            <a:off x="6000840" y="3571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3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 – эксперимент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исследователь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ласс. Урок «Закономерности работы головного мозга»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мотрите на  картинку, что Вы види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А теперь попробуйте найти лошадь на той, же карт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ем объяснить это явление? ( законом взаимной ин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964320" cy="4319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104920" y="426096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ягуш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учебник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оздания проблемной ситу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 класс. Прочитайте текст учебной статьи, составьте схему «Птицы по  дальности перемещ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2"/>
          <p:cNvCxnSpPr/>
          <p:nvPr/>
        </p:nvCxnSpPr>
        <p:spPr>
          <a:xfrm flipH="1">
            <a:off x="2267640" y="2708280"/>
            <a:ext cx="575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Прямая со стрелкой 5"/>
          <p:cNvCxnSpPr>
            <a:stCxn id="213" idx="2"/>
          </p:cNvCxnSpPr>
          <p:nvPr/>
        </p:nvCxnSpPr>
        <p:spPr>
          <a:xfrm>
            <a:off x="4571640" y="270828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Прямая со стрелкой 7"/>
          <p:cNvCxnSpPr/>
          <p:nvPr/>
        </p:nvCxnSpPr>
        <p:spPr>
          <a:xfrm>
            <a:off x="6300360" y="2708280"/>
            <a:ext cx="648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17" name="Овал 8"/>
          <p:cNvGrpSpPr/>
          <p:nvPr/>
        </p:nvGrpSpPr>
        <p:grpSpPr>
          <a:xfrm>
            <a:off x="103320" y="3243240"/>
            <a:ext cx="3030480" cy="1054080"/>
            <a:chOff x="103320" y="3243240"/>
            <a:chExt cx="3030480" cy="1054080"/>
          </a:xfrm>
        </p:grpSpPr>
        <p:pic>
          <p:nvPicPr>
            <p:cNvPr id="218" name="Овал 8" descr=""/>
            <p:cNvPicPr/>
            <p:nvPr/>
          </p:nvPicPr>
          <p:blipFill>
            <a:blip r:embed="rId2"/>
            <a:stretch/>
          </p:blipFill>
          <p:spPr>
            <a:xfrm>
              <a:off x="10332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015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оседл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3"/>
          <p:cNvGrpSpPr/>
          <p:nvPr/>
        </p:nvGrpSpPr>
        <p:grpSpPr>
          <a:xfrm>
            <a:off x="3060720" y="3333600"/>
            <a:ext cx="3022560" cy="1055880"/>
            <a:chOff x="3060720" y="3333600"/>
            <a:chExt cx="3022560" cy="1055880"/>
          </a:xfrm>
        </p:grpSpPr>
        <p:pic>
          <p:nvPicPr>
            <p:cNvPr id="221" name="Овал 13" descr=""/>
            <p:cNvPicPr/>
            <p:nvPr/>
          </p:nvPicPr>
          <p:blipFill>
            <a:blip r:embed="rId3"/>
            <a:stretch/>
          </p:blipFill>
          <p:spPr>
            <a:xfrm>
              <a:off x="3060720" y="3333600"/>
              <a:ext cx="302256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54280" y="3511440"/>
              <a:ext cx="20354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кочующ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4"/>
          <p:cNvGrpSpPr/>
          <p:nvPr/>
        </p:nvGrpSpPr>
        <p:grpSpPr>
          <a:xfrm>
            <a:off x="6168960" y="3243240"/>
            <a:ext cx="3030480" cy="1054080"/>
            <a:chOff x="6168960" y="3243240"/>
            <a:chExt cx="3030480" cy="1054080"/>
          </a:xfrm>
        </p:grpSpPr>
        <p:pic>
          <p:nvPicPr>
            <p:cNvPr id="224" name="Овал 14" descr=""/>
            <p:cNvPicPr/>
            <p:nvPr/>
          </p:nvPicPr>
          <p:blipFill>
            <a:blip r:embed="rId4"/>
            <a:stretch/>
          </p:blipFill>
          <p:spPr>
            <a:xfrm>
              <a:off x="616896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6657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ереле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Прямая со стрелкой 10"/>
          <p:cNvCxnSpPr/>
          <p:nvPr/>
        </p:nvCxnSpPr>
        <p:spPr>
          <a:xfrm flipH="1">
            <a:off x="53928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7" name="Прямая со стрелкой 12"/>
          <p:cNvCxnSpPr/>
          <p:nvPr/>
        </p:nvCxnSpPr>
        <p:spPr>
          <a:xfrm>
            <a:off x="1618920" y="4290840"/>
            <a:ext cx="108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8" name="Прямая со стрелкой 17"/>
          <p:cNvCxnSpPr/>
          <p:nvPr/>
        </p:nvCxnSpPr>
        <p:spPr>
          <a:xfrm>
            <a:off x="226836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Прямая со стрелкой 19"/>
          <p:cNvCxnSpPr/>
          <p:nvPr/>
        </p:nvCxnSpPr>
        <p:spPr>
          <a:xfrm flipH="1">
            <a:off x="3924000" y="4471560"/>
            <a:ext cx="7200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Прямая со стрелкой 21"/>
          <p:cNvCxnSpPr/>
          <p:nvPr/>
        </p:nvCxnSpPr>
        <p:spPr>
          <a:xfrm>
            <a:off x="4712760" y="4236840"/>
            <a:ext cx="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23"/>
          <p:cNvCxnSpPr/>
          <p:nvPr/>
        </p:nvCxnSpPr>
        <p:spPr>
          <a:xfrm>
            <a:off x="5364000" y="4471920"/>
            <a:ext cx="14544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Прямая со стрелкой 26"/>
          <p:cNvCxnSpPr/>
          <p:nvPr/>
        </p:nvCxnSpPr>
        <p:spPr>
          <a:xfrm flipH="1">
            <a:off x="6624360" y="4290840"/>
            <a:ext cx="108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Прямая со стрелкой 28"/>
          <p:cNvCxnSpPr/>
          <p:nvPr/>
        </p:nvCxnSpPr>
        <p:spPr>
          <a:xfrm>
            <a:off x="7524360" y="4290480"/>
            <a:ext cx="1080" cy="9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Прямая со стрелкой 30"/>
          <p:cNvCxnSpPr/>
          <p:nvPr/>
        </p:nvCxnSpPr>
        <p:spPr>
          <a:xfrm>
            <a:off x="8388000" y="4290480"/>
            <a:ext cx="144720" cy="345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TextBox 50176"/>
          <p:cNvSpPr/>
          <p:nvPr/>
        </p:nvSpPr>
        <p:spPr>
          <a:xfrm>
            <a:off x="71640" y="4662360"/>
            <a:ext cx="106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0177"/>
          <p:cNvSpPr/>
          <p:nvPr/>
        </p:nvSpPr>
        <p:spPr>
          <a:xfrm>
            <a:off x="1076760" y="4708440"/>
            <a:ext cx="10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з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0178"/>
          <p:cNvSpPr/>
          <p:nvPr/>
        </p:nvSpPr>
        <p:spPr>
          <a:xfrm>
            <a:off x="2038320" y="466236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ск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2"/>
          <p:cNvSpPr/>
          <p:nvPr/>
        </p:nvSpPr>
        <p:spPr>
          <a:xfrm>
            <a:off x="3496320" y="495936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3"/>
          <p:cNvSpPr/>
          <p:nvPr/>
        </p:nvSpPr>
        <p:spPr>
          <a:xfrm>
            <a:off x="4284000" y="5262480"/>
            <a:ext cx="11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4"/>
          <p:cNvSpPr/>
          <p:nvPr/>
        </p:nvSpPr>
        <p:spPr>
          <a:xfrm>
            <a:off x="5055120" y="4797360"/>
            <a:ext cx="11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5"/>
          <p:cNvSpPr/>
          <p:nvPr/>
        </p:nvSpPr>
        <p:spPr>
          <a:xfrm>
            <a:off x="6136200" y="4751280"/>
            <a:ext cx="11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6"/>
          <p:cNvSpPr/>
          <p:nvPr/>
        </p:nvSpPr>
        <p:spPr>
          <a:xfrm>
            <a:off x="7147440" y="526248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7"/>
          <p:cNvSpPr/>
          <p:nvPr/>
        </p:nvSpPr>
        <p:spPr>
          <a:xfrm>
            <a:off x="8065440" y="4708440"/>
            <a:ext cx="106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ст как инструмент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0920" y="1628640"/>
          <a:ext cx="8642160" cy="493740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изучении нового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закреплении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этапе домашнего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предлагается выбрать правильное утверждение и доказать правоту своего вы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предварительно работают с текстом учебника, затем предлагается тестовое задание с последующей дискуссией по те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необходимо самостоятельно составить тест, с использованием изученных терминов и по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Требования к составлению кроссвор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Схема 1" descr=""/>
          <p:cNvPicPr/>
          <p:nvPr/>
        </p:nvPicPr>
        <p:blipFill>
          <a:blip r:embed="rId2"/>
          <a:stretch/>
        </p:blipFill>
        <p:spPr>
          <a:xfrm>
            <a:off x="1219320" y="2273400"/>
            <a:ext cx="7424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Прием работы с кроссвордами – составление вопросов к решенному кроссворду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Возможные 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летки с толстыми оболочками, которые образуют длинные трубки, находящиеся в древеси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лотный, самый широкий слой, находящийся под кор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 узких длинных клеток с тонкими оболочками, за счёт которых происходит рост стебля в толщ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аленькие буг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тверстиями, находящие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обке, через котор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дит газообме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, входящий в соста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ы, состоящий из ситовидных трубок и толстостенных волок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rcRect l="410" t="0" r="2159" b="0"/>
          <a:stretch/>
        </p:blipFill>
        <p:spPr>
          <a:xfrm>
            <a:off x="4395960" y="3933720"/>
            <a:ext cx="4730400" cy="2552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5292720" y="39337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395960" y="4597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4856040" y="537372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5292720" y="56815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138560" y="499428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-1440" y="1612800"/>
            <a:ext cx="4228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649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удо – дерево». На обратной стороне листьев задания или занимательные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1122480" y="3984480"/>
            <a:ext cx="503280" cy="19447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Капля 3"/>
          <p:cNvSpPr/>
          <p:nvPr/>
        </p:nvSpPr>
        <p:spPr>
          <a:xfrm rot="11685600">
            <a:off x="1793880" y="3160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Капля 5"/>
          <p:cNvSpPr/>
          <p:nvPr/>
        </p:nvSpPr>
        <p:spPr>
          <a:xfrm rot="11685600">
            <a:off x="1936800" y="4278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апля 6"/>
          <p:cNvSpPr/>
          <p:nvPr/>
        </p:nvSpPr>
        <p:spPr>
          <a:xfrm rot="5400000">
            <a:off x="109440" y="307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Капля 7"/>
          <p:cNvSpPr/>
          <p:nvPr/>
        </p:nvSpPr>
        <p:spPr>
          <a:xfrm rot="8087400">
            <a:off x="931680" y="2487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апля 8"/>
          <p:cNvSpPr/>
          <p:nvPr/>
        </p:nvSpPr>
        <p:spPr>
          <a:xfrm rot="4810200">
            <a:off x="37800" y="4156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Капля 9"/>
          <p:cNvSpPr/>
          <p:nvPr/>
        </p:nvSpPr>
        <p:spPr>
          <a:xfrm rot="12182400">
            <a:off x="4263840" y="2141280"/>
            <a:ext cx="4452840" cy="4113000"/>
          </a:xfrm>
          <a:custGeom>
            <a:avLst/>
            <a:gdLst/>
            <a:ahLst/>
            <a:rect l="l" t="t" r="r" b="b"/>
            <a:pathLst>
              <a:path w="4452938" h="4113212">
                <a:moveTo>
                  <a:pt x="0" y="2056606"/>
                </a:moveTo>
                <a:cubicBezTo>
                  <a:pt x="0" y="920774"/>
                  <a:pt x="996824" y="0"/>
                  <a:pt x="2226469" y="0"/>
                </a:cubicBezTo>
                <a:cubicBezTo>
                  <a:pt x="3591836" y="0"/>
                  <a:pt x="4957204" y="-575665"/>
                  <a:pt x="6322571" y="-1726994"/>
                </a:cubicBezTo>
                <a:cubicBezTo>
                  <a:pt x="5076149" y="-465794"/>
                  <a:pt x="4452938" y="795406"/>
                  <a:pt x="4452938" y="2056606"/>
                </a:cubicBezTo>
                <a:cubicBezTo>
                  <a:pt x="4452938" y="3192438"/>
                  <a:pt x="3456114" y="4113212"/>
                  <a:pt x="2226469" y="4113212"/>
                </a:cubicBezTo>
                <a:cubicBezTo>
                  <a:pt x="996824" y="4113212"/>
                  <a:pt x="0" y="3192438"/>
                  <a:pt x="0" y="20566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4452840" y="343044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ъясните выражение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Человека без осанки не быва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0" y="6122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8 класс. Обобщающий урок по теме «Опорно-двигательная систем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укцион «Кто бо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 – нет, дай отв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ини – викторина). Это репродуктивный метод. Задаются вопросы на утверждения по диагонали, по периметру, через одного, зигз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ревод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бор учеников термины на карточках, прикрепленные к магнитной доске. Дать определени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тий ли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8000" y="14130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Times New Roman"/>
              </a:rPr>
              <a:t> (Прием моделирования, прием схематиз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.Изучение внутреннего строения. Из набора карточек выбрать карточки с названиями органов пищеварения (кровеносной, нервной) системы и разложить в нужной последова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2160" y="3344760"/>
            <a:ext cx="814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7 класс. Дождевой червь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органов пищеварительной системы дождевого черв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01520" y="4114800"/>
            <a:ext cx="78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т, пищевод, кишка, «сердца», анальное отверстие, глотка, зоб, желудок, дыхаль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-7920" y="4883040"/>
            <a:ext cx="603072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3"/>
          <a:stretch/>
        </p:blipFill>
        <p:spPr>
          <a:xfrm>
            <a:off x="4199040" y="5230800"/>
            <a:ext cx="4867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052640"/>
            <a:ext cx="9198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Чьи детки на этой ветке?»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(Прием натурализ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ется набор побегов, цветков, листьев, плодов. Задание: собрать все одного вида (семейства) (6 класс Семейства цветковых растений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3" descr=""/>
          <p:cNvPicPr/>
          <p:nvPr/>
        </p:nvPicPr>
        <p:blipFill>
          <a:blip r:embed="rId2"/>
          <a:stretch/>
        </p:blipFill>
        <p:spPr>
          <a:xfrm>
            <a:off x="527040" y="2590920"/>
            <a:ext cx="1473120" cy="1239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"/>
          <p:cNvPicPr/>
          <p:nvPr/>
        </p:nvPicPr>
        <p:blipFill>
          <a:blip r:embed="rId3"/>
          <a:stretch/>
        </p:blipFill>
        <p:spPr>
          <a:xfrm>
            <a:off x="73080" y="3790800"/>
            <a:ext cx="2481120" cy="30607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"/>
          <p:cNvPicPr/>
          <p:nvPr/>
        </p:nvPicPr>
        <p:blipFill>
          <a:blip r:embed="rId4"/>
          <a:stretch/>
        </p:blipFill>
        <p:spPr>
          <a:xfrm>
            <a:off x="6108840" y="2205000"/>
            <a:ext cx="2827080" cy="21207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"/>
          <p:cNvPicPr/>
          <p:nvPr/>
        </p:nvPicPr>
        <p:blipFill>
          <a:blip r:embed="rId5"/>
          <a:stretch/>
        </p:blipFill>
        <p:spPr>
          <a:xfrm>
            <a:off x="6532560" y="4591080"/>
            <a:ext cx="1981080" cy="1962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"/>
          <p:cNvPicPr/>
          <p:nvPr/>
        </p:nvPicPr>
        <p:blipFill>
          <a:blip r:embed="rId6"/>
          <a:stretch/>
        </p:blipFill>
        <p:spPr>
          <a:xfrm>
            <a:off x="2752560" y="4206960"/>
            <a:ext cx="3160800" cy="23698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"/>
          <p:cNvPicPr/>
          <p:nvPr/>
        </p:nvPicPr>
        <p:blipFill>
          <a:blip r:embed="rId7"/>
          <a:stretch/>
        </p:blipFill>
        <p:spPr>
          <a:xfrm>
            <a:off x="2846520" y="2389320"/>
            <a:ext cx="2639880" cy="163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8"/>
          <a:stretch/>
        </p:blipFill>
        <p:spPr>
          <a:xfrm>
            <a:off x="2389320" y="1484280"/>
            <a:ext cx="3524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804 L 0.00087 0.33063 E">
                                      <p:cBhvr>
                                        <p:cTn id="89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04920" y="91440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2004840"/>
          <a:ext cx="8229600" cy="4646880"/>
        </p:xfrm>
        <a:graphic>
          <a:graphicData uri="http://schemas.openxmlformats.org/drawingml/2006/table">
            <a:tbl>
              <a:tblPr/>
              <a:tblGrid>
                <a:gridCol w="360360"/>
                <a:gridCol w="444240"/>
                <a:gridCol w="500040"/>
                <a:gridCol w="403560"/>
                <a:gridCol w="363240"/>
                <a:gridCol w="476280"/>
                <a:gridCol w="403200"/>
                <a:gridCol w="480960"/>
                <a:gridCol w="455760"/>
                <a:gridCol w="442800"/>
                <a:gridCol w="536760"/>
                <a:gridCol w="419040"/>
                <a:gridCol w="466920"/>
                <a:gridCol w="448920"/>
                <a:gridCol w="403560"/>
                <a:gridCol w="384120"/>
                <a:gridCol w="419040"/>
                <a:gridCol w="438120"/>
                <a:gridCol w="382680"/>
              </a:tblGrid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8"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Ы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ОПАЕМ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106640" y="341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Активизация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19051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обучающей деятельност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95288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деятельности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600" y="4267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е методические приёмы организации учебно-познавательн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9120" y="4429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организация, самоконтроль,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H="1" flipV="1">
            <a:off x="6248520" y="2786040"/>
            <a:ext cx="4608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2437920" y="9907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4495680" y="990720"/>
            <a:ext cx="1676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2952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121932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04920" y="914400"/>
            <a:ext cx="83055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ни сказку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имво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елай опыт или наблюдение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 следующем уроке ученики демонстрируют и объясняют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04920" y="914400"/>
            <a:ext cx="8305560" cy="56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 вопросы однокласс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ем различие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Что н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будет если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Верно ли,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вы думаете, что...      Когд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ясните почему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Какой... Гд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й над вопрос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эвристиче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8 класс. Урок «Работа мышц» Почему появляется болезненное состояние мышц после их работы без предварительной тренир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0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ух К.Е. Активизация деятельности учащихся при обучении биологии // Биология в школе. – М.: 2007, - №2. – с.44-50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зоев С.С. Активизация познавательного интереса учащихся. // Биология в школе. – М., 2007, - №6. – с.35-3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амаридина Т.В. Формируем учебно-познавательную компетентность учащихся //Директор школы. – М., 2007 - №4. –  С. 57 - 62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://mou99.mybb.ru/uploads/000a/5a/3f/2687-4-f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3"/>
              </a:rPr>
              <a:t>http://www.die-stadtredaktion.de/wp-content/uploads/2013/02/vhs-Presse_Familienprogramm-kindermikroskop_Fotolia-Klein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4"/>
              </a:rPr>
              <a:t>http://franuk.com/images/stories/news/2011/02/ekz290508_0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5"/>
              </a:rPr>
              <a:t>http://i029.radikal.ru/1109/ 1a/08ff2c9ad2c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6"/>
              </a:rPr>
              <a:t>http://900igr.net/datai/okruzhajuschij-mir/Dvizhenie-zhivotnykh/0004-003-Dvizhenie-prostejshikh.p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7"/>
              </a:rPr>
              <a:t>http://www.makuha.ru/world/Bio/img/ani-001-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8"/>
              </a:rPr>
              <a:t>http://oldboy.icnet.ru/SITE_2103/MY_SITE/My_rast/Rubus_caesius/BIG/Rubus_caesius_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9"/>
              </a:rPr>
              <a:t>http://quran-m.com/pp/data/559/486px-Folla_Roseira_004eue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fotoregion.ru/data/media/2/100_239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http://biologymoscow.ucoz.ru/illustracii/botanika/vyshie/razn/111poperechniyi_Srez_Drevesnogo_Steblya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adovos.ru/wp-content/uploads/2012/06/cvetok-tomata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44.radikal.ru/i104/1107/fb/7d8647e2b3d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img-fotki.yandex.ru/get/4522/51176788.6c/0_686bf_e4b28b2f_X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.svitmam.ua/photo/0/0/327/32726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board.agrobiznes.com.ua/photos/2011/08/4479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hulinar.ru/wp-content/uploads/2011/11/abr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artgide.com/uploads/posts/ref/b9976ca8a4931aab6857df40995a680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mushrooms-online.ru/img/Boletus_pinicola_90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61.radikal.ru/i173/1205/a5/35c6b2729908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cindysworld.net/froghorse.gi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chool.xvatit.com/images/0/01/20.07-6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571920" y="357120"/>
            <a:ext cx="266688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2920" y="642960"/>
            <a:ext cx="3124080" cy="137376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итивные эмоциональны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019240" y="2514600"/>
            <a:ext cx="579276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знавательный интерес уче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5105520"/>
            <a:ext cx="2514600" cy="9471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 уч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57880" y="5072040"/>
            <a:ext cx="3429000" cy="13737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 дополнитель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676520" y="1981080"/>
            <a:ext cx="807840" cy="4572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487692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4952880" y="914400"/>
            <a:ext cx="0" cy="1523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 flipH="1">
            <a:off x="6248520" y="1523880"/>
            <a:ext cx="1371600" cy="9144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2"/>
          <p:cNvSpPr/>
          <p:nvPr/>
        </p:nvSpPr>
        <p:spPr>
          <a:xfrm flipV="1">
            <a:off x="2063880" y="3860640"/>
            <a:ext cx="1212840" cy="1244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 flipH="1" flipV="1">
            <a:off x="5940360" y="3860640"/>
            <a:ext cx="1146240" cy="109224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57960" y="928800"/>
            <a:ext cx="251460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Уровни развития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познавательного интереса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Равнобедренный треугольник 3"/>
          <p:cNvGrpSpPr/>
          <p:nvPr/>
        </p:nvGrpSpPr>
        <p:grpSpPr>
          <a:xfrm>
            <a:off x="523800" y="1755720"/>
            <a:ext cx="3633840" cy="4353120"/>
            <a:chOff x="523800" y="1755720"/>
            <a:chExt cx="3633840" cy="4353120"/>
          </a:xfrm>
        </p:grpSpPr>
        <p:pic>
          <p:nvPicPr>
            <p:cNvPr id="119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523800" y="1755720"/>
              <a:ext cx="363384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1400040" y="3933720"/>
              <a:ext cx="180036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2268360" y="4906800"/>
            <a:ext cx="621216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2268360" y="3645000"/>
            <a:ext cx="618192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5"/>
          <a:stretch/>
        </p:blipFill>
        <p:spPr>
          <a:xfrm>
            <a:off x="2274840" y="2349360"/>
            <a:ext cx="6181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Пути развития познавательного интер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рямоугольник 1"/>
          <p:cNvGrpSpPr/>
          <p:nvPr/>
        </p:nvGrpSpPr>
        <p:grpSpPr>
          <a:xfrm>
            <a:off x="237960" y="1689120"/>
            <a:ext cx="3376800" cy="1541520"/>
            <a:chOff x="237960" y="1689120"/>
            <a:chExt cx="3376800" cy="1541520"/>
          </a:xfrm>
        </p:grpSpPr>
        <p:pic>
          <p:nvPicPr>
            <p:cNvPr id="126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37960" y="168912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50920" y="1700280"/>
              <a:ext cx="33494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содержание биологических 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4"/>
          <p:cNvGrpSpPr/>
          <p:nvPr/>
        </p:nvGrpSpPr>
        <p:grpSpPr>
          <a:xfrm>
            <a:off x="2828880" y="3340080"/>
            <a:ext cx="3376800" cy="1542960"/>
            <a:chOff x="2828880" y="3340080"/>
            <a:chExt cx="3376800" cy="154296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28880" y="3340080"/>
              <a:ext cx="33768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43280" y="3357720"/>
              <a:ext cx="33494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деятельность учеников на уроке, во внеурочной и внеклассной 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5"/>
          <p:cNvGrpSpPr/>
          <p:nvPr/>
        </p:nvGrpSpPr>
        <p:grpSpPr>
          <a:xfrm>
            <a:off x="5657760" y="1616040"/>
            <a:ext cx="3376800" cy="1541520"/>
            <a:chOff x="5657760" y="1616040"/>
            <a:chExt cx="3376800" cy="1541520"/>
          </a:xfrm>
        </p:grpSpPr>
        <p:pic>
          <p:nvPicPr>
            <p:cNvPr id="132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657760" y="161604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70720" y="1628640"/>
              <a:ext cx="33494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отношения учитель-ученик и ученик-уче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79856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7" descr=""/>
          <p:cNvPicPr/>
          <p:nvPr/>
        </p:nvPicPr>
        <p:blipFill>
          <a:blip r:embed="rId6"/>
          <a:stretch/>
        </p:blipFill>
        <p:spPr>
          <a:xfrm>
            <a:off x="3025800" y="4902120"/>
            <a:ext cx="2852640" cy="190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8" descr=""/>
          <p:cNvPicPr/>
          <p:nvPr/>
        </p:nvPicPr>
        <p:blipFill>
          <a:blip r:embed="rId7"/>
          <a:stretch/>
        </p:blipFill>
        <p:spPr>
          <a:xfrm>
            <a:off x="6516720" y="3392640"/>
            <a:ext cx="2263680" cy="169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380880" y="1143000"/>
            <a:ext cx="8382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Методический прием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ое действие учителя или ученика, входящее в состав мет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val 13"/>
          <p:cNvGrpSpPr/>
          <p:nvPr/>
        </p:nvGrpSpPr>
        <p:grpSpPr>
          <a:xfrm>
            <a:off x="6114960" y="1255680"/>
            <a:ext cx="3071880" cy="2077920"/>
            <a:chOff x="6114960" y="1255680"/>
            <a:chExt cx="3071880" cy="2077920"/>
          </a:xfrm>
        </p:grpSpPr>
        <p:pic>
          <p:nvPicPr>
            <p:cNvPr id="139" name="Oval 13" descr=""/>
            <p:cNvPicPr/>
            <p:nvPr/>
          </p:nvPicPr>
          <p:blipFill>
            <a:blip r:embed="rId2"/>
            <a:stretch/>
          </p:blipFill>
          <p:spPr>
            <a:xfrm>
              <a:off x="6114960" y="1255680"/>
              <a:ext cx="3071880" cy="20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"/>
            <p:cNvSpPr/>
            <p:nvPr/>
          </p:nvSpPr>
          <p:spPr>
            <a:xfrm>
              <a:off x="6546960" y="1542960"/>
              <a:ext cx="188568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Oval 4"/>
          <p:cNvGrpSpPr/>
          <p:nvPr/>
        </p:nvGrpSpPr>
        <p:grpSpPr>
          <a:xfrm>
            <a:off x="2359080" y="219240"/>
            <a:ext cx="4181400" cy="1542960"/>
            <a:chOff x="2359080" y="219240"/>
            <a:chExt cx="4181400" cy="1542960"/>
          </a:xfrm>
        </p:grpSpPr>
        <p:pic>
          <p:nvPicPr>
            <p:cNvPr id="142" name="Oval 4" descr=""/>
            <p:cNvPicPr/>
            <p:nvPr/>
          </p:nvPicPr>
          <p:blipFill>
            <a:blip r:embed="rId3"/>
            <a:stretch/>
          </p:blipFill>
          <p:spPr>
            <a:xfrm>
              <a:off x="2359080" y="219240"/>
              <a:ext cx="41814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2952720" y="426960"/>
              <a:ext cx="2666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"/>
          <p:cNvSpPr/>
          <p:nvPr/>
        </p:nvSpPr>
        <p:spPr>
          <a:xfrm>
            <a:off x="3657600" y="838080"/>
            <a:ext cx="175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8120" y="609480"/>
            <a:ext cx="304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монстрацио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Oval 7"/>
          <p:cNvGrpSpPr/>
          <p:nvPr/>
        </p:nvGrpSpPr>
        <p:grpSpPr>
          <a:xfrm>
            <a:off x="3005280" y="1785960"/>
            <a:ext cx="3151080" cy="3535200"/>
            <a:chOff x="3005280" y="1785960"/>
            <a:chExt cx="3151080" cy="3535200"/>
          </a:xfrm>
        </p:grpSpPr>
        <p:pic>
          <p:nvPicPr>
            <p:cNvPr id="147" name="Oval 7" descr=""/>
            <p:cNvPicPr/>
            <p:nvPr/>
          </p:nvPicPr>
          <p:blipFill>
            <a:blip r:embed="rId4"/>
            <a:stretch/>
          </p:blipFill>
          <p:spPr>
            <a:xfrm>
              <a:off x="3005280" y="1785960"/>
              <a:ext cx="315108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3449520" y="2286000"/>
              <a:ext cx="194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3352680" y="2286000"/>
            <a:ext cx="2298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етодические приемы, активизирующие восприятие содержания учебного матери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6053040" y="3498840"/>
            <a:ext cx="2998800" cy="1841400"/>
            <a:chOff x="6053040" y="3498840"/>
            <a:chExt cx="2998800" cy="184140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6053040" y="3498840"/>
              <a:ext cx="29988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5"/>
            <p:cNvSpPr/>
            <p:nvPr/>
          </p:nvSpPr>
          <p:spPr>
            <a:xfrm>
              <a:off x="6475320" y="3753000"/>
              <a:ext cx="183204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 Box 10"/>
          <p:cNvGrpSpPr/>
          <p:nvPr/>
        </p:nvGrpSpPr>
        <p:grpSpPr>
          <a:xfrm>
            <a:off x="6381720" y="1847880"/>
            <a:ext cx="2347920" cy="987480"/>
            <a:chOff x="6381720" y="1847880"/>
            <a:chExt cx="2347920" cy="987480"/>
          </a:xfrm>
        </p:grpSpPr>
        <p:pic>
          <p:nvPicPr>
            <p:cNvPr id="154" name="Text Box 10" descr=""/>
            <p:cNvPicPr/>
            <p:nvPr/>
          </p:nvPicPr>
          <p:blipFill>
            <a:blip r:embed="rId6"/>
            <a:stretch/>
          </p:blipFill>
          <p:spPr>
            <a:xfrm>
              <a:off x="6381720" y="1847880"/>
              <a:ext cx="2347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8"/>
            <p:cNvSpPr/>
            <p:nvPr/>
          </p:nvSpPr>
          <p:spPr>
            <a:xfrm>
              <a:off x="6477120" y="191772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Лог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Oval 11"/>
          <p:cNvGrpSpPr/>
          <p:nvPr/>
        </p:nvGrpSpPr>
        <p:grpSpPr>
          <a:xfrm>
            <a:off x="-6480" y="2090880"/>
            <a:ext cx="2998800" cy="1815840"/>
            <a:chOff x="-6480" y="2090880"/>
            <a:chExt cx="2998800" cy="1815840"/>
          </a:xfrm>
        </p:grpSpPr>
        <p:pic>
          <p:nvPicPr>
            <p:cNvPr id="157" name="Oval 11" descr=""/>
            <p:cNvPicPr/>
            <p:nvPr/>
          </p:nvPicPr>
          <p:blipFill>
            <a:blip r:embed="rId7"/>
            <a:stretch/>
          </p:blipFill>
          <p:spPr>
            <a:xfrm>
              <a:off x="-6480" y="2090880"/>
              <a:ext cx="299880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21"/>
            <p:cNvSpPr/>
            <p:nvPr/>
          </p:nvSpPr>
          <p:spPr>
            <a:xfrm>
              <a:off x="417600" y="2340000"/>
              <a:ext cx="18320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2"/>
          <p:cNvSpPr/>
          <p:nvPr/>
        </p:nvSpPr>
        <p:spPr>
          <a:xfrm>
            <a:off x="228600" y="25909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ругие при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313320" y="1236600"/>
            <a:ext cx="228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389640" y="404496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раф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0" y="3429000"/>
            <a:ext cx="26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Новиз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28600" y="38862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емант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914400" y="4419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инам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447920" y="49528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оздания проблемной ситу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200400" y="5791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Значи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266652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V="1">
            <a:off x="43243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V="1">
            <a:off x="556272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5867280" y="37339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12500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шай, не зевай!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Одновременно 3 ученика перед классом поднимают свою карточку, если вопрос - утверждение учителя кажется им правильны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не звенит колокольчик или Оратор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Сообщение,  подготовленное учеником, звучит в течение 1 минуты. За одну минуту надо сказать много и интере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мне, я тебе.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Вопросы по домашнему зад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5:24:41Z</dcterms:created>
  <dc:creator>Valued Acer Customer</dc:creator>
  <dc:description/>
  <dc:language>en-US</dc:language>
  <cp:lastModifiedBy>Мама</cp:lastModifiedBy>
  <dcterms:modified xsi:type="dcterms:W3CDTF">2013-07-25T20:31:55Z</dcterms:modified>
  <cp:revision>85</cp:revision>
  <dc:subject/>
  <dc:title>Активизация познавательного интереса и эмоционального отношения учащихся к урокам биологии</dc:title>
</cp:coreProperties>
</file>