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38.png" ContentType="image/png"/>
  <Override PartName="/ppt/media/image36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5D4C-CF41-4895-90B7-7F83B81458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79E0-5CE2-4973-9962-B72CCF1150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C86A-4CCF-426E-9E2C-29A69AEC74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75F1-6401-4E87-B766-091D820E38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0FD1-6886-43FA-93DE-6D0F86A2D7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8F98-1535-4581-9DCE-FCE21B802C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4317-7281-4554-9E1B-E9D4413BC9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F756-313D-49BA-9196-E31228B382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3FD4-02CF-46AE-B55C-46835C8B4F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B216-624D-4D09-B933-5164211C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A3EC-DB4C-4766-9D87-CB27795A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F0F-9039-429B-BEB0-148B77F0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AB3-B1DA-4264-BD79-788B9A40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49D0-067A-4B19-B9EF-A0FF63E7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6026-275D-4308-9FC0-1F089BAB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4DD2-2F6C-4547-B603-8289B4E2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D8CA-949E-4409-9D12-15BD49B3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EF59-8FF0-42D7-ADF6-2F491807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CC57-E921-435A-A421-809ACDCC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F389-9538-4B5A-A42A-B1DB50FC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B4F2-840A-4631-A290-78CF6E5F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9466-0B57-4E36-8AE6-E504E718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9383-3836-4492-98A4-E418A717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6C16-5F9B-4507-B4BC-25E94BF2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5A0D-77E6-43F1-97C9-7B1F9C9E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8197-045C-44E0-935E-26F5938F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1A18-B713-48EE-9B49-0FCD2D29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CE32-0E19-41C9-9B10-711DB6B8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04B-F976-49ED-9A17-1024B445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07C-B69C-497F-97A1-7EEEF89F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D9C-2BCB-4813-B8E5-1E8BCBC8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B9FF-F7BB-4161-A1C7-92382B16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428-4BDF-4F2E-98A3-F3E2ECC7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DD7C-BC7A-4213-AE75-37C1DF8C9C9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5674-F6F1-4BDF-86BA-976E5B7301B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u99.mybb.ru/uploads/000a/5a/3f/2687-4-f.jpg" TargetMode="External"/><Relationship Id="rId3" Type="http://schemas.openxmlformats.org/officeDocument/2006/relationships/hyperlink" Target="http://www.die-stadtredaktion.de/wp-content/uploads/2013/02/vhs-Presse_Familienprogramm-kindermikroskop_Fotolia-Klein.jpg" TargetMode="External"/><Relationship Id="rId4" Type="http://schemas.openxmlformats.org/officeDocument/2006/relationships/hyperlink" Target="http://franuk.com/images/stories/news/2011/02/ekz290508_0.jpg" TargetMode="External"/><Relationship Id="rId5" Type="http://schemas.openxmlformats.org/officeDocument/2006/relationships/hyperlink" Target="http://i029.radikal.ru/1109/%201a/08ff2c9ad2c4.jpg" TargetMode="External"/><Relationship Id="rId6" Type="http://schemas.openxmlformats.org/officeDocument/2006/relationships/hyperlink" Target="http://900igr.net/datai/okruzhajuschij-mir/Dvizhenie-zhivotnykh/0004-003-Dvizhenie-prostejshikh.png" TargetMode="External"/><Relationship Id="rId7" Type="http://schemas.openxmlformats.org/officeDocument/2006/relationships/hyperlink" Target="http://www.makuha.ru/world/Bio/img/ani-001-3.jpg" TargetMode="External"/><Relationship Id="rId8" Type="http://schemas.openxmlformats.org/officeDocument/2006/relationships/hyperlink" Target="http://oldboy.icnet.ru/SITE_2103/MY_SITE/My_rast/Rubus_caesius/BIG/Rubus_caesius_2.jpg" TargetMode="External"/><Relationship Id="rId9" Type="http://schemas.openxmlformats.org/officeDocument/2006/relationships/hyperlink" Target="http://quran-m.com/pp/data/559/486px-Folla_Roseira_004eue.jp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Arial"/>
              </a:rPr>
              <a:t>Активизация познавательного интереса  учащихся к урокам биолог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8920" y="2997000"/>
            <a:ext cx="87138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Данилова Юлия Валерьев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заместитель директора по учебно-воспитательной работе, учитель биолог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МБОУ «Средняя общеобразовательная школа №1» муниципального образования «Островский рай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р – конкурс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сократический прие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клас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а ученика доказывают, первый эвглена зеленая - это растение, второй эвглена зеленая - это живот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3"/>
          <a:stretch/>
        </p:blipFill>
        <p:spPr>
          <a:xfrm>
            <a:off x="3419640" y="1700280"/>
            <a:ext cx="55116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ячий стул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садится перед классом. Остальные задают ему вопросы по домашнему зад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бинете у врача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изображает пациента, который с жалобами обращается к «врачу». «Врач» задает вопросы, ставит диагноз и дает рекоменд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одная мудрость (пословицы, поговорки, приметы)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бъясните выражение: «Долго жуешь – долго живешь». Установи последователь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2195640" y="1728720"/>
            <a:ext cx="3809880" cy="476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810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сьмо Незнайки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Найдите и исправьте ошибки в текст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87480" y="17287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е живые организмы должны питаться. Животные, которые питаются другими животными - паразиты. Соками организма хозяина питаются хищники, а растениями растительноядные животные. Вещества, которые образуются в живом организме, называют питательными. Питание животных и человека, следовательно, жизнь на Земле зависят от вирусов. Растения могут образовывать  органические вещества из воды и углекислого газа. Синий цвет - цвет жизни. В клетках листьев растений есть особое вещество синего цвета - хлороформ. Растениям для жизни, кроме органических веществ необходимы минеральные соли. Их поставляет цвет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адпись 2"/>
          <p:cNvSpPr/>
          <p:nvPr/>
        </p:nvSpPr>
        <p:spPr>
          <a:xfrm>
            <a:off x="203040" y="1758960"/>
            <a:ext cx="864108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аразиты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Соками организма хозяина питаются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ищни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, а растениями растительноядные животные. Вещества, которые образуются в живом организме, называю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итательны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Питание животных и человека, следовательно, жизнь на Земле зависят от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 вирус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 могут образовывать органические вещества из воды и углекислого газа.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 - цвет жизни. В клетках листьев растений есть особое вещество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е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а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лорофор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м для жизни, кроме органических веществ необходимы минеральные соли. Их поставляе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цвет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адпись 2"/>
          <p:cNvSpPr/>
          <p:nvPr/>
        </p:nvSpPr>
        <p:spPr>
          <a:xfrm>
            <a:off x="92160" y="1735200"/>
            <a:ext cx="875196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– хищники. Соками организма хозяина питаются паразиты, а растениями растительноядные животные. Вещества, которые образуются в живом организме, называют органическими. Питание животных и человека, следовательно, жизнь на Земле зависят от растений. Растения могут образовывать органические вещества из воды и углекислого газа. Зеленый цвет - цвет жизни. В клетках листьев растений есть особое вещество зеленого цвета - хлорофилл. Растениям для жизни, кроме органических веществ необходимы минеральные соли. Их поставляет корен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бы это не значило?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На картинке, слайде изображение. Дать исчерпывающий от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2" descr=""/>
          <p:cNvPicPr/>
          <p:nvPr/>
        </p:nvPicPr>
        <p:blipFill>
          <a:blip r:embed="rId2"/>
          <a:stretch/>
        </p:blipFill>
        <p:spPr>
          <a:xfrm>
            <a:off x="961920" y="2421000"/>
            <a:ext cx="6667560" cy="2457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1763640" y="5276880"/>
            <a:ext cx="586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7 класс. На картинке размножение амеб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722240"/>
            <a:ext cx="777528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чи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класс.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иена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ология – наука 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томия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годня на уроке мы познакомимся с науками, изучающими человека, их методами исследования. Проверим правильность ваших предпо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читайте зашифрованную тему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класс. Как питаются параз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2 1 2 5 6 3 7   (1-Р, 2-А, 3-Т, 4-П, 5-З, 6-И, 7-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722600"/>
            <a:ext cx="903600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тий лишний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Тренировка логического мышления. Проанализируйте ряд слов и назовите то слово, которое не соответствует всем другим. Свой выбор обоснуйте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6 класс. Разнообразие и значение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Плоды: слива, горох, абрикос, перс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2"/>
          <a:stretch/>
        </p:blipFill>
        <p:spPr>
          <a:xfrm>
            <a:off x="71280" y="3573360"/>
            <a:ext cx="9072720" cy="22240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2"/>
          <p:cNvSpPr/>
          <p:nvPr/>
        </p:nvSpPr>
        <p:spPr>
          <a:xfrm>
            <a:off x="1476360" y="5445000"/>
            <a:ext cx="59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вет: горох, так как многосемянной плод, а остальные односемянные. Сегодня на уроке мы познакомимся с разнообразием и значением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социация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Перед уроком написать ассоциации со словом………. и поместить их на до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авь пропущенные слова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(с неизвестными для учащихся термин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«Определение пола и наследование признаков, сцепленных с полом» (9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е число, размеры и форму хромосом, характерное для того или иного вида организмов -…….. .Во все соматических клетках человека имеется …. хромосом. Неполовые хромосомы называют …….. . Пару различающихся хромосом, неодинаковых у мужчины и женщины, называют …… хромосомами. Их обозначают …. и ...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гад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класс. Царство гриб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виду он похож на зонтик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лько меньше во сто кра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ль гроза на горизо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бывает очень ра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дождик и тепл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считает повезл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формируйте тему нашего урок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468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6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рите ли вы, что…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прием новизн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Занимательная информация по теме. Далее работа с учебником и другими источниками информации в поисках правильных ответов на поставленный вопро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Урок «Моногибридное скрещивание» (9 клас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Верите ли Вы, что у праворуких родителей может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родиться ребенок левш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зговая атака (штурм)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Напиши все, что ты знаешь по этой те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овая атака.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 Я думаю так...(прием создания проблемной ситу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биологичес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: Опорно-двигательная система.(8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я, из автобуса мужчина, поскользнувшись, повредил ногу. Нога в районе голеностопного сустава припухла, посинела. Сустав потерял подвижность. Какой диагноз поставит вра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1187280" y="3832200"/>
            <a:ext cx="3829320" cy="24973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5037480" y="5886360"/>
            <a:ext cx="42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их голеностопного суст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Мысль в пода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– это зеркало общей и педагогической культуры учителя, мерило его интеллектуального богатства, показатель его кругозора и эруди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Cj04398190000[1]"/>
          <p:cNvPicPr/>
          <p:nvPr/>
        </p:nvPicPr>
        <p:blipFill>
          <a:blip r:embed="rId2"/>
          <a:stretch/>
        </p:blipFill>
        <p:spPr>
          <a:xfrm>
            <a:off x="6000840" y="3571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08000" y="274320"/>
            <a:ext cx="936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 – эксперимент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исследователь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ласс. Урок «Закономерности работы головного мозга»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мотрите на  картинку, что Вы види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А теперь попробуйте найти лошадь на той, же карти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Чем объяснить это явление? ( законом взаимной инду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964320" cy="43196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2104920" y="4260960"/>
            <a:ext cx="158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ягуш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1413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-9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с учебник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оздания проблемной ситу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7 класс. Прочитайте текст учебной статьи, составьте схему «Птицы по  дальности перемещ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Прямая со стрелкой 2"/>
          <p:cNvCxnSpPr/>
          <p:nvPr/>
        </p:nvCxnSpPr>
        <p:spPr>
          <a:xfrm flipH="1">
            <a:off x="2267640" y="2708280"/>
            <a:ext cx="57564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5" name="Прямая со стрелкой 5"/>
          <p:cNvCxnSpPr>
            <a:stCxn id="213" idx="2"/>
          </p:cNvCxnSpPr>
          <p:nvPr/>
        </p:nvCxnSpPr>
        <p:spPr>
          <a:xfrm>
            <a:off x="4571640" y="270828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Прямая со стрелкой 7"/>
          <p:cNvCxnSpPr/>
          <p:nvPr/>
        </p:nvCxnSpPr>
        <p:spPr>
          <a:xfrm>
            <a:off x="6300360" y="2708280"/>
            <a:ext cx="64836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17" name="Овал 8"/>
          <p:cNvGrpSpPr/>
          <p:nvPr/>
        </p:nvGrpSpPr>
        <p:grpSpPr>
          <a:xfrm>
            <a:off x="103320" y="3243240"/>
            <a:ext cx="3030480" cy="1054080"/>
            <a:chOff x="103320" y="3243240"/>
            <a:chExt cx="3030480" cy="1054080"/>
          </a:xfrm>
        </p:grpSpPr>
        <p:pic>
          <p:nvPicPr>
            <p:cNvPr id="218" name="Овал 8" descr=""/>
            <p:cNvPicPr/>
            <p:nvPr/>
          </p:nvPicPr>
          <p:blipFill>
            <a:blip r:embed="rId2"/>
            <a:stretch/>
          </p:blipFill>
          <p:spPr>
            <a:xfrm>
              <a:off x="10332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015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оседл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Овал 13"/>
          <p:cNvGrpSpPr/>
          <p:nvPr/>
        </p:nvGrpSpPr>
        <p:grpSpPr>
          <a:xfrm>
            <a:off x="3060720" y="3333600"/>
            <a:ext cx="3022560" cy="1055880"/>
            <a:chOff x="3060720" y="3333600"/>
            <a:chExt cx="3022560" cy="1055880"/>
          </a:xfrm>
        </p:grpSpPr>
        <p:pic>
          <p:nvPicPr>
            <p:cNvPr id="221" name="Овал 13" descr=""/>
            <p:cNvPicPr/>
            <p:nvPr/>
          </p:nvPicPr>
          <p:blipFill>
            <a:blip r:embed="rId3"/>
            <a:stretch/>
          </p:blipFill>
          <p:spPr>
            <a:xfrm>
              <a:off x="3060720" y="3333600"/>
              <a:ext cx="302256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54280" y="3511440"/>
              <a:ext cx="20354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кочующ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Овал 14"/>
          <p:cNvGrpSpPr/>
          <p:nvPr/>
        </p:nvGrpSpPr>
        <p:grpSpPr>
          <a:xfrm>
            <a:off x="6168960" y="3243240"/>
            <a:ext cx="3030480" cy="1054080"/>
            <a:chOff x="6168960" y="3243240"/>
            <a:chExt cx="3030480" cy="1054080"/>
          </a:xfrm>
        </p:grpSpPr>
        <p:pic>
          <p:nvPicPr>
            <p:cNvPr id="224" name="Овал 14" descr=""/>
            <p:cNvPicPr/>
            <p:nvPr/>
          </p:nvPicPr>
          <p:blipFill>
            <a:blip r:embed="rId4"/>
            <a:stretch/>
          </p:blipFill>
          <p:spPr>
            <a:xfrm>
              <a:off x="616896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6657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перелет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6" name="Прямая со стрелкой 10"/>
          <p:cNvCxnSpPr/>
          <p:nvPr/>
        </p:nvCxnSpPr>
        <p:spPr>
          <a:xfrm flipH="1">
            <a:off x="53928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7" name="Прямая со стрелкой 12"/>
          <p:cNvCxnSpPr/>
          <p:nvPr/>
        </p:nvCxnSpPr>
        <p:spPr>
          <a:xfrm>
            <a:off x="1618920" y="4290840"/>
            <a:ext cx="108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8" name="Прямая со стрелкой 17"/>
          <p:cNvCxnSpPr/>
          <p:nvPr/>
        </p:nvCxnSpPr>
        <p:spPr>
          <a:xfrm>
            <a:off x="226836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9" name="Прямая со стрелкой 19"/>
          <p:cNvCxnSpPr/>
          <p:nvPr/>
        </p:nvCxnSpPr>
        <p:spPr>
          <a:xfrm flipH="1">
            <a:off x="3924000" y="4471560"/>
            <a:ext cx="72000" cy="39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Прямая со стрелкой 21"/>
          <p:cNvCxnSpPr/>
          <p:nvPr/>
        </p:nvCxnSpPr>
        <p:spPr>
          <a:xfrm>
            <a:off x="4712760" y="4236840"/>
            <a:ext cx="1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Прямая со стрелкой 23"/>
          <p:cNvCxnSpPr/>
          <p:nvPr/>
        </p:nvCxnSpPr>
        <p:spPr>
          <a:xfrm>
            <a:off x="5364000" y="4471920"/>
            <a:ext cx="14544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Прямая со стрелкой 26"/>
          <p:cNvCxnSpPr/>
          <p:nvPr/>
        </p:nvCxnSpPr>
        <p:spPr>
          <a:xfrm flipH="1">
            <a:off x="6624360" y="4290840"/>
            <a:ext cx="108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Прямая со стрелкой 28"/>
          <p:cNvCxnSpPr/>
          <p:nvPr/>
        </p:nvCxnSpPr>
        <p:spPr>
          <a:xfrm>
            <a:off x="7524360" y="4290480"/>
            <a:ext cx="1080" cy="9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Прямая со стрелкой 30"/>
          <p:cNvCxnSpPr/>
          <p:nvPr/>
        </p:nvCxnSpPr>
        <p:spPr>
          <a:xfrm>
            <a:off x="8388000" y="4290480"/>
            <a:ext cx="144720" cy="345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5" name="TextBox 50176"/>
          <p:cNvSpPr/>
          <p:nvPr/>
        </p:nvSpPr>
        <p:spPr>
          <a:xfrm>
            <a:off x="71640" y="4662360"/>
            <a:ext cx="106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0177"/>
          <p:cNvSpPr/>
          <p:nvPr/>
        </p:nvSpPr>
        <p:spPr>
          <a:xfrm>
            <a:off x="1076760" y="4708440"/>
            <a:ext cx="10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з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луб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0178"/>
          <p:cNvSpPr/>
          <p:nvPr/>
        </p:nvSpPr>
        <p:spPr>
          <a:xfrm>
            <a:off x="2038320" y="4662360"/>
            <a:ext cx="16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одск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2"/>
          <p:cNvSpPr/>
          <p:nvPr/>
        </p:nvSpPr>
        <p:spPr>
          <a:xfrm>
            <a:off x="3496320" y="495936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3"/>
          <p:cNvSpPr/>
          <p:nvPr/>
        </p:nvSpPr>
        <p:spPr>
          <a:xfrm>
            <a:off x="4284000" y="5262480"/>
            <a:ext cx="110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р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4"/>
          <p:cNvSpPr/>
          <p:nvPr/>
        </p:nvSpPr>
        <p:spPr>
          <a:xfrm>
            <a:off x="5055120" y="4797360"/>
            <a:ext cx="11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5"/>
          <p:cNvSpPr/>
          <p:nvPr/>
        </p:nvSpPr>
        <p:spPr>
          <a:xfrm>
            <a:off x="6136200" y="4751280"/>
            <a:ext cx="112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6"/>
          <p:cNvSpPr/>
          <p:nvPr/>
        </p:nvSpPr>
        <p:spPr>
          <a:xfrm>
            <a:off x="7147440" y="526248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асточ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7"/>
          <p:cNvSpPr/>
          <p:nvPr/>
        </p:nvSpPr>
        <p:spPr>
          <a:xfrm>
            <a:off x="8065440" y="4708440"/>
            <a:ext cx="106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вол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9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3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7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Тест как инструмент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50920" y="1628640"/>
          <a:ext cx="8642160" cy="493740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изучении нового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закреплении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этапе домашнего 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4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предлагается выбрать правильное утверждение и доказать правоту своего вы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предварительно работают с текстом учебника, затем предлагается тестовое задание с последующей дискуссией по те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необходимо самостоятельно составить тест, с использованием изученных терминов и понят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гадай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Требования к составлению кроссвор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Схема 1" descr=""/>
          <p:cNvPicPr/>
          <p:nvPr/>
        </p:nvPicPr>
        <p:blipFill>
          <a:blip r:embed="rId2"/>
          <a:stretch/>
        </p:blipFill>
        <p:spPr>
          <a:xfrm>
            <a:off x="1219320" y="2273400"/>
            <a:ext cx="74246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Прием работы с кроссвордами – составление вопросов к решенному кроссворду</a:t>
            </a:r>
            <a:br>
              <a:rPr sz="2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"/>
              </a:rPr>
              <a:t>Возможные вопрос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летки с толстыми оболочками, которые образуют длинные трубки, находящиеся в древесин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лотный, самый широкий слой, находящийся под кор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 узких длинных клеток с тонкими оболочками, за счёт которых происходит рост стебля в толщ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Маленькие бугор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отверстиями, находящие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обке, через котор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дит газообме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, входящий в соста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ы, состоящий из ситовидных трубок и толстостенных волоко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2"/>
          <a:srcRect l="410" t="0" r="2159" b="0"/>
          <a:stretch/>
        </p:blipFill>
        <p:spPr>
          <a:xfrm>
            <a:off x="4395960" y="3933720"/>
            <a:ext cx="4730400" cy="2552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5"/>
          <p:cNvSpPr/>
          <p:nvPr/>
        </p:nvSpPr>
        <p:spPr>
          <a:xfrm>
            <a:off x="5292720" y="39337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4395960" y="459756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4856040" y="537372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5292720" y="56815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138560" y="499428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-1440" y="1612800"/>
            <a:ext cx="4228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6" presetSubtype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649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Чудо – дерево». На обратной стороне листьев задания или занимательные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1122480" y="3984480"/>
            <a:ext cx="503280" cy="194472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Капля 3"/>
          <p:cNvSpPr/>
          <p:nvPr/>
        </p:nvSpPr>
        <p:spPr>
          <a:xfrm rot="11685600">
            <a:off x="1793880" y="31608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Капля 5"/>
          <p:cNvSpPr/>
          <p:nvPr/>
        </p:nvSpPr>
        <p:spPr>
          <a:xfrm rot="11685600">
            <a:off x="1936800" y="4278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Капля 6"/>
          <p:cNvSpPr/>
          <p:nvPr/>
        </p:nvSpPr>
        <p:spPr>
          <a:xfrm rot="5400000">
            <a:off x="109440" y="3070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Капля 7"/>
          <p:cNvSpPr/>
          <p:nvPr/>
        </p:nvSpPr>
        <p:spPr>
          <a:xfrm rot="8087400">
            <a:off x="931680" y="2487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Капля 8"/>
          <p:cNvSpPr/>
          <p:nvPr/>
        </p:nvSpPr>
        <p:spPr>
          <a:xfrm rot="4810200">
            <a:off x="37800" y="41562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Капля 9"/>
          <p:cNvSpPr/>
          <p:nvPr/>
        </p:nvSpPr>
        <p:spPr>
          <a:xfrm rot="12182400">
            <a:off x="4263840" y="2141280"/>
            <a:ext cx="4452840" cy="4113000"/>
          </a:xfrm>
          <a:custGeom>
            <a:avLst/>
            <a:gdLst/>
            <a:ahLst/>
            <a:rect l="l" t="t" r="r" b="b"/>
            <a:pathLst>
              <a:path w="4452938" h="4113212">
                <a:moveTo>
                  <a:pt x="0" y="2056606"/>
                </a:moveTo>
                <a:cubicBezTo>
                  <a:pt x="0" y="920774"/>
                  <a:pt x="996824" y="0"/>
                  <a:pt x="2226469" y="0"/>
                </a:cubicBezTo>
                <a:cubicBezTo>
                  <a:pt x="3591836" y="0"/>
                  <a:pt x="4957204" y="-575665"/>
                  <a:pt x="6322571" y="-1726994"/>
                </a:cubicBezTo>
                <a:cubicBezTo>
                  <a:pt x="5076149" y="-465794"/>
                  <a:pt x="4452938" y="795406"/>
                  <a:pt x="4452938" y="2056606"/>
                </a:cubicBezTo>
                <a:cubicBezTo>
                  <a:pt x="4452938" y="3192438"/>
                  <a:pt x="3456114" y="4113212"/>
                  <a:pt x="2226469" y="4113212"/>
                </a:cubicBezTo>
                <a:cubicBezTo>
                  <a:pt x="996824" y="4113212"/>
                  <a:pt x="0" y="3192438"/>
                  <a:pt x="0" y="20566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4452840" y="343044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ъясните выражение: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Человека без осанки не быва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0" y="6122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8 класс. Обобщающий урок по теме «Опорно-двигательная систем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укцион «Кто больш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 – нет, дай отв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ини – викторина). Это репродуктивный метод. Задаются вопросы на утверждения по диагонали, по периметру, через одного, зигза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ереводч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ыбор учеников термины на карточках, прикрепленные к магнитной доске. Дать определени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тий ли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2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8000" y="141300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Times New Roman"/>
              </a:rPr>
              <a:t> (Прием моделирования, прием схематиза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).Изучение внутреннего строения. Из набора карточек выбрать карточки с названиями органов пищеварения (кровеносной, нервной) системы и разложить в нужной последова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92160" y="3344760"/>
            <a:ext cx="814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7 класс. Дождевой червь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 органов пищеварительной системы дождевого черв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101520" y="4114800"/>
            <a:ext cx="78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т, пищевод, кишка, «сердца», анальное отверстие, глотка, зоб, желудок, дыхаль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2"/>
          <a:stretch/>
        </p:blipFill>
        <p:spPr>
          <a:xfrm>
            <a:off x="-7920" y="4883040"/>
            <a:ext cx="6030720" cy="106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3"/>
          <a:stretch/>
        </p:blipFill>
        <p:spPr>
          <a:xfrm>
            <a:off x="4199040" y="5230800"/>
            <a:ext cx="4867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052640"/>
            <a:ext cx="9198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Чьи детки на этой ветке?»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(Прием натурализ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ается набор побегов, цветков, листьев, плодов. Задание: собрать все одного вида (семейства) (6 класс Семейства цветковых растений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3" descr=""/>
          <p:cNvPicPr/>
          <p:nvPr/>
        </p:nvPicPr>
        <p:blipFill>
          <a:blip r:embed="rId2"/>
          <a:stretch/>
        </p:blipFill>
        <p:spPr>
          <a:xfrm>
            <a:off x="527040" y="2590920"/>
            <a:ext cx="1473120" cy="12398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"/>
          <p:cNvPicPr/>
          <p:nvPr/>
        </p:nvPicPr>
        <p:blipFill>
          <a:blip r:embed="rId3"/>
          <a:stretch/>
        </p:blipFill>
        <p:spPr>
          <a:xfrm>
            <a:off x="73080" y="3790800"/>
            <a:ext cx="2481120" cy="30607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5" descr=""/>
          <p:cNvPicPr/>
          <p:nvPr/>
        </p:nvPicPr>
        <p:blipFill>
          <a:blip r:embed="rId4"/>
          <a:stretch/>
        </p:blipFill>
        <p:spPr>
          <a:xfrm>
            <a:off x="6108840" y="2205000"/>
            <a:ext cx="2827080" cy="212076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" descr=""/>
          <p:cNvPicPr/>
          <p:nvPr/>
        </p:nvPicPr>
        <p:blipFill>
          <a:blip r:embed="rId5"/>
          <a:stretch/>
        </p:blipFill>
        <p:spPr>
          <a:xfrm>
            <a:off x="6532560" y="4591080"/>
            <a:ext cx="1981080" cy="1962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"/>
          <p:cNvPicPr/>
          <p:nvPr/>
        </p:nvPicPr>
        <p:blipFill>
          <a:blip r:embed="rId6"/>
          <a:stretch/>
        </p:blipFill>
        <p:spPr>
          <a:xfrm>
            <a:off x="2752560" y="4206960"/>
            <a:ext cx="3160800" cy="236988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9" descr=""/>
          <p:cNvPicPr/>
          <p:nvPr/>
        </p:nvPicPr>
        <p:blipFill>
          <a:blip r:embed="rId7"/>
          <a:stretch/>
        </p:blipFill>
        <p:spPr>
          <a:xfrm>
            <a:off x="2846520" y="2389320"/>
            <a:ext cx="2639880" cy="1639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"/>
          <p:cNvPicPr/>
          <p:nvPr/>
        </p:nvPicPr>
        <p:blipFill>
          <a:blip r:embed="rId8"/>
          <a:stretch/>
        </p:blipFill>
        <p:spPr>
          <a:xfrm>
            <a:off x="2389320" y="1484280"/>
            <a:ext cx="3524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0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804 L 0.00087 0.33063 E">
                                      <p:cBhvr>
                                        <p:cTn id="89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04920" y="914400"/>
            <a:ext cx="830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8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2004840"/>
          <a:ext cx="8229600" cy="4646880"/>
        </p:xfrm>
        <a:graphic>
          <a:graphicData uri="http://schemas.openxmlformats.org/drawingml/2006/table">
            <a:tbl>
              <a:tblPr/>
              <a:tblGrid>
                <a:gridCol w="360360"/>
                <a:gridCol w="444240"/>
                <a:gridCol w="500040"/>
                <a:gridCol w="403560"/>
                <a:gridCol w="363240"/>
                <a:gridCol w="476280"/>
                <a:gridCol w="403200"/>
                <a:gridCol w="480960"/>
                <a:gridCol w="455760"/>
                <a:gridCol w="442800"/>
                <a:gridCol w="536760"/>
                <a:gridCol w="419040"/>
                <a:gridCol w="466920"/>
                <a:gridCol w="448920"/>
                <a:gridCol w="403560"/>
                <a:gridCol w="384120"/>
                <a:gridCol w="419040"/>
                <a:gridCol w="438120"/>
                <a:gridCol w="382680"/>
              </a:tblGrid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8"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ВЫ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КОПАЕМ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1106640" y="34128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Активизация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57200" y="19051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обучающей деятельности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257800" y="1676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952880" y="1905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деятельности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28600" y="42670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ые методические приёмы организации учебно-познавательной деятель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929120" y="44290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организация, самоконтроль,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H="1" flipV="1">
            <a:off x="6248520" y="2786040"/>
            <a:ext cx="46080" cy="157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H="1">
            <a:off x="2437920" y="990720"/>
            <a:ext cx="17528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4495680" y="990720"/>
            <a:ext cx="1676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12952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 flipV="1">
            <a:off x="121932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304920" y="914400"/>
            <a:ext cx="83055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ини сказку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имвол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елай опыт или наблюдение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На следующем уроке ученики демонстрируют и объясняют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5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304920" y="914400"/>
            <a:ext cx="8305560" cy="56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 вопросы одноклассни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чем различие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Что н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будет если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Верно ли, чт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ему вы думаете, что...      Когд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ясните почему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Какой... Гд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умай над вопрос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эвристиче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8 класс. Урок «Работа мышц» Почему появляется болезненное состояние мышц после их работы без предварительной трениров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58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10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0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10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800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зух К.Е. Активизация деятельности учащихся при обучении биологии // Биология в школе. – М.: 2007, - №2. – с.44-50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зоев С.С. Активизация познавательного интереса учащихся. // Биология в школе. – М., 2007, - №6. – с.35-3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амаридина Т.В. Формируем учебно-познавательную компетентность учащихся //Директор школы. – М., 2007 - №4. –  С. 57 - 62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83664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http://mou99.mybb.ru/uploads/000a/5a/3f/2687-4-f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3"/>
              </a:rPr>
              <a:t>http://www.die-stadtredaktion.de/wp-content/uploads/2013/02/vhs-Presse_Familienprogramm-kindermikroskop_Fotolia-Klein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4"/>
              </a:rPr>
              <a:t>http://franuk.com/images/stories/news/2011/02/ekz290508_0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5"/>
              </a:rPr>
              <a:t>http://i029.radikal.ru/1109/ 1a/08ff2c9ad2c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6"/>
              </a:rPr>
              <a:t>http://900igr.net/datai/okruzhajuschij-mir/Dvizhenie-zhivotnykh/0004-003-Dvizhenie-prostejshikh.p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7"/>
              </a:rPr>
              <a:t>http://www.makuha.ru/world/Bio/img/ani-001-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8"/>
              </a:rPr>
              <a:t>http://oldboy.icnet.ru/SITE_2103/MY_SITE/My_rast/Rubus_caesius/BIG/Rubus_caesius_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9"/>
              </a:rPr>
              <a:t>http://quran-m.com/pp/data/559/486px-Folla_Roseira_004eue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fotoregion.ru/data/media/2/100_239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http://biologymoscow.ucoz.ru/illustracii/botanika/vyshie/razn/111poperechniyi_Srez_Drevesnogo_Steblya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0560" y="1052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adovos.ru/wp-content/uploads/2012/06/cvetok-tomata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44.radikal.ru/i104/1107/fb/7d8647e2b3d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img-fotki.yandex.ru/get/4522/51176788.6c/0_686bf_e4b28b2f_X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.svitmam.ua/photo/0/0/327/32726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board.agrobiznes.com.ua/photos/2011/08/4479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hulinar.ru/wp-content/uploads/2011/11/abr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artgide.com/uploads/posts/ref/b9976ca8a4931aab6857df40995a680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mushrooms-online.ru/img/Boletus_pinicola_90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61.radikal.ru/i173/1205/a5/35c6b2729908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cindysworld.net/froghorse.gi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chool.xvatit.com/images/0/01/20.07-6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3571920" y="357120"/>
            <a:ext cx="266688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42920" y="642960"/>
            <a:ext cx="3124080" cy="137376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итивные эмоциональные реа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019240" y="2514600"/>
            <a:ext cx="579276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Познавательный интерес уче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62120" y="5105520"/>
            <a:ext cx="2514600" cy="9471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просы учит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357880" y="5072040"/>
            <a:ext cx="3429000" cy="13737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ение дополнитель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1676520" y="1981080"/>
            <a:ext cx="807840" cy="4572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487692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4952880" y="914400"/>
            <a:ext cx="0" cy="1523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 flipH="1">
            <a:off x="6248520" y="1523880"/>
            <a:ext cx="1371600" cy="9144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2"/>
          <p:cNvSpPr/>
          <p:nvPr/>
        </p:nvSpPr>
        <p:spPr>
          <a:xfrm flipV="1">
            <a:off x="2063880" y="3860640"/>
            <a:ext cx="1212840" cy="1244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3"/>
          <p:cNvSpPr/>
          <p:nvPr/>
        </p:nvSpPr>
        <p:spPr>
          <a:xfrm flipH="1" flipV="1">
            <a:off x="5940360" y="3860640"/>
            <a:ext cx="1146240" cy="109224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357960" y="928800"/>
            <a:ext cx="251460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Уровни развития 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познавательного интереса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Равнобедренный треугольник 3"/>
          <p:cNvGrpSpPr/>
          <p:nvPr/>
        </p:nvGrpSpPr>
        <p:grpSpPr>
          <a:xfrm>
            <a:off x="523800" y="1755720"/>
            <a:ext cx="3633840" cy="4353120"/>
            <a:chOff x="523800" y="1755720"/>
            <a:chExt cx="3633840" cy="4353120"/>
          </a:xfrm>
        </p:grpSpPr>
        <p:pic>
          <p:nvPicPr>
            <p:cNvPr id="119" name="Равнобедренный треугольник 3" descr=""/>
            <p:cNvPicPr/>
            <p:nvPr/>
          </p:nvPicPr>
          <p:blipFill>
            <a:blip r:embed="rId2"/>
            <a:stretch/>
          </p:blipFill>
          <p:spPr>
            <a:xfrm>
              <a:off x="523800" y="1755720"/>
              <a:ext cx="363384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4"/>
            <p:cNvSpPr/>
            <p:nvPr/>
          </p:nvSpPr>
          <p:spPr>
            <a:xfrm>
              <a:off x="1400040" y="3933720"/>
              <a:ext cx="180036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2" descr=""/>
          <p:cNvPicPr/>
          <p:nvPr/>
        </p:nvPicPr>
        <p:blipFill>
          <a:blip r:embed="rId3"/>
          <a:stretch/>
        </p:blipFill>
        <p:spPr>
          <a:xfrm>
            <a:off x="2268360" y="4906800"/>
            <a:ext cx="6212160" cy="121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2268360" y="3645000"/>
            <a:ext cx="6181920" cy="1212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5"/>
          <a:stretch/>
        </p:blipFill>
        <p:spPr>
          <a:xfrm>
            <a:off x="2274840" y="2349360"/>
            <a:ext cx="61819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Arial"/>
              </a:rPr>
              <a:t>Пути развития познавательного интер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Прямоугольник 1"/>
          <p:cNvGrpSpPr/>
          <p:nvPr/>
        </p:nvGrpSpPr>
        <p:grpSpPr>
          <a:xfrm>
            <a:off x="237960" y="1689120"/>
            <a:ext cx="3376800" cy="1541520"/>
            <a:chOff x="237960" y="1689120"/>
            <a:chExt cx="3376800" cy="1541520"/>
          </a:xfrm>
        </p:grpSpPr>
        <p:pic>
          <p:nvPicPr>
            <p:cNvPr id="126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37960" y="168912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50920" y="1700280"/>
              <a:ext cx="33494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содержание биологических зна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Прямоугольник 4"/>
          <p:cNvGrpSpPr/>
          <p:nvPr/>
        </p:nvGrpSpPr>
        <p:grpSpPr>
          <a:xfrm>
            <a:off x="2828880" y="3340080"/>
            <a:ext cx="3376800" cy="1542960"/>
            <a:chOff x="2828880" y="3340080"/>
            <a:chExt cx="3376800" cy="1542960"/>
          </a:xfrm>
        </p:grpSpPr>
        <p:pic>
          <p:nvPicPr>
            <p:cNvPr id="129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828880" y="3340080"/>
              <a:ext cx="33768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843280" y="3357720"/>
              <a:ext cx="33494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деятельность учеников на уроке, во внеурочной и внеклассной рабо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Прямоугольник 5"/>
          <p:cNvGrpSpPr/>
          <p:nvPr/>
        </p:nvGrpSpPr>
        <p:grpSpPr>
          <a:xfrm>
            <a:off x="5657760" y="1616040"/>
            <a:ext cx="3376800" cy="1541520"/>
            <a:chOff x="5657760" y="1616040"/>
            <a:chExt cx="3376800" cy="1541520"/>
          </a:xfrm>
        </p:grpSpPr>
        <p:pic>
          <p:nvPicPr>
            <p:cNvPr id="132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657760" y="161604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70720" y="1628640"/>
              <a:ext cx="33494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отношения учитель-ученик и ученик-учен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5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1798560" cy="203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7" descr=""/>
          <p:cNvPicPr/>
          <p:nvPr/>
        </p:nvPicPr>
        <p:blipFill>
          <a:blip r:embed="rId6"/>
          <a:stretch/>
        </p:blipFill>
        <p:spPr>
          <a:xfrm>
            <a:off x="3025800" y="4902120"/>
            <a:ext cx="2852640" cy="190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Picture 8" descr=""/>
          <p:cNvPicPr/>
          <p:nvPr/>
        </p:nvPicPr>
        <p:blipFill>
          <a:blip r:embed="rId7"/>
          <a:stretch/>
        </p:blipFill>
        <p:spPr>
          <a:xfrm>
            <a:off x="6516720" y="3392640"/>
            <a:ext cx="2263680" cy="169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380880" y="1143000"/>
            <a:ext cx="83822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Методический прием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ое действие учителя или ученика, входящее в состав мет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Oval 13"/>
          <p:cNvGrpSpPr/>
          <p:nvPr/>
        </p:nvGrpSpPr>
        <p:grpSpPr>
          <a:xfrm>
            <a:off x="6114960" y="1255680"/>
            <a:ext cx="3071880" cy="2077920"/>
            <a:chOff x="6114960" y="1255680"/>
            <a:chExt cx="3071880" cy="2077920"/>
          </a:xfrm>
        </p:grpSpPr>
        <p:pic>
          <p:nvPicPr>
            <p:cNvPr id="139" name="Oval 13" descr=""/>
            <p:cNvPicPr/>
            <p:nvPr/>
          </p:nvPicPr>
          <p:blipFill>
            <a:blip r:embed="rId2"/>
            <a:stretch/>
          </p:blipFill>
          <p:spPr>
            <a:xfrm>
              <a:off x="6114960" y="1255680"/>
              <a:ext cx="3071880" cy="20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3"/>
            <p:cNvSpPr/>
            <p:nvPr/>
          </p:nvSpPr>
          <p:spPr>
            <a:xfrm>
              <a:off x="6546960" y="1542960"/>
              <a:ext cx="1885680" cy="11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Oval 4"/>
          <p:cNvGrpSpPr/>
          <p:nvPr/>
        </p:nvGrpSpPr>
        <p:grpSpPr>
          <a:xfrm>
            <a:off x="2359080" y="219240"/>
            <a:ext cx="4181400" cy="1542960"/>
            <a:chOff x="2359080" y="219240"/>
            <a:chExt cx="4181400" cy="1542960"/>
          </a:xfrm>
        </p:grpSpPr>
        <p:pic>
          <p:nvPicPr>
            <p:cNvPr id="142" name="Oval 4" descr=""/>
            <p:cNvPicPr/>
            <p:nvPr/>
          </p:nvPicPr>
          <p:blipFill>
            <a:blip r:embed="rId3"/>
            <a:stretch/>
          </p:blipFill>
          <p:spPr>
            <a:xfrm>
              <a:off x="2359080" y="219240"/>
              <a:ext cx="41814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2952720" y="426960"/>
              <a:ext cx="26668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"/>
          <p:cNvSpPr/>
          <p:nvPr/>
        </p:nvSpPr>
        <p:spPr>
          <a:xfrm>
            <a:off x="3657600" y="838080"/>
            <a:ext cx="1752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048120" y="609480"/>
            <a:ext cx="304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монстрацион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Oval 7"/>
          <p:cNvGrpSpPr/>
          <p:nvPr/>
        </p:nvGrpSpPr>
        <p:grpSpPr>
          <a:xfrm>
            <a:off x="3005280" y="1785960"/>
            <a:ext cx="3151080" cy="3535200"/>
            <a:chOff x="3005280" y="1785960"/>
            <a:chExt cx="3151080" cy="3535200"/>
          </a:xfrm>
        </p:grpSpPr>
        <p:pic>
          <p:nvPicPr>
            <p:cNvPr id="147" name="Oval 7" descr=""/>
            <p:cNvPicPr/>
            <p:nvPr/>
          </p:nvPicPr>
          <p:blipFill>
            <a:blip r:embed="rId4"/>
            <a:stretch/>
          </p:blipFill>
          <p:spPr>
            <a:xfrm>
              <a:off x="3005280" y="1785960"/>
              <a:ext cx="3151080" cy="35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1"/>
            <p:cNvSpPr/>
            <p:nvPr/>
          </p:nvSpPr>
          <p:spPr>
            <a:xfrm>
              <a:off x="3449520" y="2286000"/>
              <a:ext cx="194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3352680" y="2286000"/>
            <a:ext cx="22989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Методические приемы, активизирующие восприятие содержания учебного материа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6053040" y="3498840"/>
            <a:ext cx="2998800" cy="1841400"/>
            <a:chOff x="6053040" y="3498840"/>
            <a:chExt cx="2998800" cy="184140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6053040" y="3498840"/>
              <a:ext cx="29988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5"/>
            <p:cNvSpPr/>
            <p:nvPr/>
          </p:nvSpPr>
          <p:spPr>
            <a:xfrm>
              <a:off x="6475320" y="3753000"/>
              <a:ext cx="1832040" cy="10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Text Box 10"/>
          <p:cNvGrpSpPr/>
          <p:nvPr/>
        </p:nvGrpSpPr>
        <p:grpSpPr>
          <a:xfrm>
            <a:off x="6381720" y="1847880"/>
            <a:ext cx="2347920" cy="987480"/>
            <a:chOff x="6381720" y="1847880"/>
            <a:chExt cx="2347920" cy="987480"/>
          </a:xfrm>
        </p:grpSpPr>
        <p:pic>
          <p:nvPicPr>
            <p:cNvPr id="154" name="Text Box 10" descr=""/>
            <p:cNvPicPr/>
            <p:nvPr/>
          </p:nvPicPr>
          <p:blipFill>
            <a:blip r:embed="rId6"/>
            <a:stretch/>
          </p:blipFill>
          <p:spPr>
            <a:xfrm>
              <a:off x="6381720" y="1847880"/>
              <a:ext cx="2347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8"/>
            <p:cNvSpPr/>
            <p:nvPr/>
          </p:nvSpPr>
          <p:spPr>
            <a:xfrm>
              <a:off x="6477120" y="191772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Логическ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Oval 11"/>
          <p:cNvGrpSpPr/>
          <p:nvPr/>
        </p:nvGrpSpPr>
        <p:grpSpPr>
          <a:xfrm>
            <a:off x="-6480" y="2090880"/>
            <a:ext cx="2998800" cy="1815840"/>
            <a:chOff x="-6480" y="2090880"/>
            <a:chExt cx="2998800" cy="1815840"/>
          </a:xfrm>
        </p:grpSpPr>
        <p:pic>
          <p:nvPicPr>
            <p:cNvPr id="157" name="Oval 11" descr=""/>
            <p:cNvPicPr/>
            <p:nvPr/>
          </p:nvPicPr>
          <p:blipFill>
            <a:blip r:embed="rId7"/>
            <a:stretch/>
          </p:blipFill>
          <p:spPr>
            <a:xfrm>
              <a:off x="-6480" y="2090880"/>
              <a:ext cx="2998800" cy="18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21"/>
            <p:cNvSpPr/>
            <p:nvPr/>
          </p:nvSpPr>
          <p:spPr>
            <a:xfrm>
              <a:off x="417600" y="2340000"/>
              <a:ext cx="18320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2"/>
          <p:cNvSpPr/>
          <p:nvPr/>
        </p:nvSpPr>
        <p:spPr>
          <a:xfrm>
            <a:off x="228600" y="25909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ругие при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6313320" y="1236600"/>
            <a:ext cx="228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389640" y="404496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раф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0" y="3429000"/>
            <a:ext cx="266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Новиз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228600" y="38862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емантиз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914400" y="44197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Динам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1447920" y="495288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оздания проблемной ситу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200400" y="5791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Значим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 flipH="1">
            <a:off x="2666520" y="2895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3"/>
          <p:cNvSpPr/>
          <p:nvPr/>
        </p:nvSpPr>
        <p:spPr>
          <a:xfrm flipV="1">
            <a:off x="432432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4"/>
          <p:cNvSpPr/>
          <p:nvPr/>
        </p:nvSpPr>
        <p:spPr>
          <a:xfrm flipV="1">
            <a:off x="5562720" y="21337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5867280" y="37339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12500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шай, не зевай!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Одновременно 3 ученика перед классом поднимают свою карточку, если вопрос - утверждение учителя кажется им правильны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 не звенит колокольчик или Оратор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Сообщение,  подготовленное учеником, звучит в течение 1 минуты. За одну минуту надо сказать много и интере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мне, я тебе.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Вопросы по домашнему зада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5:24:41Z</dcterms:created>
  <dc:creator>Valued Acer Customer</dc:creator>
  <dc:description/>
  <dc:language>en-US</dc:language>
  <cp:lastModifiedBy>Мама</cp:lastModifiedBy>
  <dcterms:modified xsi:type="dcterms:W3CDTF">2013-07-25T20:31:55Z</dcterms:modified>
  <cp:revision>85</cp:revision>
  <dc:subject/>
  <dc:title>Активизация познавательного интереса и эмоционального отношения учащихся к урокам биологии</dc:title>
</cp:coreProperties>
</file>